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CA91-E1C2-48F5-AF73-F5282B75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23F3-B151-4863-B8E8-5344CF31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3C8B-5611-46D3-ADA5-F0AEC2F5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CCCF-9C70-490F-A3F7-A68262E5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6BA0-1426-4325-9A1E-35CAF9394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DBB3-CE50-4753-A84A-46A6808F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0037-3AF4-4B1C-AE37-F40FC6B8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5993-CBBE-445A-A2D6-71C763C2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1A78-22B6-47E9-8E86-10AC8F57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66DC-5227-44EF-8A69-1C0CF226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697A-3BEF-4772-B64A-75DA6684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1FB8-73A2-403F-BEBA-B9F6E653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BBA2-EBFF-4C5A-8045-957A1581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8CA6-5078-4141-BF5B-9FAA3D82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2E9E-6B13-478E-B772-AE52E1D4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12E4-E0E6-419C-879C-FB277C3EF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5CF8-2962-4B4A-BDAE-77B23646D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3167-E70E-4967-92D1-E54DE4E9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A39B-31CD-447B-A167-1763E058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AE3A-BC11-4880-AE59-29C7748F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8B12-2ACF-4F41-8E18-BB87511D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114D-C7FA-4914-A3E8-B8D862A1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906E-6216-454C-86D8-065CBCFF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D520-5603-4228-BE15-62C83FB1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007e7b"/>
                  </a:gs>
                  <a:gs pos="100000">
                    <a:srgbClr val="007a7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7370"/>
                  </a:gs>
                  <a:gs pos="50000">
                    <a:srgbClr val="007e7b"/>
                  </a:gs>
                  <a:gs pos="100000">
                    <a:srgbClr val="00737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7D67-5888-4A63-9D1D-D12B88B0D6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007e7b"/>
                  </a:gs>
                  <a:gs pos="100000">
                    <a:srgbClr val="007a7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7370"/>
                  </a:gs>
                  <a:gs pos="50000">
                    <a:srgbClr val="007e7b"/>
                  </a:gs>
                  <a:gs pos="100000">
                    <a:srgbClr val="00737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4012-31E7-42E4-AFAE-E615DE38A0E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Go over Friday’s homework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(pg 418 #3,5,9,21,23)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5" name="Ink 3"/>
          <p:cNvSpPr/>
          <p:nvPr/>
        </p:nvSpPr>
        <p:spPr>
          <a:xfrm>
            <a:off x="830160" y="2455920"/>
            <a:ext cx="125640" cy="231840"/>
          </a:xfrm>
          <a:custGeom>
            <a:avLst/>
            <a:gdLst/>
            <a:ahLst/>
            <a:rect l="l" t="t" r="r" b="b"/>
            <a:pathLst>
              <a:path w="348" h="646">
                <a:moveTo>
                  <a:pt x="2332" y="6896"/>
                </a:moveTo>
                <a:cubicBezTo>
                  <a:pt x="2402" y="6887"/>
                  <a:pt x="2463" y="6857"/>
                  <a:pt x="2530" y="6846"/>
                </a:cubicBezTo>
                <a:cubicBezTo>
                  <a:pt x="2575" y="6846"/>
                  <a:pt x="2588" y="6850"/>
                  <a:pt x="2604" y="6821"/>
                </a:cubicBezTo>
              </a:path>
              <a:path w="348" h="646">
                <a:moveTo>
                  <a:pt x="2356" y="6945"/>
                </a:moveTo>
                <a:cubicBezTo>
                  <a:pt x="2356" y="7011"/>
                  <a:pt x="2356" y="7078"/>
                  <a:pt x="2356" y="7144"/>
                </a:cubicBezTo>
                <a:cubicBezTo>
                  <a:pt x="2394" y="7106"/>
                  <a:pt x="2444" y="7025"/>
                  <a:pt x="2505" y="7045"/>
                </a:cubicBezTo>
                <a:cubicBezTo>
                  <a:pt x="2567" y="7065"/>
                  <a:pt x="2651" y="7189"/>
                  <a:pt x="2654" y="7243"/>
                </a:cubicBezTo>
                <a:cubicBezTo>
                  <a:pt x="2658" y="7313"/>
                  <a:pt x="2626" y="7346"/>
                  <a:pt x="2580" y="7392"/>
                </a:cubicBezTo>
                <a:cubicBezTo>
                  <a:pt x="2535" y="7438"/>
                  <a:pt x="2521" y="7462"/>
                  <a:pt x="2456" y="7466"/>
                </a:cubicBezTo>
                <a:cubicBezTo>
                  <a:pt x="2400" y="7469"/>
                  <a:pt x="2362" y="7388"/>
                  <a:pt x="2332" y="7392"/>
                </a:cubicBezTo>
                <a:cubicBezTo>
                  <a:pt x="2324" y="7400"/>
                  <a:pt x="2315" y="7409"/>
                  <a:pt x="2307" y="74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Ink 4"/>
          <p:cNvSpPr/>
          <p:nvPr/>
        </p:nvSpPr>
        <p:spPr>
          <a:xfrm>
            <a:off x="758880" y="2982960"/>
            <a:ext cx="635040" cy="598320"/>
          </a:xfrm>
          <a:custGeom>
            <a:avLst/>
            <a:gdLst/>
            <a:ahLst/>
            <a:rect l="l" t="t" r="r" b="b"/>
            <a:pathLst>
              <a:path w="1763" h="1663">
                <a:moveTo>
                  <a:pt x="2356" y="8285"/>
                </a:moveTo>
                <a:cubicBezTo>
                  <a:pt x="2327" y="8335"/>
                  <a:pt x="2317" y="8379"/>
                  <a:pt x="2282" y="8434"/>
                </a:cubicBezTo>
                <a:cubicBezTo>
                  <a:pt x="2239" y="8501"/>
                  <a:pt x="2212" y="8557"/>
                  <a:pt x="2208" y="8632"/>
                </a:cubicBezTo>
                <a:cubicBezTo>
                  <a:pt x="2204" y="8703"/>
                  <a:pt x="2235" y="8734"/>
                  <a:pt x="2282" y="8781"/>
                </a:cubicBezTo>
                <a:cubicBezTo>
                  <a:pt x="2335" y="8834"/>
                  <a:pt x="2356" y="8830"/>
                  <a:pt x="2431" y="8830"/>
                </a:cubicBezTo>
                <a:cubicBezTo>
                  <a:pt x="2480" y="8830"/>
                  <a:pt x="2569" y="8772"/>
                  <a:pt x="2604" y="8731"/>
                </a:cubicBezTo>
                <a:cubicBezTo>
                  <a:pt x="2635" y="8695"/>
                  <a:pt x="2671" y="8620"/>
                  <a:pt x="2679" y="8582"/>
                </a:cubicBezTo>
                <a:cubicBezTo>
                  <a:pt x="2692" y="8519"/>
                  <a:pt x="2643" y="8453"/>
                  <a:pt x="2604" y="8409"/>
                </a:cubicBezTo>
                <a:cubicBezTo>
                  <a:pt x="2556" y="8354"/>
                  <a:pt x="2507" y="8297"/>
                  <a:pt x="2431" y="8285"/>
                </a:cubicBezTo>
                <a:cubicBezTo>
                  <a:pt x="2370" y="8275"/>
                  <a:pt x="2329" y="8276"/>
                  <a:pt x="2307" y="8310"/>
                </a:cubicBezTo>
              </a:path>
              <a:path w="1763" h="1663">
                <a:moveTo>
                  <a:pt x="2108" y="8558"/>
                </a:moveTo>
                <a:cubicBezTo>
                  <a:pt x="2185" y="8547"/>
                  <a:pt x="2245" y="8533"/>
                  <a:pt x="2332" y="8533"/>
                </a:cubicBezTo>
                <a:cubicBezTo>
                  <a:pt x="2426" y="8533"/>
                  <a:pt x="2509" y="8508"/>
                  <a:pt x="2604" y="8508"/>
                </a:cubicBezTo>
                <a:cubicBezTo>
                  <a:pt x="2634" y="8508"/>
                  <a:pt x="2753" y="8565"/>
                  <a:pt x="2778" y="8533"/>
                </a:cubicBezTo>
                <a:cubicBezTo>
                  <a:pt x="2778" y="8516"/>
                  <a:pt x="2778" y="8500"/>
                  <a:pt x="2778" y="8483"/>
                </a:cubicBezTo>
              </a:path>
              <a:path w="1763" h="1663">
                <a:moveTo>
                  <a:pt x="3572" y="9277"/>
                </a:moveTo>
                <a:cubicBezTo>
                  <a:pt x="3572" y="9349"/>
                  <a:pt x="3552" y="9386"/>
                  <a:pt x="3547" y="9451"/>
                </a:cubicBezTo>
                <a:cubicBezTo>
                  <a:pt x="3547" y="9459"/>
                  <a:pt x="3547" y="9467"/>
                  <a:pt x="3547" y="9475"/>
                </a:cubicBezTo>
                <a:cubicBezTo>
                  <a:pt x="3653" y="9475"/>
                  <a:pt x="3647" y="9517"/>
                  <a:pt x="3746" y="9525"/>
                </a:cubicBezTo>
                <a:cubicBezTo>
                  <a:pt x="3819" y="9525"/>
                  <a:pt x="3843" y="9526"/>
                  <a:pt x="3870" y="9475"/>
                </a:cubicBezTo>
              </a:path>
              <a:path w="1763" h="1663">
                <a:moveTo>
                  <a:pt x="3870" y="9227"/>
                </a:moveTo>
                <a:cubicBezTo>
                  <a:pt x="3861" y="9304"/>
                  <a:pt x="3845" y="9372"/>
                  <a:pt x="3845" y="9451"/>
                </a:cubicBezTo>
                <a:cubicBezTo>
                  <a:pt x="3845" y="9501"/>
                  <a:pt x="3867" y="9947"/>
                  <a:pt x="3820" y="9947"/>
                </a:cubicBezTo>
                <a:cubicBezTo>
                  <a:pt x="3820" y="9939"/>
                  <a:pt x="3820" y="9930"/>
                  <a:pt x="3820" y="99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Ink 5"/>
          <p:cNvSpPr/>
          <p:nvPr/>
        </p:nvSpPr>
        <p:spPr>
          <a:xfrm>
            <a:off x="615960" y="4670280"/>
            <a:ext cx="1795320" cy="1312920"/>
          </a:xfrm>
          <a:custGeom>
            <a:avLst/>
            <a:gdLst/>
            <a:ahLst/>
            <a:rect l="l" t="t" r="r" b="b"/>
            <a:pathLst>
              <a:path w="4986" h="3647">
                <a:moveTo>
                  <a:pt x="2009" y="13841"/>
                </a:moveTo>
                <a:cubicBezTo>
                  <a:pt x="2017" y="13833"/>
                  <a:pt x="2026" y="13824"/>
                  <a:pt x="2034" y="13816"/>
                </a:cubicBezTo>
                <a:cubicBezTo>
                  <a:pt x="2054" y="13876"/>
                  <a:pt x="2040" y="13947"/>
                  <a:pt x="2009" y="14015"/>
                </a:cubicBezTo>
                <a:cubicBezTo>
                  <a:pt x="1966" y="14111"/>
                  <a:pt x="1897" y="14194"/>
                  <a:pt x="1910" y="14312"/>
                </a:cubicBezTo>
                <a:cubicBezTo>
                  <a:pt x="1920" y="14404"/>
                  <a:pt x="1953" y="14448"/>
                  <a:pt x="2009" y="14511"/>
                </a:cubicBezTo>
                <a:cubicBezTo>
                  <a:pt x="2084" y="14595"/>
                  <a:pt x="2126" y="14654"/>
                  <a:pt x="2257" y="14635"/>
                </a:cubicBezTo>
                <a:cubicBezTo>
                  <a:pt x="2344" y="14622"/>
                  <a:pt x="2387" y="14608"/>
                  <a:pt x="2431" y="14536"/>
                </a:cubicBezTo>
                <a:cubicBezTo>
                  <a:pt x="2484" y="14448"/>
                  <a:pt x="2444" y="14424"/>
                  <a:pt x="2381" y="14362"/>
                </a:cubicBezTo>
                <a:cubicBezTo>
                  <a:pt x="2341" y="14322"/>
                  <a:pt x="2295" y="14326"/>
                  <a:pt x="2257" y="14362"/>
                </a:cubicBezTo>
                <a:cubicBezTo>
                  <a:pt x="2196" y="14420"/>
                  <a:pt x="2138" y="14455"/>
                  <a:pt x="2133" y="14536"/>
                </a:cubicBezTo>
                <a:cubicBezTo>
                  <a:pt x="2131" y="14577"/>
                  <a:pt x="2133" y="14619"/>
                  <a:pt x="2133" y="14660"/>
                </a:cubicBezTo>
              </a:path>
              <a:path w="4986" h="3647">
                <a:moveTo>
                  <a:pt x="1712" y="14709"/>
                </a:moveTo>
                <a:cubicBezTo>
                  <a:pt x="1818" y="14728"/>
                  <a:pt x="1927" y="14746"/>
                  <a:pt x="2034" y="14759"/>
                </a:cubicBezTo>
                <a:cubicBezTo>
                  <a:pt x="2123" y="14770"/>
                  <a:pt x="2219" y="14780"/>
                  <a:pt x="2307" y="14784"/>
                </a:cubicBezTo>
                <a:cubicBezTo>
                  <a:pt x="2385" y="14787"/>
                  <a:pt x="2434" y="14773"/>
                  <a:pt x="2505" y="14759"/>
                </a:cubicBezTo>
              </a:path>
              <a:path w="4986" h="3647">
                <a:moveTo>
                  <a:pt x="1935" y="15131"/>
                </a:moveTo>
                <a:cubicBezTo>
                  <a:pt x="1894" y="15211"/>
                  <a:pt x="1869" y="15248"/>
                  <a:pt x="1910" y="15329"/>
                </a:cubicBezTo>
                <a:cubicBezTo>
                  <a:pt x="1939" y="15386"/>
                  <a:pt x="1989" y="15445"/>
                  <a:pt x="2059" y="15453"/>
                </a:cubicBezTo>
                <a:cubicBezTo>
                  <a:pt x="2158" y="15453"/>
                  <a:pt x="2174" y="15453"/>
                  <a:pt x="2232" y="15453"/>
                </a:cubicBezTo>
              </a:path>
              <a:path w="4986" h="3647">
                <a:moveTo>
                  <a:pt x="2307" y="15081"/>
                </a:moveTo>
                <a:cubicBezTo>
                  <a:pt x="2276" y="15189"/>
                  <a:pt x="2244" y="15297"/>
                  <a:pt x="2232" y="15404"/>
                </a:cubicBezTo>
                <a:cubicBezTo>
                  <a:pt x="2217" y="15536"/>
                  <a:pt x="2208" y="15667"/>
                  <a:pt x="2208" y="15801"/>
                </a:cubicBezTo>
                <a:cubicBezTo>
                  <a:pt x="2208" y="15835"/>
                  <a:pt x="2186" y="16148"/>
                  <a:pt x="2232" y="16148"/>
                </a:cubicBezTo>
                <a:cubicBezTo>
                  <a:pt x="2232" y="16140"/>
                  <a:pt x="2232" y="16131"/>
                  <a:pt x="2232" y="16123"/>
                </a:cubicBezTo>
              </a:path>
              <a:path w="4986" h="3647">
                <a:moveTo>
                  <a:pt x="2853" y="14908"/>
                </a:moveTo>
                <a:cubicBezTo>
                  <a:pt x="2818" y="14942"/>
                  <a:pt x="2759" y="14975"/>
                  <a:pt x="2778" y="15032"/>
                </a:cubicBezTo>
                <a:cubicBezTo>
                  <a:pt x="2796" y="15085"/>
                  <a:pt x="2826" y="15070"/>
                  <a:pt x="2853" y="15056"/>
                </a:cubicBezTo>
                <a:cubicBezTo>
                  <a:pt x="2870" y="15012"/>
                  <a:pt x="2867" y="14949"/>
                  <a:pt x="2853" y="14982"/>
                </a:cubicBezTo>
                <a:cubicBezTo>
                  <a:pt x="2845" y="14990"/>
                  <a:pt x="2836" y="14999"/>
                  <a:pt x="2828" y="15007"/>
                </a:cubicBezTo>
              </a:path>
              <a:path w="4986" h="3647">
                <a:moveTo>
                  <a:pt x="3473" y="13841"/>
                </a:moveTo>
                <a:cubicBezTo>
                  <a:pt x="3503" y="13903"/>
                  <a:pt x="3497" y="13966"/>
                  <a:pt x="3497" y="14039"/>
                </a:cubicBezTo>
                <a:cubicBezTo>
                  <a:pt x="3497" y="14115"/>
                  <a:pt x="3473" y="14183"/>
                  <a:pt x="3473" y="14263"/>
                </a:cubicBezTo>
                <a:cubicBezTo>
                  <a:pt x="3473" y="14387"/>
                  <a:pt x="3473" y="14511"/>
                  <a:pt x="3473" y="14635"/>
                </a:cubicBezTo>
              </a:path>
              <a:path w="4986" h="3647">
                <a:moveTo>
                  <a:pt x="3795" y="13965"/>
                </a:moveTo>
                <a:cubicBezTo>
                  <a:pt x="3786" y="14034"/>
                  <a:pt x="3774" y="14099"/>
                  <a:pt x="3746" y="14163"/>
                </a:cubicBezTo>
                <a:cubicBezTo>
                  <a:pt x="3705" y="14255"/>
                  <a:pt x="3732" y="14292"/>
                  <a:pt x="3746" y="14387"/>
                </a:cubicBezTo>
                <a:cubicBezTo>
                  <a:pt x="3753" y="14436"/>
                  <a:pt x="3779" y="14522"/>
                  <a:pt x="3820" y="14560"/>
                </a:cubicBezTo>
                <a:cubicBezTo>
                  <a:pt x="3858" y="14595"/>
                  <a:pt x="3984" y="14647"/>
                  <a:pt x="4018" y="14585"/>
                </a:cubicBezTo>
                <a:cubicBezTo>
                  <a:pt x="4049" y="14529"/>
                  <a:pt x="4074" y="14394"/>
                  <a:pt x="3969" y="14412"/>
                </a:cubicBezTo>
                <a:cubicBezTo>
                  <a:pt x="3898" y="14424"/>
                  <a:pt x="3836" y="14524"/>
                  <a:pt x="3820" y="14585"/>
                </a:cubicBezTo>
                <a:cubicBezTo>
                  <a:pt x="3820" y="14630"/>
                  <a:pt x="3823" y="14643"/>
                  <a:pt x="3795" y="14660"/>
                </a:cubicBezTo>
              </a:path>
              <a:path w="4986" h="3647">
                <a:moveTo>
                  <a:pt x="3324" y="14684"/>
                </a:moveTo>
                <a:cubicBezTo>
                  <a:pt x="3365" y="14705"/>
                  <a:pt x="3469" y="14752"/>
                  <a:pt x="3522" y="14759"/>
                </a:cubicBezTo>
                <a:cubicBezTo>
                  <a:pt x="3627" y="14772"/>
                  <a:pt x="3742" y="14763"/>
                  <a:pt x="3845" y="14784"/>
                </a:cubicBezTo>
                <a:cubicBezTo>
                  <a:pt x="3934" y="14802"/>
                  <a:pt x="4000" y="14808"/>
                  <a:pt x="4093" y="14808"/>
                </a:cubicBezTo>
                <a:cubicBezTo>
                  <a:pt x="4137" y="14808"/>
                  <a:pt x="4150" y="14811"/>
                  <a:pt x="4167" y="14784"/>
                </a:cubicBezTo>
              </a:path>
              <a:path w="4986" h="3647">
                <a:moveTo>
                  <a:pt x="3547" y="15056"/>
                </a:moveTo>
                <a:cubicBezTo>
                  <a:pt x="3624" y="15082"/>
                  <a:pt x="3688" y="15081"/>
                  <a:pt x="3770" y="15081"/>
                </a:cubicBezTo>
                <a:cubicBezTo>
                  <a:pt x="3845" y="15081"/>
                  <a:pt x="3919" y="15081"/>
                  <a:pt x="3994" y="15081"/>
                </a:cubicBezTo>
                <a:cubicBezTo>
                  <a:pt x="3994" y="15155"/>
                  <a:pt x="3978" y="15213"/>
                  <a:pt x="3969" y="15280"/>
                </a:cubicBezTo>
                <a:cubicBezTo>
                  <a:pt x="3957" y="15369"/>
                  <a:pt x="3947" y="15464"/>
                  <a:pt x="3944" y="15553"/>
                </a:cubicBezTo>
                <a:cubicBezTo>
                  <a:pt x="3939" y="15678"/>
                  <a:pt x="3923" y="15800"/>
                  <a:pt x="3919" y="15925"/>
                </a:cubicBezTo>
                <a:cubicBezTo>
                  <a:pt x="3918" y="15953"/>
                  <a:pt x="3918" y="16135"/>
                  <a:pt x="3944" y="16148"/>
                </a:cubicBezTo>
                <a:cubicBezTo>
                  <a:pt x="3974" y="16118"/>
                  <a:pt x="3985" y="16104"/>
                  <a:pt x="3994" y="16073"/>
                </a:cubicBezTo>
              </a:path>
              <a:path w="4986" h="3647">
                <a:moveTo>
                  <a:pt x="4589" y="14908"/>
                </a:moveTo>
                <a:cubicBezTo>
                  <a:pt x="4706" y="14894"/>
                  <a:pt x="4798" y="14883"/>
                  <a:pt x="4911" y="14883"/>
                </a:cubicBezTo>
              </a:path>
              <a:path w="4986" h="3647">
                <a:moveTo>
                  <a:pt x="4589" y="15156"/>
                </a:moveTo>
                <a:cubicBezTo>
                  <a:pt x="4701" y="15224"/>
                  <a:pt x="4760" y="15280"/>
                  <a:pt x="4887" y="15280"/>
                </a:cubicBezTo>
                <a:cubicBezTo>
                  <a:pt x="4903" y="15280"/>
                  <a:pt x="4920" y="15280"/>
                  <a:pt x="4936" y="15280"/>
                </a:cubicBezTo>
              </a:path>
              <a:path w="4986" h="3647">
                <a:moveTo>
                  <a:pt x="2456" y="15180"/>
                </a:moveTo>
                <a:cubicBezTo>
                  <a:pt x="2430" y="15238"/>
                  <a:pt x="2406" y="15336"/>
                  <a:pt x="2356" y="15379"/>
                </a:cubicBezTo>
                <a:cubicBezTo>
                  <a:pt x="2316" y="15414"/>
                  <a:pt x="2271" y="15438"/>
                  <a:pt x="2232" y="15478"/>
                </a:cubicBezTo>
                <a:cubicBezTo>
                  <a:pt x="2174" y="15536"/>
                  <a:pt x="2133" y="15593"/>
                  <a:pt x="2084" y="15652"/>
                </a:cubicBezTo>
                <a:cubicBezTo>
                  <a:pt x="2037" y="15708"/>
                  <a:pt x="1997" y="15784"/>
                  <a:pt x="1960" y="15850"/>
                </a:cubicBezTo>
                <a:cubicBezTo>
                  <a:pt x="1928" y="15908"/>
                  <a:pt x="1910" y="15974"/>
                  <a:pt x="1885" y="16024"/>
                </a:cubicBezTo>
                <a:cubicBezTo>
                  <a:pt x="1885" y="16016"/>
                  <a:pt x="1885" y="16007"/>
                  <a:pt x="1885" y="15999"/>
                </a:cubicBezTo>
              </a:path>
              <a:path w="4986" h="3647">
                <a:moveTo>
                  <a:pt x="2679" y="15875"/>
                </a:moveTo>
                <a:cubicBezTo>
                  <a:pt x="2687" y="15953"/>
                  <a:pt x="2716" y="15997"/>
                  <a:pt x="2729" y="16073"/>
                </a:cubicBezTo>
                <a:cubicBezTo>
                  <a:pt x="2740" y="16137"/>
                  <a:pt x="2750" y="16208"/>
                  <a:pt x="2753" y="16272"/>
                </a:cubicBezTo>
                <a:cubicBezTo>
                  <a:pt x="2756" y="16338"/>
                  <a:pt x="2710" y="16580"/>
                  <a:pt x="2729" y="16619"/>
                </a:cubicBezTo>
                <a:cubicBezTo>
                  <a:pt x="2737" y="16611"/>
                  <a:pt x="2745" y="16602"/>
                  <a:pt x="2753" y="16594"/>
                </a:cubicBezTo>
              </a:path>
              <a:path w="4986" h="3647">
                <a:moveTo>
                  <a:pt x="4093" y="14139"/>
                </a:moveTo>
                <a:cubicBezTo>
                  <a:pt x="4055" y="14165"/>
                  <a:pt x="3969" y="14254"/>
                  <a:pt x="3919" y="14263"/>
                </a:cubicBezTo>
                <a:cubicBezTo>
                  <a:pt x="3826" y="14280"/>
                  <a:pt x="3751" y="14305"/>
                  <a:pt x="3671" y="14362"/>
                </a:cubicBezTo>
                <a:cubicBezTo>
                  <a:pt x="3603" y="14411"/>
                  <a:pt x="3547" y="14469"/>
                  <a:pt x="3473" y="14511"/>
                </a:cubicBezTo>
                <a:cubicBezTo>
                  <a:pt x="3405" y="14549"/>
                  <a:pt x="3363" y="14601"/>
                  <a:pt x="3299" y="14635"/>
                </a:cubicBezTo>
                <a:cubicBezTo>
                  <a:pt x="3248" y="14662"/>
                  <a:pt x="3288" y="14654"/>
                  <a:pt x="3299" y="14610"/>
                </a:cubicBezTo>
              </a:path>
              <a:path w="4986" h="3647">
                <a:moveTo>
                  <a:pt x="3175" y="13022"/>
                </a:moveTo>
                <a:cubicBezTo>
                  <a:pt x="3165" y="13089"/>
                  <a:pt x="3113" y="13128"/>
                  <a:pt x="3101" y="13196"/>
                </a:cubicBezTo>
                <a:cubicBezTo>
                  <a:pt x="3101" y="13258"/>
                  <a:pt x="3111" y="13273"/>
                  <a:pt x="3076" y="13295"/>
                </a:cubicBezTo>
                <a:cubicBezTo>
                  <a:pt x="3129" y="13349"/>
                  <a:pt x="3155" y="13352"/>
                  <a:pt x="3225" y="13370"/>
                </a:cubicBezTo>
                <a:cubicBezTo>
                  <a:pt x="3286" y="13386"/>
                  <a:pt x="3313" y="13395"/>
                  <a:pt x="3373" y="13395"/>
                </a:cubicBezTo>
              </a:path>
              <a:path w="4986" h="3647">
                <a:moveTo>
                  <a:pt x="3473" y="12973"/>
                </a:moveTo>
                <a:cubicBezTo>
                  <a:pt x="3473" y="13075"/>
                  <a:pt x="3452" y="13170"/>
                  <a:pt x="3448" y="13271"/>
                </a:cubicBezTo>
                <a:cubicBezTo>
                  <a:pt x="3444" y="13358"/>
                  <a:pt x="3433" y="13439"/>
                  <a:pt x="3423" y="13519"/>
                </a:cubicBezTo>
                <a:cubicBezTo>
                  <a:pt x="3410" y="13624"/>
                  <a:pt x="3405" y="13804"/>
                  <a:pt x="3448" y="13891"/>
                </a:cubicBezTo>
              </a:path>
              <a:path w="4986" h="3647">
                <a:moveTo>
                  <a:pt x="5755" y="13742"/>
                </a:moveTo>
                <a:cubicBezTo>
                  <a:pt x="5755" y="13758"/>
                  <a:pt x="5755" y="13775"/>
                  <a:pt x="5755" y="13791"/>
                </a:cubicBezTo>
                <a:cubicBezTo>
                  <a:pt x="5682" y="13829"/>
                  <a:pt x="5766" y="13697"/>
                  <a:pt x="5779" y="13692"/>
                </a:cubicBezTo>
                <a:cubicBezTo>
                  <a:pt x="5819" y="13676"/>
                  <a:pt x="5890" y="13729"/>
                  <a:pt x="5904" y="13767"/>
                </a:cubicBezTo>
                <a:cubicBezTo>
                  <a:pt x="5929" y="13836"/>
                  <a:pt x="5947" y="13965"/>
                  <a:pt x="5928" y="14039"/>
                </a:cubicBezTo>
                <a:cubicBezTo>
                  <a:pt x="5908" y="14118"/>
                  <a:pt x="5904" y="14211"/>
                  <a:pt x="5879" y="14288"/>
                </a:cubicBezTo>
                <a:cubicBezTo>
                  <a:pt x="5849" y="14381"/>
                  <a:pt x="5781" y="14401"/>
                  <a:pt x="5730" y="14461"/>
                </a:cubicBezTo>
                <a:cubicBezTo>
                  <a:pt x="5677" y="14523"/>
                  <a:pt x="5645" y="14580"/>
                  <a:pt x="5556" y="14610"/>
                </a:cubicBezTo>
                <a:cubicBezTo>
                  <a:pt x="5540" y="14610"/>
                  <a:pt x="5523" y="14610"/>
                  <a:pt x="5507" y="14610"/>
                </a:cubicBezTo>
                <a:cubicBezTo>
                  <a:pt x="5507" y="14547"/>
                  <a:pt x="5496" y="14499"/>
                  <a:pt x="5556" y="14461"/>
                </a:cubicBezTo>
                <a:cubicBezTo>
                  <a:pt x="5606" y="14429"/>
                  <a:pt x="5638" y="14404"/>
                  <a:pt x="5680" y="14362"/>
                </a:cubicBezTo>
                <a:cubicBezTo>
                  <a:pt x="5688" y="14354"/>
                  <a:pt x="5697" y="14345"/>
                  <a:pt x="5705" y="14337"/>
                </a:cubicBezTo>
                <a:cubicBezTo>
                  <a:pt x="5746" y="14378"/>
                  <a:pt x="5770" y="14416"/>
                  <a:pt x="5804" y="14461"/>
                </a:cubicBezTo>
                <a:cubicBezTo>
                  <a:pt x="5849" y="14520"/>
                  <a:pt x="5811" y="14628"/>
                  <a:pt x="5854" y="14684"/>
                </a:cubicBezTo>
                <a:cubicBezTo>
                  <a:pt x="5862" y="14684"/>
                  <a:pt x="5871" y="14684"/>
                  <a:pt x="5879" y="14684"/>
                </a:cubicBezTo>
              </a:path>
              <a:path w="4986" h="3647">
                <a:moveTo>
                  <a:pt x="6127" y="13940"/>
                </a:moveTo>
                <a:cubicBezTo>
                  <a:pt x="6148" y="13971"/>
                  <a:pt x="6127" y="13993"/>
                  <a:pt x="6127" y="14064"/>
                </a:cubicBezTo>
                <a:cubicBezTo>
                  <a:pt x="6127" y="14138"/>
                  <a:pt x="6125" y="14180"/>
                  <a:pt x="6176" y="14238"/>
                </a:cubicBezTo>
                <a:cubicBezTo>
                  <a:pt x="6212" y="14279"/>
                  <a:pt x="6236" y="14322"/>
                  <a:pt x="6276" y="14362"/>
                </a:cubicBezTo>
              </a:path>
              <a:path w="4986" h="3647">
                <a:moveTo>
                  <a:pt x="6474" y="13767"/>
                </a:moveTo>
                <a:cubicBezTo>
                  <a:pt x="6443" y="13848"/>
                  <a:pt x="6428" y="13926"/>
                  <a:pt x="6424" y="14015"/>
                </a:cubicBezTo>
                <a:cubicBezTo>
                  <a:pt x="6419" y="14133"/>
                  <a:pt x="6403" y="14244"/>
                  <a:pt x="6400" y="14362"/>
                </a:cubicBezTo>
                <a:cubicBezTo>
                  <a:pt x="6397" y="14457"/>
                  <a:pt x="6387" y="14555"/>
                  <a:pt x="6375" y="14635"/>
                </a:cubicBezTo>
                <a:cubicBezTo>
                  <a:pt x="6375" y="14660"/>
                  <a:pt x="6375" y="14684"/>
                  <a:pt x="6375" y="14709"/>
                </a:cubicBezTo>
              </a:path>
              <a:path w="4986" h="3647">
                <a:moveTo>
                  <a:pt x="6697" y="14808"/>
                </a:moveTo>
                <a:cubicBezTo>
                  <a:pt x="6647" y="14838"/>
                  <a:pt x="6587" y="14854"/>
                  <a:pt x="6524" y="14858"/>
                </a:cubicBezTo>
                <a:cubicBezTo>
                  <a:pt x="6258" y="14873"/>
                  <a:pt x="5995" y="14856"/>
                  <a:pt x="5730" y="14883"/>
                </a:cubicBezTo>
                <a:cubicBezTo>
                  <a:pt x="5671" y="14889"/>
                  <a:pt x="5601" y="14897"/>
                  <a:pt x="5556" y="14932"/>
                </a:cubicBezTo>
                <a:cubicBezTo>
                  <a:pt x="5508" y="14970"/>
                  <a:pt x="5485" y="14987"/>
                  <a:pt x="5507" y="15032"/>
                </a:cubicBezTo>
              </a:path>
              <a:path w="4986" h="3647">
                <a:moveTo>
                  <a:pt x="5879" y="15180"/>
                </a:moveTo>
                <a:cubicBezTo>
                  <a:pt x="5963" y="15139"/>
                  <a:pt x="6043" y="15109"/>
                  <a:pt x="6127" y="15081"/>
                </a:cubicBezTo>
                <a:cubicBezTo>
                  <a:pt x="6206" y="15054"/>
                  <a:pt x="6233" y="15045"/>
                  <a:pt x="6300" y="15106"/>
                </a:cubicBezTo>
                <a:cubicBezTo>
                  <a:pt x="6365" y="15166"/>
                  <a:pt x="6357" y="15155"/>
                  <a:pt x="6350" y="15230"/>
                </a:cubicBezTo>
                <a:cubicBezTo>
                  <a:pt x="6343" y="15308"/>
                  <a:pt x="6329" y="15378"/>
                  <a:pt x="6325" y="15453"/>
                </a:cubicBezTo>
                <a:cubicBezTo>
                  <a:pt x="6316" y="15609"/>
                  <a:pt x="6325" y="16166"/>
                  <a:pt x="6325" y="160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Ink 6"/>
          <p:cNvSpPr/>
          <p:nvPr/>
        </p:nvSpPr>
        <p:spPr>
          <a:xfrm>
            <a:off x="598320" y="3830760"/>
            <a:ext cx="7626600" cy="1295280"/>
          </a:xfrm>
          <a:custGeom>
            <a:avLst/>
            <a:gdLst/>
            <a:ahLst/>
            <a:rect l="l" t="t" r="r" b="b"/>
            <a:pathLst>
              <a:path w="21184" h="3598">
                <a:moveTo>
                  <a:pt x="1736" y="11162"/>
                </a:moveTo>
                <a:cubicBezTo>
                  <a:pt x="1831" y="11188"/>
                  <a:pt x="1909" y="11187"/>
                  <a:pt x="2009" y="11187"/>
                </a:cubicBezTo>
                <a:cubicBezTo>
                  <a:pt x="2051" y="11187"/>
                  <a:pt x="2067" y="11195"/>
                  <a:pt x="2059" y="11162"/>
                </a:cubicBezTo>
              </a:path>
              <a:path w="21184" h="3598">
                <a:moveTo>
                  <a:pt x="1712" y="11187"/>
                </a:moveTo>
                <a:cubicBezTo>
                  <a:pt x="1675" y="11249"/>
                  <a:pt x="1682" y="11292"/>
                  <a:pt x="1712" y="11361"/>
                </a:cubicBezTo>
                <a:cubicBezTo>
                  <a:pt x="1752" y="11452"/>
                  <a:pt x="1808" y="11389"/>
                  <a:pt x="1885" y="11385"/>
                </a:cubicBezTo>
                <a:cubicBezTo>
                  <a:pt x="1927" y="11383"/>
                  <a:pt x="2007" y="11403"/>
                  <a:pt x="2034" y="11435"/>
                </a:cubicBezTo>
                <a:cubicBezTo>
                  <a:pt x="2098" y="11511"/>
                  <a:pt x="2084" y="11567"/>
                  <a:pt x="2084" y="11658"/>
                </a:cubicBezTo>
                <a:cubicBezTo>
                  <a:pt x="2084" y="11755"/>
                  <a:pt x="2039" y="11767"/>
                  <a:pt x="1960" y="11807"/>
                </a:cubicBezTo>
                <a:cubicBezTo>
                  <a:pt x="1909" y="11833"/>
                  <a:pt x="1795" y="11855"/>
                  <a:pt x="1736" y="11832"/>
                </a:cubicBezTo>
                <a:cubicBezTo>
                  <a:pt x="1705" y="11820"/>
                  <a:pt x="1683" y="11759"/>
                  <a:pt x="1662" y="11733"/>
                </a:cubicBezTo>
              </a:path>
              <a:path w="21184" h="3598">
                <a:moveTo>
                  <a:pt x="1786" y="10914"/>
                </a:moveTo>
                <a:cubicBezTo>
                  <a:pt x="1824" y="10895"/>
                  <a:pt x="1873" y="10913"/>
                  <a:pt x="1910" y="10964"/>
                </a:cubicBezTo>
                <a:cubicBezTo>
                  <a:pt x="1965" y="11040"/>
                  <a:pt x="2034" y="11106"/>
                  <a:pt x="2084" y="11187"/>
                </a:cubicBezTo>
                <a:cubicBezTo>
                  <a:pt x="2155" y="11304"/>
                  <a:pt x="2228" y="11423"/>
                  <a:pt x="2257" y="11559"/>
                </a:cubicBezTo>
                <a:cubicBezTo>
                  <a:pt x="2272" y="11630"/>
                  <a:pt x="2273" y="11771"/>
                  <a:pt x="2232" y="11832"/>
                </a:cubicBezTo>
                <a:cubicBezTo>
                  <a:pt x="2185" y="11900"/>
                  <a:pt x="2132" y="11967"/>
                  <a:pt x="2059" y="12005"/>
                </a:cubicBezTo>
                <a:cubicBezTo>
                  <a:pt x="1985" y="12044"/>
                  <a:pt x="1985" y="12049"/>
                  <a:pt x="1910" y="12030"/>
                </a:cubicBezTo>
              </a:path>
              <a:path w="21184" h="3598">
                <a:moveTo>
                  <a:pt x="2729" y="11088"/>
                </a:moveTo>
                <a:cubicBezTo>
                  <a:pt x="2781" y="11069"/>
                  <a:pt x="2753" y="11145"/>
                  <a:pt x="2753" y="11212"/>
                </a:cubicBezTo>
                <a:cubicBezTo>
                  <a:pt x="2753" y="11327"/>
                  <a:pt x="2765" y="11425"/>
                  <a:pt x="2778" y="11534"/>
                </a:cubicBezTo>
                <a:cubicBezTo>
                  <a:pt x="2789" y="11627"/>
                  <a:pt x="2789" y="11719"/>
                  <a:pt x="2803" y="11807"/>
                </a:cubicBezTo>
                <a:cubicBezTo>
                  <a:pt x="2814" y="11874"/>
                  <a:pt x="2826" y="11968"/>
                  <a:pt x="2753" y="11931"/>
                </a:cubicBezTo>
              </a:path>
              <a:path w="21184" h="3598">
                <a:moveTo>
                  <a:pt x="2555" y="11485"/>
                </a:moveTo>
                <a:cubicBezTo>
                  <a:pt x="2609" y="11492"/>
                  <a:pt x="2658" y="11527"/>
                  <a:pt x="2704" y="11534"/>
                </a:cubicBezTo>
                <a:cubicBezTo>
                  <a:pt x="2792" y="11547"/>
                  <a:pt x="2889" y="11542"/>
                  <a:pt x="2977" y="11559"/>
                </a:cubicBezTo>
                <a:cubicBezTo>
                  <a:pt x="3070" y="11577"/>
                  <a:pt x="3153" y="11584"/>
                  <a:pt x="3249" y="11584"/>
                </a:cubicBezTo>
                <a:cubicBezTo>
                  <a:pt x="3195" y="11640"/>
                  <a:pt x="3148" y="11698"/>
                  <a:pt x="3101" y="11757"/>
                </a:cubicBezTo>
                <a:cubicBezTo>
                  <a:pt x="3070" y="11796"/>
                  <a:pt x="3045" y="11921"/>
                  <a:pt x="3101" y="11956"/>
                </a:cubicBezTo>
                <a:cubicBezTo>
                  <a:pt x="3179" y="12004"/>
                  <a:pt x="3220" y="11985"/>
                  <a:pt x="3274" y="11931"/>
                </a:cubicBezTo>
                <a:cubicBezTo>
                  <a:pt x="3317" y="11888"/>
                  <a:pt x="3363" y="11818"/>
                  <a:pt x="3373" y="11757"/>
                </a:cubicBezTo>
                <a:cubicBezTo>
                  <a:pt x="3377" y="11729"/>
                  <a:pt x="3336" y="11554"/>
                  <a:pt x="3349" y="11633"/>
                </a:cubicBezTo>
                <a:cubicBezTo>
                  <a:pt x="3362" y="11708"/>
                  <a:pt x="3406" y="11768"/>
                  <a:pt x="3423" y="11832"/>
                </a:cubicBezTo>
                <a:cubicBezTo>
                  <a:pt x="3441" y="11898"/>
                  <a:pt x="3468" y="12010"/>
                  <a:pt x="3572" y="12005"/>
                </a:cubicBezTo>
                <a:cubicBezTo>
                  <a:pt x="3612" y="11985"/>
                  <a:pt x="3628" y="11987"/>
                  <a:pt x="3621" y="11956"/>
                </a:cubicBezTo>
              </a:path>
              <a:path w="21184" h="3598">
                <a:moveTo>
                  <a:pt x="3646" y="11683"/>
                </a:moveTo>
                <a:cubicBezTo>
                  <a:pt x="3646" y="11782"/>
                  <a:pt x="3629" y="11898"/>
                  <a:pt x="3671" y="11981"/>
                </a:cubicBezTo>
                <a:cubicBezTo>
                  <a:pt x="3671" y="11899"/>
                  <a:pt x="3683" y="11825"/>
                  <a:pt x="3696" y="11757"/>
                </a:cubicBezTo>
                <a:cubicBezTo>
                  <a:pt x="3710" y="11683"/>
                  <a:pt x="3743" y="11617"/>
                  <a:pt x="3795" y="11559"/>
                </a:cubicBezTo>
                <a:cubicBezTo>
                  <a:pt x="3844" y="11504"/>
                  <a:pt x="3918" y="11549"/>
                  <a:pt x="3969" y="11584"/>
                </a:cubicBezTo>
                <a:cubicBezTo>
                  <a:pt x="4026" y="11623"/>
                  <a:pt x="4017" y="11675"/>
                  <a:pt x="4043" y="11733"/>
                </a:cubicBezTo>
                <a:cubicBezTo>
                  <a:pt x="4077" y="11809"/>
                  <a:pt x="4075" y="11877"/>
                  <a:pt x="4093" y="11956"/>
                </a:cubicBezTo>
                <a:cubicBezTo>
                  <a:pt x="4112" y="12013"/>
                  <a:pt x="4103" y="12038"/>
                  <a:pt x="4142" y="12030"/>
                </a:cubicBezTo>
              </a:path>
              <a:path w="21184" h="3598">
                <a:moveTo>
                  <a:pt x="4366" y="11311"/>
                </a:moveTo>
                <a:cubicBezTo>
                  <a:pt x="4405" y="11230"/>
                  <a:pt x="4431" y="11178"/>
                  <a:pt x="4539" y="11212"/>
                </a:cubicBezTo>
                <a:cubicBezTo>
                  <a:pt x="4601" y="11231"/>
                  <a:pt x="4611" y="11362"/>
                  <a:pt x="4614" y="11410"/>
                </a:cubicBezTo>
                <a:cubicBezTo>
                  <a:pt x="4617" y="11474"/>
                  <a:pt x="4590" y="11551"/>
                  <a:pt x="4564" y="11609"/>
                </a:cubicBezTo>
                <a:cubicBezTo>
                  <a:pt x="4531" y="11683"/>
                  <a:pt x="4466" y="11771"/>
                  <a:pt x="4415" y="11832"/>
                </a:cubicBezTo>
                <a:cubicBezTo>
                  <a:pt x="4377" y="11877"/>
                  <a:pt x="4342" y="11942"/>
                  <a:pt x="4366" y="12005"/>
                </a:cubicBezTo>
                <a:cubicBezTo>
                  <a:pt x="4389" y="12068"/>
                  <a:pt x="4514" y="12068"/>
                  <a:pt x="4564" y="12055"/>
                </a:cubicBezTo>
                <a:cubicBezTo>
                  <a:pt x="4620" y="12040"/>
                  <a:pt x="4683" y="12000"/>
                  <a:pt x="4738" y="11981"/>
                </a:cubicBezTo>
              </a:path>
              <a:path w="21184" h="3598">
                <a:moveTo>
                  <a:pt x="5035" y="11286"/>
                </a:moveTo>
                <a:cubicBezTo>
                  <a:pt x="5028" y="11373"/>
                  <a:pt x="4997" y="11453"/>
                  <a:pt x="4986" y="11534"/>
                </a:cubicBezTo>
                <a:cubicBezTo>
                  <a:pt x="4970" y="11655"/>
                  <a:pt x="4965" y="11846"/>
                  <a:pt x="5011" y="11956"/>
                </a:cubicBezTo>
                <a:cubicBezTo>
                  <a:pt x="5034" y="12011"/>
                  <a:pt x="5081" y="12056"/>
                  <a:pt x="5135" y="12080"/>
                </a:cubicBezTo>
                <a:cubicBezTo>
                  <a:pt x="5229" y="12123"/>
                  <a:pt x="5275" y="12119"/>
                  <a:pt x="5333" y="12055"/>
                </a:cubicBezTo>
                <a:cubicBezTo>
                  <a:pt x="5387" y="11996"/>
                  <a:pt x="5399" y="11956"/>
                  <a:pt x="5432" y="11881"/>
                </a:cubicBezTo>
                <a:cubicBezTo>
                  <a:pt x="5464" y="11806"/>
                  <a:pt x="5457" y="11740"/>
                  <a:pt x="5457" y="11658"/>
                </a:cubicBezTo>
                <a:cubicBezTo>
                  <a:pt x="5457" y="11587"/>
                  <a:pt x="5421" y="11495"/>
                  <a:pt x="5383" y="11435"/>
                </a:cubicBezTo>
                <a:cubicBezTo>
                  <a:pt x="5325" y="11344"/>
                  <a:pt x="5306" y="11321"/>
                  <a:pt x="5209" y="11261"/>
                </a:cubicBezTo>
              </a:path>
              <a:path w="21184" h="3598">
                <a:moveTo>
                  <a:pt x="4837" y="11509"/>
                </a:moveTo>
                <a:cubicBezTo>
                  <a:pt x="4914" y="11558"/>
                  <a:pt x="4976" y="11603"/>
                  <a:pt x="5060" y="11633"/>
                </a:cubicBezTo>
                <a:cubicBezTo>
                  <a:pt x="5182" y="11677"/>
                  <a:pt x="5354" y="11673"/>
                  <a:pt x="5482" y="11683"/>
                </a:cubicBezTo>
                <a:cubicBezTo>
                  <a:pt x="5577" y="11690"/>
                  <a:pt x="5667" y="11684"/>
                  <a:pt x="5755" y="11658"/>
                </a:cubicBezTo>
              </a:path>
              <a:path w="21184" h="3598">
                <a:moveTo>
                  <a:pt x="6152" y="11509"/>
                </a:moveTo>
                <a:cubicBezTo>
                  <a:pt x="6235" y="11479"/>
                  <a:pt x="6310" y="11485"/>
                  <a:pt x="6400" y="11485"/>
                </a:cubicBezTo>
              </a:path>
              <a:path w="21184" h="3598">
                <a:moveTo>
                  <a:pt x="6226" y="11757"/>
                </a:moveTo>
                <a:cubicBezTo>
                  <a:pt x="6284" y="11757"/>
                  <a:pt x="6342" y="11757"/>
                  <a:pt x="6400" y="11757"/>
                </a:cubicBezTo>
              </a:path>
              <a:path w="21184" h="3598">
                <a:moveTo>
                  <a:pt x="7218" y="11286"/>
                </a:moveTo>
                <a:cubicBezTo>
                  <a:pt x="7226" y="11221"/>
                  <a:pt x="7239" y="11166"/>
                  <a:pt x="7268" y="11112"/>
                </a:cubicBezTo>
                <a:cubicBezTo>
                  <a:pt x="7291" y="11069"/>
                  <a:pt x="7323" y="11016"/>
                  <a:pt x="7367" y="10988"/>
                </a:cubicBezTo>
                <a:cubicBezTo>
                  <a:pt x="7452" y="10935"/>
                  <a:pt x="7481" y="10978"/>
                  <a:pt x="7541" y="11038"/>
                </a:cubicBezTo>
                <a:cubicBezTo>
                  <a:pt x="7595" y="11093"/>
                  <a:pt x="7590" y="11140"/>
                  <a:pt x="7590" y="11212"/>
                </a:cubicBezTo>
                <a:cubicBezTo>
                  <a:pt x="7590" y="11293"/>
                  <a:pt x="7577" y="11360"/>
                  <a:pt x="7565" y="11435"/>
                </a:cubicBezTo>
                <a:cubicBezTo>
                  <a:pt x="7547" y="11550"/>
                  <a:pt x="7487" y="11603"/>
                  <a:pt x="7441" y="11708"/>
                </a:cubicBezTo>
                <a:cubicBezTo>
                  <a:pt x="7405" y="11790"/>
                  <a:pt x="7372" y="11860"/>
                  <a:pt x="7293" y="11906"/>
                </a:cubicBezTo>
                <a:cubicBezTo>
                  <a:pt x="7232" y="11942"/>
                  <a:pt x="7182" y="11906"/>
                  <a:pt x="7193" y="11832"/>
                </a:cubicBezTo>
                <a:cubicBezTo>
                  <a:pt x="7201" y="11776"/>
                  <a:pt x="7234" y="11675"/>
                  <a:pt x="7268" y="11633"/>
                </a:cubicBezTo>
                <a:cubicBezTo>
                  <a:pt x="7304" y="11589"/>
                  <a:pt x="7386" y="11563"/>
                  <a:pt x="7441" y="11584"/>
                </a:cubicBezTo>
                <a:cubicBezTo>
                  <a:pt x="7493" y="11604"/>
                  <a:pt x="7538" y="11691"/>
                  <a:pt x="7565" y="11733"/>
                </a:cubicBezTo>
                <a:cubicBezTo>
                  <a:pt x="7616" y="11813"/>
                  <a:pt x="7604" y="11878"/>
                  <a:pt x="7640" y="11956"/>
                </a:cubicBezTo>
                <a:cubicBezTo>
                  <a:pt x="7656" y="11991"/>
                  <a:pt x="7687" y="12017"/>
                  <a:pt x="7714" y="12030"/>
                </a:cubicBezTo>
              </a:path>
              <a:path w="21184" h="3598">
                <a:moveTo>
                  <a:pt x="8161" y="11038"/>
                </a:moveTo>
                <a:cubicBezTo>
                  <a:pt x="8194" y="11093"/>
                  <a:pt x="8186" y="11144"/>
                  <a:pt x="8186" y="11212"/>
                </a:cubicBezTo>
                <a:cubicBezTo>
                  <a:pt x="8186" y="11365"/>
                  <a:pt x="8187" y="11513"/>
                  <a:pt x="8210" y="11658"/>
                </a:cubicBezTo>
                <a:cubicBezTo>
                  <a:pt x="8222" y="11730"/>
                  <a:pt x="8222" y="11851"/>
                  <a:pt x="8285" y="11906"/>
                </a:cubicBezTo>
                <a:cubicBezTo>
                  <a:pt x="8293" y="11906"/>
                  <a:pt x="8302" y="11906"/>
                  <a:pt x="8310" y="11906"/>
                </a:cubicBezTo>
              </a:path>
              <a:path w="21184" h="3598">
                <a:moveTo>
                  <a:pt x="8037" y="11534"/>
                </a:moveTo>
                <a:cubicBezTo>
                  <a:pt x="8162" y="11541"/>
                  <a:pt x="8256" y="11559"/>
                  <a:pt x="8384" y="11559"/>
                </a:cubicBezTo>
              </a:path>
              <a:path w="21184" h="3598">
                <a:moveTo>
                  <a:pt x="8582" y="11559"/>
                </a:moveTo>
                <a:cubicBezTo>
                  <a:pt x="8590" y="11590"/>
                  <a:pt x="8547" y="11652"/>
                  <a:pt x="8508" y="11708"/>
                </a:cubicBezTo>
                <a:cubicBezTo>
                  <a:pt x="8474" y="11757"/>
                  <a:pt x="8468" y="11808"/>
                  <a:pt x="8508" y="11857"/>
                </a:cubicBezTo>
                <a:cubicBezTo>
                  <a:pt x="8533" y="11881"/>
                  <a:pt x="8542" y="11889"/>
                  <a:pt x="8558" y="11906"/>
                </a:cubicBezTo>
                <a:cubicBezTo>
                  <a:pt x="8601" y="11890"/>
                  <a:pt x="8689" y="11843"/>
                  <a:pt x="8706" y="11782"/>
                </a:cubicBezTo>
                <a:cubicBezTo>
                  <a:pt x="8711" y="11763"/>
                  <a:pt x="8706" y="11546"/>
                  <a:pt x="8706" y="11683"/>
                </a:cubicBezTo>
                <a:cubicBezTo>
                  <a:pt x="8706" y="11768"/>
                  <a:pt x="8748" y="11885"/>
                  <a:pt x="8781" y="11956"/>
                </a:cubicBezTo>
                <a:cubicBezTo>
                  <a:pt x="8807" y="12011"/>
                  <a:pt x="8846" y="11994"/>
                  <a:pt x="8880" y="11981"/>
                </a:cubicBezTo>
              </a:path>
              <a:path w="21184" h="3598">
                <a:moveTo>
                  <a:pt x="8930" y="11633"/>
                </a:moveTo>
                <a:cubicBezTo>
                  <a:pt x="8930" y="11722"/>
                  <a:pt x="8944" y="11796"/>
                  <a:pt x="8954" y="11881"/>
                </a:cubicBezTo>
                <a:cubicBezTo>
                  <a:pt x="8954" y="11906"/>
                  <a:pt x="8954" y="11931"/>
                  <a:pt x="8954" y="11956"/>
                </a:cubicBezTo>
                <a:cubicBezTo>
                  <a:pt x="8954" y="11877"/>
                  <a:pt x="8976" y="11810"/>
                  <a:pt x="8979" y="11733"/>
                </a:cubicBezTo>
                <a:cubicBezTo>
                  <a:pt x="8983" y="11647"/>
                  <a:pt x="8976" y="11660"/>
                  <a:pt x="9029" y="11609"/>
                </a:cubicBezTo>
                <a:cubicBezTo>
                  <a:pt x="9097" y="11657"/>
                  <a:pt x="9112" y="11709"/>
                  <a:pt x="9153" y="11782"/>
                </a:cubicBezTo>
                <a:cubicBezTo>
                  <a:pt x="9190" y="11847"/>
                  <a:pt x="9224" y="11903"/>
                  <a:pt x="9277" y="11956"/>
                </a:cubicBezTo>
                <a:cubicBezTo>
                  <a:pt x="9285" y="11964"/>
                  <a:pt x="9294" y="11973"/>
                  <a:pt x="9302" y="11981"/>
                </a:cubicBezTo>
              </a:path>
              <a:path w="21184" h="3598">
                <a:moveTo>
                  <a:pt x="9327" y="11633"/>
                </a:moveTo>
                <a:cubicBezTo>
                  <a:pt x="9371" y="11701"/>
                  <a:pt x="9392" y="11747"/>
                  <a:pt x="9451" y="11807"/>
                </a:cubicBezTo>
                <a:cubicBezTo>
                  <a:pt x="9513" y="11870"/>
                  <a:pt x="9550" y="11952"/>
                  <a:pt x="9624" y="12005"/>
                </a:cubicBezTo>
                <a:cubicBezTo>
                  <a:pt x="9673" y="12040"/>
                  <a:pt x="9717" y="12048"/>
                  <a:pt x="9773" y="12055"/>
                </a:cubicBezTo>
              </a:path>
              <a:path w="21184" h="3598">
                <a:moveTo>
                  <a:pt x="9798" y="11609"/>
                </a:moveTo>
                <a:cubicBezTo>
                  <a:pt x="9610" y="11622"/>
                  <a:pt x="9523" y="11733"/>
                  <a:pt x="9426" y="11906"/>
                </a:cubicBezTo>
                <a:cubicBezTo>
                  <a:pt x="9403" y="11974"/>
                  <a:pt x="9402" y="11995"/>
                  <a:pt x="9351" y="12005"/>
                </a:cubicBezTo>
              </a:path>
              <a:path w="21184" h="3598">
                <a:moveTo>
                  <a:pt x="7094" y="12129"/>
                </a:moveTo>
                <a:cubicBezTo>
                  <a:pt x="7175" y="12119"/>
                  <a:pt x="7213" y="12126"/>
                  <a:pt x="7293" y="12129"/>
                </a:cubicBezTo>
                <a:cubicBezTo>
                  <a:pt x="7383" y="12133"/>
                  <a:pt x="7454" y="12151"/>
                  <a:pt x="7541" y="12154"/>
                </a:cubicBezTo>
                <a:cubicBezTo>
                  <a:pt x="7675" y="12159"/>
                  <a:pt x="7805" y="12175"/>
                  <a:pt x="7938" y="12179"/>
                </a:cubicBezTo>
                <a:cubicBezTo>
                  <a:pt x="8058" y="12183"/>
                  <a:pt x="8167" y="12201"/>
                  <a:pt x="8285" y="12204"/>
                </a:cubicBezTo>
                <a:cubicBezTo>
                  <a:pt x="8407" y="12208"/>
                  <a:pt x="8516" y="12190"/>
                  <a:pt x="8632" y="12179"/>
                </a:cubicBezTo>
                <a:cubicBezTo>
                  <a:pt x="8814" y="12162"/>
                  <a:pt x="9002" y="12176"/>
                  <a:pt x="9178" y="12154"/>
                </a:cubicBezTo>
                <a:cubicBezTo>
                  <a:pt x="9274" y="12142"/>
                  <a:pt x="9294" y="12149"/>
                  <a:pt x="9376" y="12105"/>
                </a:cubicBezTo>
              </a:path>
              <a:path w="21184" h="3598">
                <a:moveTo>
                  <a:pt x="7516" y="12427"/>
                </a:moveTo>
                <a:cubicBezTo>
                  <a:pt x="7516" y="12524"/>
                  <a:pt x="7537" y="12605"/>
                  <a:pt x="7541" y="12700"/>
                </a:cubicBezTo>
                <a:cubicBezTo>
                  <a:pt x="7545" y="12778"/>
                  <a:pt x="7561" y="12847"/>
                  <a:pt x="7565" y="12923"/>
                </a:cubicBezTo>
                <a:cubicBezTo>
                  <a:pt x="7570" y="13027"/>
                  <a:pt x="7578" y="13119"/>
                  <a:pt x="7590" y="13221"/>
                </a:cubicBezTo>
                <a:cubicBezTo>
                  <a:pt x="7599" y="13293"/>
                  <a:pt x="7590" y="13371"/>
                  <a:pt x="7590" y="13444"/>
                </a:cubicBezTo>
              </a:path>
              <a:path w="21184" h="3598">
                <a:moveTo>
                  <a:pt x="7838" y="12998"/>
                </a:moveTo>
                <a:cubicBezTo>
                  <a:pt x="7899" y="13005"/>
                  <a:pt x="7962" y="13039"/>
                  <a:pt x="8012" y="13047"/>
                </a:cubicBezTo>
                <a:cubicBezTo>
                  <a:pt x="8078" y="13047"/>
                  <a:pt x="8095" y="13047"/>
                  <a:pt x="8136" y="13047"/>
                </a:cubicBezTo>
              </a:path>
              <a:path w="21184" h="3598">
                <a:moveTo>
                  <a:pt x="8607" y="12601"/>
                </a:moveTo>
                <a:cubicBezTo>
                  <a:pt x="8637" y="12651"/>
                  <a:pt x="8653" y="12711"/>
                  <a:pt x="8657" y="12774"/>
                </a:cubicBezTo>
                <a:cubicBezTo>
                  <a:pt x="8662" y="12868"/>
                  <a:pt x="8679" y="12954"/>
                  <a:pt x="8682" y="13047"/>
                </a:cubicBezTo>
                <a:cubicBezTo>
                  <a:pt x="8686" y="13165"/>
                  <a:pt x="8716" y="13279"/>
                  <a:pt x="8731" y="13395"/>
                </a:cubicBezTo>
                <a:cubicBezTo>
                  <a:pt x="8736" y="13435"/>
                  <a:pt x="8731" y="13479"/>
                  <a:pt x="8731" y="13519"/>
                </a:cubicBezTo>
              </a:path>
              <a:path w="21184" h="3598">
                <a:moveTo>
                  <a:pt x="8508" y="12948"/>
                </a:moveTo>
                <a:cubicBezTo>
                  <a:pt x="8549" y="12934"/>
                  <a:pt x="8671" y="12934"/>
                  <a:pt x="8731" y="12948"/>
                </a:cubicBezTo>
                <a:cubicBezTo>
                  <a:pt x="8779" y="12972"/>
                  <a:pt x="8793" y="12980"/>
                  <a:pt x="8830" y="12973"/>
                </a:cubicBezTo>
              </a:path>
              <a:path w="21184" h="3598">
                <a:moveTo>
                  <a:pt x="9079" y="12998"/>
                </a:moveTo>
                <a:cubicBezTo>
                  <a:pt x="9027" y="13027"/>
                  <a:pt x="8996" y="13054"/>
                  <a:pt x="8954" y="13097"/>
                </a:cubicBezTo>
                <a:cubicBezTo>
                  <a:pt x="8901" y="13151"/>
                  <a:pt x="8928" y="13264"/>
                  <a:pt x="8954" y="13320"/>
                </a:cubicBezTo>
                <a:cubicBezTo>
                  <a:pt x="8994" y="13407"/>
                  <a:pt x="9037" y="13405"/>
                  <a:pt x="9103" y="13345"/>
                </a:cubicBezTo>
                <a:cubicBezTo>
                  <a:pt x="9153" y="13300"/>
                  <a:pt x="9128" y="13208"/>
                  <a:pt x="9128" y="13146"/>
                </a:cubicBezTo>
                <a:cubicBezTo>
                  <a:pt x="9085" y="13126"/>
                  <a:pt x="9121" y="13239"/>
                  <a:pt x="9153" y="13295"/>
                </a:cubicBezTo>
                <a:cubicBezTo>
                  <a:pt x="9195" y="13369"/>
                  <a:pt x="9241" y="13433"/>
                  <a:pt x="9302" y="13494"/>
                </a:cubicBezTo>
              </a:path>
              <a:path w="21184" h="3598">
                <a:moveTo>
                  <a:pt x="9351" y="13122"/>
                </a:moveTo>
                <a:cubicBezTo>
                  <a:pt x="9351" y="13198"/>
                  <a:pt x="9353" y="13275"/>
                  <a:pt x="9376" y="13345"/>
                </a:cubicBezTo>
                <a:cubicBezTo>
                  <a:pt x="9394" y="13398"/>
                  <a:pt x="9406" y="13441"/>
                  <a:pt x="9426" y="13494"/>
                </a:cubicBezTo>
                <a:cubicBezTo>
                  <a:pt x="9453" y="13450"/>
                  <a:pt x="9466" y="13375"/>
                  <a:pt x="9475" y="13320"/>
                </a:cubicBezTo>
                <a:cubicBezTo>
                  <a:pt x="9488" y="13242"/>
                  <a:pt x="9509" y="13173"/>
                  <a:pt x="9525" y="13097"/>
                </a:cubicBezTo>
                <a:cubicBezTo>
                  <a:pt x="9525" y="13052"/>
                  <a:pt x="9522" y="13039"/>
                  <a:pt x="9550" y="13022"/>
                </a:cubicBezTo>
                <a:cubicBezTo>
                  <a:pt x="9645" y="13034"/>
                  <a:pt x="9651" y="13039"/>
                  <a:pt x="9674" y="13122"/>
                </a:cubicBezTo>
                <a:cubicBezTo>
                  <a:pt x="9691" y="13185"/>
                  <a:pt x="9712" y="13264"/>
                  <a:pt x="9723" y="13320"/>
                </a:cubicBezTo>
                <a:cubicBezTo>
                  <a:pt x="9737" y="13394"/>
                  <a:pt x="9722" y="13454"/>
                  <a:pt x="9748" y="13519"/>
                </a:cubicBezTo>
                <a:cubicBezTo>
                  <a:pt x="9768" y="13579"/>
                  <a:pt x="9767" y="13594"/>
                  <a:pt x="9798" y="13618"/>
                </a:cubicBezTo>
              </a:path>
              <a:path w="21184" h="3598">
                <a:moveTo>
                  <a:pt x="9624" y="12551"/>
                </a:moveTo>
                <a:cubicBezTo>
                  <a:pt x="9652" y="12483"/>
                  <a:pt x="9677" y="12406"/>
                  <a:pt x="9773" y="12427"/>
                </a:cubicBezTo>
                <a:cubicBezTo>
                  <a:pt x="9821" y="12438"/>
                  <a:pt x="9891" y="12495"/>
                  <a:pt x="9872" y="12551"/>
                </a:cubicBezTo>
                <a:cubicBezTo>
                  <a:pt x="9839" y="12650"/>
                  <a:pt x="9831" y="12676"/>
                  <a:pt x="9847" y="12774"/>
                </a:cubicBezTo>
                <a:cubicBezTo>
                  <a:pt x="9854" y="12819"/>
                  <a:pt x="9862" y="12906"/>
                  <a:pt x="9922" y="12923"/>
                </a:cubicBezTo>
                <a:cubicBezTo>
                  <a:pt x="9938" y="12923"/>
                  <a:pt x="9955" y="12923"/>
                  <a:pt x="9971" y="12923"/>
                </a:cubicBezTo>
              </a:path>
              <a:path w="21184" h="3598">
                <a:moveTo>
                  <a:pt x="10046" y="13072"/>
                </a:moveTo>
                <a:cubicBezTo>
                  <a:pt x="10125" y="13224"/>
                  <a:pt x="10186" y="13293"/>
                  <a:pt x="10294" y="13419"/>
                </a:cubicBezTo>
                <a:cubicBezTo>
                  <a:pt x="10352" y="13487"/>
                  <a:pt x="10413" y="13510"/>
                  <a:pt x="10492" y="13543"/>
                </a:cubicBezTo>
              </a:path>
              <a:path w="21184" h="3598">
                <a:moveTo>
                  <a:pt x="10468" y="13072"/>
                </a:moveTo>
                <a:cubicBezTo>
                  <a:pt x="10310" y="13146"/>
                  <a:pt x="10261" y="13206"/>
                  <a:pt x="10195" y="13370"/>
                </a:cubicBezTo>
                <a:cubicBezTo>
                  <a:pt x="10153" y="13473"/>
                  <a:pt x="10114" y="13561"/>
                  <a:pt x="10071" y="13667"/>
                </a:cubicBezTo>
                <a:cubicBezTo>
                  <a:pt x="10064" y="13684"/>
                  <a:pt x="10036" y="13826"/>
                  <a:pt x="9996" y="13816"/>
                </a:cubicBezTo>
                <a:cubicBezTo>
                  <a:pt x="9996" y="13808"/>
                  <a:pt x="9996" y="13799"/>
                  <a:pt x="9996" y="13791"/>
                </a:cubicBezTo>
              </a:path>
              <a:path w="21184" h="3598">
                <a:moveTo>
                  <a:pt x="10319" y="12278"/>
                </a:moveTo>
                <a:cubicBezTo>
                  <a:pt x="10476" y="12226"/>
                  <a:pt x="10480" y="12201"/>
                  <a:pt x="10567" y="12204"/>
                </a:cubicBezTo>
              </a:path>
              <a:path w="21184" h="3598">
                <a:moveTo>
                  <a:pt x="10443" y="12477"/>
                </a:moveTo>
                <a:cubicBezTo>
                  <a:pt x="10571" y="12541"/>
                  <a:pt x="10631" y="12538"/>
                  <a:pt x="10765" y="12526"/>
                </a:cubicBezTo>
              </a:path>
              <a:path w="21184" h="3598">
                <a:moveTo>
                  <a:pt x="11286" y="11187"/>
                </a:moveTo>
                <a:cubicBezTo>
                  <a:pt x="11286" y="11204"/>
                  <a:pt x="11286" y="11220"/>
                  <a:pt x="11286" y="11237"/>
                </a:cubicBezTo>
                <a:cubicBezTo>
                  <a:pt x="11320" y="11194"/>
                  <a:pt x="11345" y="11151"/>
                  <a:pt x="11385" y="11112"/>
                </a:cubicBezTo>
                <a:cubicBezTo>
                  <a:pt x="11437" y="11060"/>
                  <a:pt x="11468" y="11096"/>
                  <a:pt x="11509" y="11137"/>
                </a:cubicBezTo>
                <a:cubicBezTo>
                  <a:pt x="11550" y="11178"/>
                  <a:pt x="11579" y="11227"/>
                  <a:pt x="11584" y="11286"/>
                </a:cubicBezTo>
                <a:cubicBezTo>
                  <a:pt x="11596" y="11417"/>
                  <a:pt x="11602" y="11587"/>
                  <a:pt x="11559" y="11708"/>
                </a:cubicBezTo>
                <a:cubicBezTo>
                  <a:pt x="11533" y="11781"/>
                  <a:pt x="11481" y="11840"/>
                  <a:pt x="11435" y="11906"/>
                </a:cubicBezTo>
                <a:cubicBezTo>
                  <a:pt x="11401" y="11955"/>
                  <a:pt x="11320" y="11982"/>
                  <a:pt x="11286" y="11956"/>
                </a:cubicBezTo>
                <a:cubicBezTo>
                  <a:pt x="11208" y="11895"/>
                  <a:pt x="11251" y="11829"/>
                  <a:pt x="11286" y="11757"/>
                </a:cubicBezTo>
                <a:cubicBezTo>
                  <a:pt x="11320" y="11686"/>
                  <a:pt x="11357" y="11641"/>
                  <a:pt x="11435" y="11683"/>
                </a:cubicBezTo>
                <a:cubicBezTo>
                  <a:pt x="11490" y="11713"/>
                  <a:pt x="11492" y="11769"/>
                  <a:pt x="11534" y="11807"/>
                </a:cubicBezTo>
                <a:cubicBezTo>
                  <a:pt x="11587" y="11856"/>
                  <a:pt x="11582" y="11876"/>
                  <a:pt x="11609" y="11931"/>
                </a:cubicBezTo>
                <a:cubicBezTo>
                  <a:pt x="11631" y="11954"/>
                  <a:pt x="11636" y="11962"/>
                  <a:pt x="11658" y="11956"/>
                </a:cubicBezTo>
              </a:path>
              <a:path w="21184" h="3598">
                <a:moveTo>
                  <a:pt x="11881" y="11584"/>
                </a:moveTo>
                <a:cubicBezTo>
                  <a:pt x="11904" y="11607"/>
                  <a:pt x="11912" y="11618"/>
                  <a:pt x="11906" y="11584"/>
                </a:cubicBezTo>
              </a:path>
              <a:path w="21184" h="3598">
                <a:moveTo>
                  <a:pt x="11981" y="10939"/>
                </a:moveTo>
                <a:cubicBezTo>
                  <a:pt x="12031" y="10866"/>
                  <a:pt x="12055" y="10813"/>
                  <a:pt x="12154" y="10840"/>
                </a:cubicBezTo>
                <a:cubicBezTo>
                  <a:pt x="12239" y="10863"/>
                  <a:pt x="12215" y="10979"/>
                  <a:pt x="12179" y="11038"/>
                </a:cubicBezTo>
                <a:cubicBezTo>
                  <a:pt x="12151" y="11083"/>
                  <a:pt x="12018" y="11176"/>
                  <a:pt x="12055" y="11137"/>
                </a:cubicBezTo>
                <a:cubicBezTo>
                  <a:pt x="12096" y="11095"/>
                  <a:pt x="12170" y="11066"/>
                  <a:pt x="12229" y="11088"/>
                </a:cubicBezTo>
                <a:cubicBezTo>
                  <a:pt x="12304" y="11116"/>
                  <a:pt x="12277" y="11218"/>
                  <a:pt x="12254" y="11261"/>
                </a:cubicBezTo>
                <a:cubicBezTo>
                  <a:pt x="12234" y="11299"/>
                  <a:pt x="12201" y="11424"/>
                  <a:pt x="12129" y="11385"/>
                </a:cubicBezTo>
                <a:cubicBezTo>
                  <a:pt x="12129" y="11377"/>
                  <a:pt x="12129" y="11369"/>
                  <a:pt x="12129" y="11361"/>
                </a:cubicBezTo>
              </a:path>
              <a:path w="21184" h="3598">
                <a:moveTo>
                  <a:pt x="12601" y="10939"/>
                </a:moveTo>
                <a:cubicBezTo>
                  <a:pt x="12641" y="11043"/>
                  <a:pt x="12596" y="11056"/>
                  <a:pt x="12576" y="11162"/>
                </a:cubicBezTo>
                <a:cubicBezTo>
                  <a:pt x="12560" y="11245"/>
                  <a:pt x="12517" y="11324"/>
                  <a:pt x="12502" y="11410"/>
                </a:cubicBezTo>
                <a:cubicBezTo>
                  <a:pt x="12486" y="11499"/>
                  <a:pt x="12459" y="11573"/>
                  <a:pt x="12427" y="11658"/>
                </a:cubicBezTo>
                <a:cubicBezTo>
                  <a:pt x="12398" y="11734"/>
                  <a:pt x="12382" y="11826"/>
                  <a:pt x="12378" y="11906"/>
                </a:cubicBezTo>
                <a:cubicBezTo>
                  <a:pt x="12378" y="11956"/>
                  <a:pt x="12378" y="11972"/>
                  <a:pt x="12378" y="12005"/>
                </a:cubicBezTo>
              </a:path>
              <a:path w="21184" h="3598">
                <a:moveTo>
                  <a:pt x="12576" y="11584"/>
                </a:moveTo>
                <a:cubicBezTo>
                  <a:pt x="12576" y="11646"/>
                  <a:pt x="12561" y="11710"/>
                  <a:pt x="12601" y="11757"/>
                </a:cubicBezTo>
                <a:cubicBezTo>
                  <a:pt x="12649" y="11812"/>
                  <a:pt x="12705" y="11843"/>
                  <a:pt x="12774" y="11857"/>
                </a:cubicBezTo>
              </a:path>
              <a:path w="21184" h="3598">
                <a:moveTo>
                  <a:pt x="12898" y="11534"/>
                </a:moveTo>
                <a:cubicBezTo>
                  <a:pt x="12809" y="11599"/>
                  <a:pt x="12824" y="11646"/>
                  <a:pt x="12824" y="11757"/>
                </a:cubicBezTo>
                <a:cubicBezTo>
                  <a:pt x="12824" y="11838"/>
                  <a:pt x="12864" y="11916"/>
                  <a:pt x="12874" y="11981"/>
                </a:cubicBezTo>
                <a:cubicBezTo>
                  <a:pt x="12874" y="12049"/>
                  <a:pt x="12871" y="12068"/>
                  <a:pt x="12898" y="12105"/>
                </a:cubicBezTo>
              </a:path>
              <a:path w="21184" h="3598">
                <a:moveTo>
                  <a:pt x="13171" y="12328"/>
                </a:moveTo>
                <a:cubicBezTo>
                  <a:pt x="13027" y="12362"/>
                  <a:pt x="13005" y="12362"/>
                  <a:pt x="12874" y="12353"/>
                </a:cubicBezTo>
                <a:cubicBezTo>
                  <a:pt x="12722" y="12343"/>
                  <a:pt x="12577" y="12343"/>
                  <a:pt x="12427" y="12328"/>
                </a:cubicBezTo>
                <a:cubicBezTo>
                  <a:pt x="12320" y="12317"/>
                  <a:pt x="12211" y="12306"/>
                  <a:pt x="12105" y="12303"/>
                </a:cubicBezTo>
                <a:cubicBezTo>
                  <a:pt x="11979" y="12299"/>
                  <a:pt x="11861" y="12278"/>
                  <a:pt x="11733" y="12278"/>
                </a:cubicBezTo>
                <a:cubicBezTo>
                  <a:pt x="11598" y="12278"/>
                  <a:pt x="11485" y="12287"/>
                  <a:pt x="11361" y="12303"/>
                </a:cubicBezTo>
                <a:cubicBezTo>
                  <a:pt x="11269" y="12315"/>
                  <a:pt x="11243" y="12334"/>
                  <a:pt x="11162" y="12353"/>
                </a:cubicBezTo>
                <a:cubicBezTo>
                  <a:pt x="11145" y="12353"/>
                  <a:pt x="11129" y="12353"/>
                  <a:pt x="11112" y="12353"/>
                </a:cubicBezTo>
              </a:path>
              <a:path w="21184" h="3598">
                <a:moveTo>
                  <a:pt x="11708" y="12650"/>
                </a:moveTo>
                <a:cubicBezTo>
                  <a:pt x="11700" y="12704"/>
                  <a:pt x="11698" y="12768"/>
                  <a:pt x="11683" y="12824"/>
                </a:cubicBezTo>
                <a:cubicBezTo>
                  <a:pt x="11661" y="12904"/>
                  <a:pt x="11658" y="12960"/>
                  <a:pt x="11658" y="13047"/>
                </a:cubicBezTo>
                <a:cubicBezTo>
                  <a:pt x="11658" y="13173"/>
                  <a:pt x="11694" y="13275"/>
                  <a:pt x="11708" y="13395"/>
                </a:cubicBezTo>
                <a:cubicBezTo>
                  <a:pt x="11717" y="13468"/>
                  <a:pt x="11729" y="13527"/>
                  <a:pt x="11733" y="13593"/>
                </a:cubicBezTo>
                <a:cubicBezTo>
                  <a:pt x="11740" y="13708"/>
                  <a:pt x="11746" y="13714"/>
                  <a:pt x="11757" y="13568"/>
                </a:cubicBezTo>
              </a:path>
              <a:path w="21184" h="3598">
                <a:moveTo>
                  <a:pt x="11832" y="13221"/>
                </a:moveTo>
                <a:cubicBezTo>
                  <a:pt x="11924" y="13171"/>
                  <a:pt x="11953" y="13171"/>
                  <a:pt x="12055" y="13171"/>
                </a:cubicBezTo>
                <a:cubicBezTo>
                  <a:pt x="12080" y="13171"/>
                  <a:pt x="12104" y="13171"/>
                  <a:pt x="12129" y="13171"/>
                </a:cubicBezTo>
              </a:path>
              <a:path w="21184" h="3598">
                <a:moveTo>
                  <a:pt x="12477" y="12626"/>
                </a:moveTo>
                <a:cubicBezTo>
                  <a:pt x="12520" y="12696"/>
                  <a:pt x="12491" y="12709"/>
                  <a:pt x="12452" y="12774"/>
                </a:cubicBezTo>
                <a:cubicBezTo>
                  <a:pt x="12399" y="12862"/>
                  <a:pt x="12382" y="12946"/>
                  <a:pt x="12378" y="13047"/>
                </a:cubicBezTo>
                <a:cubicBezTo>
                  <a:pt x="12374" y="13133"/>
                  <a:pt x="12369" y="13216"/>
                  <a:pt x="12402" y="13295"/>
                </a:cubicBezTo>
                <a:cubicBezTo>
                  <a:pt x="12427" y="13356"/>
                  <a:pt x="12459" y="13420"/>
                  <a:pt x="12502" y="13469"/>
                </a:cubicBezTo>
                <a:cubicBezTo>
                  <a:pt x="12510" y="13477"/>
                  <a:pt x="12518" y="13486"/>
                  <a:pt x="12526" y="13494"/>
                </a:cubicBezTo>
              </a:path>
              <a:path w="21184" h="3598">
                <a:moveTo>
                  <a:pt x="12725" y="12725"/>
                </a:moveTo>
                <a:cubicBezTo>
                  <a:pt x="12759" y="12704"/>
                  <a:pt x="12888" y="12673"/>
                  <a:pt x="12898" y="12750"/>
                </a:cubicBezTo>
                <a:cubicBezTo>
                  <a:pt x="12901" y="12776"/>
                  <a:pt x="12790" y="12816"/>
                  <a:pt x="12774" y="12824"/>
                </a:cubicBezTo>
                <a:cubicBezTo>
                  <a:pt x="12766" y="12832"/>
                  <a:pt x="12758" y="12841"/>
                  <a:pt x="12750" y="12849"/>
                </a:cubicBezTo>
                <a:cubicBezTo>
                  <a:pt x="12797" y="12849"/>
                  <a:pt x="12903" y="12829"/>
                  <a:pt x="12923" y="12898"/>
                </a:cubicBezTo>
                <a:cubicBezTo>
                  <a:pt x="12935" y="12941"/>
                  <a:pt x="12929" y="13031"/>
                  <a:pt x="12874" y="13047"/>
                </a:cubicBezTo>
                <a:cubicBezTo>
                  <a:pt x="12827" y="13060"/>
                  <a:pt x="12788" y="13020"/>
                  <a:pt x="12750" y="12998"/>
                </a:cubicBezTo>
              </a:path>
              <a:path w="21184" h="3598">
                <a:moveTo>
                  <a:pt x="13122" y="12700"/>
                </a:moveTo>
                <a:cubicBezTo>
                  <a:pt x="13094" y="12819"/>
                  <a:pt x="13026" y="12870"/>
                  <a:pt x="12998" y="12973"/>
                </a:cubicBezTo>
                <a:cubicBezTo>
                  <a:pt x="12984" y="13022"/>
                  <a:pt x="12954" y="13104"/>
                  <a:pt x="12948" y="13146"/>
                </a:cubicBezTo>
                <a:cubicBezTo>
                  <a:pt x="12940" y="13200"/>
                  <a:pt x="12948" y="13265"/>
                  <a:pt x="12948" y="13320"/>
                </a:cubicBezTo>
              </a:path>
              <a:path w="21184" h="3598">
                <a:moveTo>
                  <a:pt x="13146" y="13146"/>
                </a:moveTo>
                <a:cubicBezTo>
                  <a:pt x="13124" y="13239"/>
                  <a:pt x="13147" y="13282"/>
                  <a:pt x="13221" y="13345"/>
                </a:cubicBezTo>
              </a:path>
              <a:path w="21184" h="3598">
                <a:moveTo>
                  <a:pt x="13320" y="13097"/>
                </a:moveTo>
                <a:cubicBezTo>
                  <a:pt x="13286" y="13165"/>
                  <a:pt x="13295" y="13239"/>
                  <a:pt x="13295" y="13320"/>
                </a:cubicBezTo>
                <a:cubicBezTo>
                  <a:pt x="13295" y="13436"/>
                  <a:pt x="13295" y="13551"/>
                  <a:pt x="13295" y="13667"/>
                </a:cubicBezTo>
              </a:path>
              <a:path w="21184" h="3598">
                <a:moveTo>
                  <a:pt x="13345" y="12576"/>
                </a:moveTo>
                <a:cubicBezTo>
                  <a:pt x="13381" y="12693"/>
                  <a:pt x="13454" y="12849"/>
                  <a:pt x="13469" y="12973"/>
                </a:cubicBezTo>
                <a:cubicBezTo>
                  <a:pt x="13484" y="13098"/>
                  <a:pt x="13494" y="13217"/>
                  <a:pt x="13494" y="13345"/>
                </a:cubicBezTo>
                <a:cubicBezTo>
                  <a:pt x="13494" y="13484"/>
                  <a:pt x="13532" y="13708"/>
                  <a:pt x="13469" y="13841"/>
                </a:cubicBezTo>
                <a:cubicBezTo>
                  <a:pt x="13446" y="13890"/>
                  <a:pt x="13431" y="13941"/>
                  <a:pt x="13395" y="13990"/>
                </a:cubicBezTo>
                <a:cubicBezTo>
                  <a:pt x="13387" y="13998"/>
                  <a:pt x="13378" y="14007"/>
                  <a:pt x="13370" y="14015"/>
                </a:cubicBezTo>
              </a:path>
              <a:path w="21184" h="3598">
                <a:moveTo>
                  <a:pt x="13593" y="12502"/>
                </a:moveTo>
                <a:cubicBezTo>
                  <a:pt x="13635" y="12522"/>
                  <a:pt x="13748" y="12558"/>
                  <a:pt x="13742" y="12626"/>
                </a:cubicBezTo>
                <a:cubicBezTo>
                  <a:pt x="13740" y="12647"/>
                  <a:pt x="13659" y="12708"/>
                  <a:pt x="13643" y="12725"/>
                </a:cubicBezTo>
                <a:cubicBezTo>
                  <a:pt x="13716" y="12784"/>
                  <a:pt x="13754" y="12778"/>
                  <a:pt x="13841" y="12750"/>
                </a:cubicBezTo>
              </a:path>
              <a:path w="21184" h="3598">
                <a:moveTo>
                  <a:pt x="14089" y="12204"/>
                </a:moveTo>
                <a:cubicBezTo>
                  <a:pt x="14139" y="12229"/>
                  <a:pt x="14155" y="12237"/>
                  <a:pt x="14188" y="12254"/>
                </a:cubicBezTo>
              </a:path>
              <a:path w="21184" h="3598">
                <a:moveTo>
                  <a:pt x="14064" y="12452"/>
                </a:moveTo>
                <a:cubicBezTo>
                  <a:pt x="14154" y="12503"/>
                  <a:pt x="14175" y="12502"/>
                  <a:pt x="14288" y="12502"/>
                </a:cubicBezTo>
              </a:path>
              <a:path w="21184" h="3598">
                <a:moveTo>
                  <a:pt x="14858" y="10988"/>
                </a:moveTo>
                <a:cubicBezTo>
                  <a:pt x="14850" y="11054"/>
                  <a:pt x="14833" y="11152"/>
                  <a:pt x="14808" y="11212"/>
                </a:cubicBezTo>
                <a:cubicBezTo>
                  <a:pt x="14781" y="11277"/>
                  <a:pt x="14784" y="11332"/>
                  <a:pt x="14784" y="11410"/>
                </a:cubicBezTo>
                <a:cubicBezTo>
                  <a:pt x="14784" y="11502"/>
                  <a:pt x="14825" y="11514"/>
                  <a:pt x="14908" y="11485"/>
                </a:cubicBezTo>
                <a:cubicBezTo>
                  <a:pt x="14938" y="11475"/>
                  <a:pt x="15022" y="11420"/>
                  <a:pt x="15032" y="11385"/>
                </a:cubicBezTo>
                <a:cubicBezTo>
                  <a:pt x="15032" y="11369"/>
                  <a:pt x="15032" y="11352"/>
                  <a:pt x="15032" y="11336"/>
                </a:cubicBezTo>
                <a:cubicBezTo>
                  <a:pt x="14978" y="11315"/>
                  <a:pt x="14938" y="11344"/>
                  <a:pt x="14883" y="11385"/>
                </a:cubicBezTo>
                <a:cubicBezTo>
                  <a:pt x="14839" y="11418"/>
                  <a:pt x="14795" y="11481"/>
                  <a:pt x="14784" y="11534"/>
                </a:cubicBezTo>
                <a:cubicBezTo>
                  <a:pt x="14784" y="11576"/>
                  <a:pt x="14784" y="11584"/>
                  <a:pt x="14784" y="11609"/>
                </a:cubicBezTo>
              </a:path>
              <a:path w="21184" h="3598">
                <a:moveTo>
                  <a:pt x="15503" y="10840"/>
                </a:moveTo>
                <a:cubicBezTo>
                  <a:pt x="15489" y="10939"/>
                  <a:pt x="15428" y="10975"/>
                  <a:pt x="15379" y="11063"/>
                </a:cubicBezTo>
                <a:cubicBezTo>
                  <a:pt x="15326" y="11159"/>
                  <a:pt x="15315" y="11266"/>
                  <a:pt x="15255" y="11361"/>
                </a:cubicBezTo>
                <a:cubicBezTo>
                  <a:pt x="15186" y="11471"/>
                  <a:pt x="15171" y="11594"/>
                  <a:pt x="15106" y="11708"/>
                </a:cubicBezTo>
                <a:cubicBezTo>
                  <a:pt x="15052" y="11803"/>
                  <a:pt x="14998" y="11902"/>
                  <a:pt x="14957" y="12005"/>
                </a:cubicBezTo>
                <a:cubicBezTo>
                  <a:pt x="14929" y="12075"/>
                  <a:pt x="14888" y="12139"/>
                  <a:pt x="14858" y="12204"/>
                </a:cubicBezTo>
                <a:cubicBezTo>
                  <a:pt x="14839" y="12261"/>
                  <a:pt x="14830" y="12268"/>
                  <a:pt x="14833" y="12303"/>
                </a:cubicBezTo>
              </a:path>
              <a:path w="21184" h="3598">
                <a:moveTo>
                  <a:pt x="15230" y="11683"/>
                </a:moveTo>
                <a:cubicBezTo>
                  <a:pt x="15230" y="11771"/>
                  <a:pt x="15201" y="11915"/>
                  <a:pt x="15255" y="11981"/>
                </a:cubicBezTo>
                <a:cubicBezTo>
                  <a:pt x="15302" y="12039"/>
                  <a:pt x="15358" y="11990"/>
                  <a:pt x="15404" y="11981"/>
                </a:cubicBezTo>
                <a:cubicBezTo>
                  <a:pt x="15420" y="11981"/>
                  <a:pt x="15437" y="11981"/>
                  <a:pt x="15453" y="11981"/>
                </a:cubicBezTo>
              </a:path>
              <a:path w="21184" h="3598">
                <a:moveTo>
                  <a:pt x="15553" y="11460"/>
                </a:moveTo>
                <a:cubicBezTo>
                  <a:pt x="15553" y="11645"/>
                  <a:pt x="15559" y="11823"/>
                  <a:pt x="15577" y="12005"/>
                </a:cubicBezTo>
                <a:cubicBezTo>
                  <a:pt x="15585" y="12090"/>
                  <a:pt x="15557" y="12149"/>
                  <a:pt x="15553" y="12229"/>
                </a:cubicBezTo>
                <a:cubicBezTo>
                  <a:pt x="15550" y="12278"/>
                  <a:pt x="15553" y="12329"/>
                  <a:pt x="15553" y="12378"/>
                </a:cubicBezTo>
              </a:path>
              <a:path w="21184" h="3598">
                <a:moveTo>
                  <a:pt x="14610" y="12551"/>
                </a:moveTo>
                <a:cubicBezTo>
                  <a:pt x="14661" y="12551"/>
                  <a:pt x="14758" y="12551"/>
                  <a:pt x="14833" y="12551"/>
                </a:cubicBezTo>
                <a:cubicBezTo>
                  <a:pt x="14962" y="12551"/>
                  <a:pt x="15083" y="12542"/>
                  <a:pt x="15205" y="12526"/>
                </a:cubicBezTo>
                <a:cubicBezTo>
                  <a:pt x="15414" y="12499"/>
                  <a:pt x="15639" y="12520"/>
                  <a:pt x="15850" y="12502"/>
                </a:cubicBezTo>
                <a:cubicBezTo>
                  <a:pt x="15974" y="12491"/>
                  <a:pt x="16101" y="12488"/>
                  <a:pt x="16222" y="12477"/>
                </a:cubicBezTo>
                <a:cubicBezTo>
                  <a:pt x="16329" y="12467"/>
                  <a:pt x="16439" y="12455"/>
                  <a:pt x="16545" y="12452"/>
                </a:cubicBezTo>
                <a:cubicBezTo>
                  <a:pt x="16656" y="12448"/>
                  <a:pt x="16754" y="12427"/>
                  <a:pt x="16867" y="12427"/>
                </a:cubicBezTo>
                <a:cubicBezTo>
                  <a:pt x="16987" y="12427"/>
                  <a:pt x="17098" y="12437"/>
                  <a:pt x="17214" y="12452"/>
                </a:cubicBezTo>
                <a:cubicBezTo>
                  <a:pt x="17281" y="12460"/>
                  <a:pt x="17350" y="12469"/>
                  <a:pt x="17413" y="12477"/>
                </a:cubicBezTo>
                <a:cubicBezTo>
                  <a:pt x="17483" y="12486"/>
                  <a:pt x="17568" y="12484"/>
                  <a:pt x="17636" y="12502"/>
                </a:cubicBezTo>
                <a:cubicBezTo>
                  <a:pt x="17659" y="12524"/>
                  <a:pt x="17664" y="12532"/>
                  <a:pt x="17686" y="12526"/>
                </a:cubicBezTo>
              </a:path>
              <a:path w="21184" h="3598">
                <a:moveTo>
                  <a:pt x="14833" y="12750"/>
                </a:moveTo>
                <a:cubicBezTo>
                  <a:pt x="14833" y="12903"/>
                  <a:pt x="14825" y="13045"/>
                  <a:pt x="14808" y="13196"/>
                </a:cubicBezTo>
                <a:cubicBezTo>
                  <a:pt x="14797" y="13297"/>
                  <a:pt x="14799" y="13397"/>
                  <a:pt x="14784" y="13494"/>
                </a:cubicBezTo>
                <a:cubicBezTo>
                  <a:pt x="14772" y="13571"/>
                  <a:pt x="14778" y="13643"/>
                  <a:pt x="14759" y="13717"/>
                </a:cubicBezTo>
                <a:cubicBezTo>
                  <a:pt x="14735" y="13808"/>
                  <a:pt x="14732" y="13878"/>
                  <a:pt x="14709" y="13965"/>
                </a:cubicBezTo>
                <a:cubicBezTo>
                  <a:pt x="14693" y="14025"/>
                  <a:pt x="14661" y="14032"/>
                  <a:pt x="14709" y="14064"/>
                </a:cubicBezTo>
              </a:path>
              <a:path w="21184" h="3598">
                <a:moveTo>
                  <a:pt x="15205" y="13469"/>
                </a:moveTo>
                <a:cubicBezTo>
                  <a:pt x="15213" y="13469"/>
                  <a:pt x="15222" y="13469"/>
                  <a:pt x="15230" y="13469"/>
                </a:cubicBezTo>
              </a:path>
              <a:path w="21184" h="3598">
                <a:moveTo>
                  <a:pt x="15205" y="13469"/>
                </a:moveTo>
                <a:lnTo>
                  <a:pt x="15205" y="13469"/>
                </a:lnTo>
              </a:path>
              <a:path w="21184" h="3598">
                <a:moveTo>
                  <a:pt x="15329" y="13469"/>
                </a:moveTo>
                <a:cubicBezTo>
                  <a:pt x="15418" y="13502"/>
                  <a:pt x="15441" y="13484"/>
                  <a:pt x="15528" y="13469"/>
                </a:cubicBezTo>
                <a:cubicBezTo>
                  <a:pt x="15581" y="13460"/>
                  <a:pt x="15710" y="13440"/>
                  <a:pt x="15751" y="13444"/>
                </a:cubicBezTo>
                <a:cubicBezTo>
                  <a:pt x="15803" y="13449"/>
                  <a:pt x="15842" y="13469"/>
                  <a:pt x="15900" y="13469"/>
                </a:cubicBezTo>
              </a:path>
              <a:path w="21184" h="3598">
                <a:moveTo>
                  <a:pt x="16446" y="12824"/>
                </a:moveTo>
                <a:lnTo>
                  <a:pt x="16446" y="12824"/>
                </a:lnTo>
              </a:path>
              <a:path w="21184" h="3598">
                <a:moveTo>
                  <a:pt x="16446" y="12824"/>
                </a:moveTo>
                <a:lnTo>
                  <a:pt x="16446" y="12824"/>
                </a:lnTo>
              </a:path>
              <a:path w="21184" h="3598">
                <a:moveTo>
                  <a:pt x="16520" y="12799"/>
                </a:moveTo>
                <a:cubicBezTo>
                  <a:pt x="16520" y="12757"/>
                  <a:pt x="16521" y="12655"/>
                  <a:pt x="16495" y="12626"/>
                </a:cubicBezTo>
                <a:cubicBezTo>
                  <a:pt x="16449" y="12576"/>
                  <a:pt x="16358" y="12607"/>
                  <a:pt x="16321" y="12650"/>
                </a:cubicBezTo>
                <a:cubicBezTo>
                  <a:pt x="16286" y="12691"/>
                  <a:pt x="16263" y="12734"/>
                  <a:pt x="16222" y="12774"/>
                </a:cubicBezTo>
                <a:cubicBezTo>
                  <a:pt x="16194" y="12801"/>
                  <a:pt x="16168" y="12902"/>
                  <a:pt x="16222" y="12923"/>
                </a:cubicBezTo>
                <a:cubicBezTo>
                  <a:pt x="16284" y="12947"/>
                  <a:pt x="16368" y="12898"/>
                  <a:pt x="16421" y="12874"/>
                </a:cubicBezTo>
                <a:cubicBezTo>
                  <a:pt x="16483" y="12846"/>
                  <a:pt x="16487" y="12831"/>
                  <a:pt x="16520" y="12774"/>
                </a:cubicBezTo>
                <a:cubicBezTo>
                  <a:pt x="16520" y="12863"/>
                  <a:pt x="16506" y="12940"/>
                  <a:pt x="16495" y="13022"/>
                </a:cubicBezTo>
                <a:cubicBezTo>
                  <a:pt x="16485" y="13097"/>
                  <a:pt x="16474" y="13174"/>
                  <a:pt x="16470" y="13246"/>
                </a:cubicBezTo>
                <a:cubicBezTo>
                  <a:pt x="16470" y="13262"/>
                  <a:pt x="16470" y="13279"/>
                  <a:pt x="16470" y="13295"/>
                </a:cubicBezTo>
              </a:path>
              <a:path w="21184" h="3598">
                <a:moveTo>
                  <a:pt x="16222" y="13370"/>
                </a:moveTo>
                <a:cubicBezTo>
                  <a:pt x="16272" y="13340"/>
                  <a:pt x="16333" y="13323"/>
                  <a:pt x="16396" y="13320"/>
                </a:cubicBezTo>
                <a:cubicBezTo>
                  <a:pt x="16476" y="13316"/>
                  <a:pt x="16537" y="13295"/>
                  <a:pt x="16619" y="13295"/>
                </a:cubicBezTo>
                <a:cubicBezTo>
                  <a:pt x="16672" y="13295"/>
                  <a:pt x="16675" y="13309"/>
                  <a:pt x="16718" y="13320"/>
                </a:cubicBezTo>
              </a:path>
              <a:path w="21184" h="3598">
                <a:moveTo>
                  <a:pt x="16371" y="13568"/>
                </a:moveTo>
                <a:cubicBezTo>
                  <a:pt x="16327" y="13656"/>
                  <a:pt x="16328" y="13722"/>
                  <a:pt x="16297" y="13816"/>
                </a:cubicBezTo>
                <a:cubicBezTo>
                  <a:pt x="16268" y="13904"/>
                  <a:pt x="16215" y="13997"/>
                  <a:pt x="16197" y="14089"/>
                </a:cubicBezTo>
                <a:cubicBezTo>
                  <a:pt x="16186" y="14148"/>
                  <a:pt x="16185" y="14213"/>
                  <a:pt x="16148" y="14238"/>
                </a:cubicBezTo>
              </a:path>
              <a:path w="21184" h="3598">
                <a:moveTo>
                  <a:pt x="16495" y="13643"/>
                </a:moveTo>
                <a:cubicBezTo>
                  <a:pt x="16484" y="13727"/>
                  <a:pt x="16470" y="13801"/>
                  <a:pt x="16470" y="13891"/>
                </a:cubicBezTo>
                <a:cubicBezTo>
                  <a:pt x="16470" y="13941"/>
                  <a:pt x="16489" y="14001"/>
                  <a:pt x="16520" y="14039"/>
                </a:cubicBezTo>
                <a:cubicBezTo>
                  <a:pt x="16558" y="14086"/>
                  <a:pt x="16629" y="14070"/>
                  <a:pt x="16669" y="14039"/>
                </a:cubicBezTo>
                <a:cubicBezTo>
                  <a:pt x="16719" y="14000"/>
                  <a:pt x="16719" y="13942"/>
                  <a:pt x="16694" y="13891"/>
                </a:cubicBezTo>
                <a:cubicBezTo>
                  <a:pt x="16686" y="13883"/>
                  <a:pt x="16677" y="13874"/>
                  <a:pt x="16669" y="13866"/>
                </a:cubicBezTo>
                <a:cubicBezTo>
                  <a:pt x="16614" y="13874"/>
                  <a:pt x="16579" y="13888"/>
                  <a:pt x="16545" y="13940"/>
                </a:cubicBezTo>
                <a:cubicBezTo>
                  <a:pt x="16501" y="14009"/>
                  <a:pt x="16495" y="14060"/>
                  <a:pt x="16495" y="14139"/>
                </a:cubicBezTo>
                <a:cubicBezTo>
                  <a:pt x="16495" y="14147"/>
                  <a:pt x="16495" y="14155"/>
                  <a:pt x="16495" y="14163"/>
                </a:cubicBezTo>
              </a:path>
              <a:path w="21184" h="3598">
                <a:moveTo>
                  <a:pt x="18281" y="11931"/>
                </a:moveTo>
                <a:cubicBezTo>
                  <a:pt x="18342" y="11870"/>
                  <a:pt x="18337" y="11890"/>
                  <a:pt x="18405" y="11931"/>
                </a:cubicBezTo>
                <a:cubicBezTo>
                  <a:pt x="18456" y="11962"/>
                  <a:pt x="18524" y="11976"/>
                  <a:pt x="18579" y="11981"/>
                </a:cubicBezTo>
                <a:cubicBezTo>
                  <a:pt x="18587" y="11981"/>
                  <a:pt x="18596" y="11981"/>
                  <a:pt x="18604" y="11981"/>
                </a:cubicBezTo>
              </a:path>
              <a:path w="21184" h="3598">
                <a:moveTo>
                  <a:pt x="18380" y="12204"/>
                </a:moveTo>
                <a:cubicBezTo>
                  <a:pt x="18447" y="12271"/>
                  <a:pt x="18493" y="12233"/>
                  <a:pt x="18579" y="12254"/>
                </a:cubicBezTo>
                <a:cubicBezTo>
                  <a:pt x="18634" y="12267"/>
                  <a:pt x="18679" y="12291"/>
                  <a:pt x="18728" y="12303"/>
                </a:cubicBezTo>
              </a:path>
              <a:path w="21184" h="3598">
                <a:moveTo>
                  <a:pt x="19348" y="12278"/>
                </a:moveTo>
                <a:cubicBezTo>
                  <a:pt x="19418" y="12274"/>
                  <a:pt x="19484" y="12250"/>
                  <a:pt x="19546" y="12254"/>
                </a:cubicBezTo>
                <a:cubicBezTo>
                  <a:pt x="19589" y="12257"/>
                  <a:pt x="19689" y="12269"/>
                  <a:pt x="19745" y="12278"/>
                </a:cubicBezTo>
                <a:cubicBezTo>
                  <a:pt x="19795" y="12286"/>
                  <a:pt x="19854" y="12301"/>
                  <a:pt x="19918" y="12303"/>
                </a:cubicBezTo>
                <a:cubicBezTo>
                  <a:pt x="20006" y="12306"/>
                  <a:pt x="20076" y="12325"/>
                  <a:pt x="20166" y="12328"/>
                </a:cubicBezTo>
                <a:cubicBezTo>
                  <a:pt x="20309" y="12332"/>
                  <a:pt x="20453" y="12318"/>
                  <a:pt x="20588" y="12303"/>
                </a:cubicBezTo>
                <a:cubicBezTo>
                  <a:pt x="21185" y="12238"/>
                  <a:pt x="21856" y="12288"/>
                  <a:pt x="22448" y="12328"/>
                </a:cubicBezTo>
                <a:cubicBezTo>
                  <a:pt x="22579" y="12337"/>
                  <a:pt x="22714" y="12328"/>
                  <a:pt x="22845" y="12328"/>
                </a:cubicBezTo>
              </a:path>
              <a:path w="21184" h="3598">
                <a:moveTo>
                  <a:pt x="20538" y="10641"/>
                </a:moveTo>
                <a:cubicBezTo>
                  <a:pt x="20473" y="10707"/>
                  <a:pt x="20494" y="10735"/>
                  <a:pt x="20464" y="10815"/>
                </a:cubicBezTo>
                <a:cubicBezTo>
                  <a:pt x="20446" y="10863"/>
                  <a:pt x="20378" y="10910"/>
                  <a:pt x="20365" y="10964"/>
                </a:cubicBezTo>
                <a:cubicBezTo>
                  <a:pt x="20347" y="11036"/>
                  <a:pt x="20319" y="11105"/>
                  <a:pt x="20315" y="11187"/>
                </a:cubicBezTo>
                <a:cubicBezTo>
                  <a:pt x="20310" y="11281"/>
                  <a:pt x="20382" y="11267"/>
                  <a:pt x="20439" y="11237"/>
                </a:cubicBezTo>
                <a:cubicBezTo>
                  <a:pt x="20498" y="11206"/>
                  <a:pt x="20515" y="11159"/>
                  <a:pt x="20563" y="11112"/>
                </a:cubicBezTo>
                <a:cubicBezTo>
                  <a:pt x="20611" y="11065"/>
                  <a:pt x="20587" y="11035"/>
                  <a:pt x="20563" y="10988"/>
                </a:cubicBezTo>
                <a:cubicBezTo>
                  <a:pt x="20484" y="11028"/>
                  <a:pt x="20464" y="11045"/>
                  <a:pt x="20414" y="11112"/>
                </a:cubicBezTo>
                <a:cubicBezTo>
                  <a:pt x="20379" y="11158"/>
                  <a:pt x="20345" y="11185"/>
                  <a:pt x="20315" y="11237"/>
                </a:cubicBezTo>
              </a:path>
              <a:path w="21184" h="3598">
                <a:moveTo>
                  <a:pt x="20985" y="10815"/>
                </a:moveTo>
                <a:cubicBezTo>
                  <a:pt x="20918" y="10881"/>
                  <a:pt x="20905" y="10959"/>
                  <a:pt x="20861" y="11038"/>
                </a:cubicBezTo>
                <a:cubicBezTo>
                  <a:pt x="20834" y="11087"/>
                  <a:pt x="20778" y="11177"/>
                  <a:pt x="20737" y="11212"/>
                </a:cubicBezTo>
                <a:cubicBezTo>
                  <a:pt x="20663" y="11276"/>
                  <a:pt x="20691" y="11311"/>
                  <a:pt x="20638" y="11385"/>
                </a:cubicBezTo>
                <a:cubicBezTo>
                  <a:pt x="20578" y="11469"/>
                  <a:pt x="20518" y="11545"/>
                  <a:pt x="20464" y="11633"/>
                </a:cubicBezTo>
                <a:cubicBezTo>
                  <a:pt x="20427" y="11693"/>
                  <a:pt x="20400" y="11682"/>
                  <a:pt x="20389" y="11757"/>
                </a:cubicBezTo>
              </a:path>
              <a:path w="21184" h="3598">
                <a:moveTo>
                  <a:pt x="20811" y="11286"/>
                </a:moveTo>
                <a:cubicBezTo>
                  <a:pt x="20781" y="11339"/>
                  <a:pt x="20742" y="11384"/>
                  <a:pt x="20712" y="11435"/>
                </a:cubicBezTo>
                <a:cubicBezTo>
                  <a:pt x="20691" y="11469"/>
                  <a:pt x="20653" y="11586"/>
                  <a:pt x="20712" y="11609"/>
                </a:cubicBezTo>
                <a:cubicBezTo>
                  <a:pt x="20757" y="11626"/>
                  <a:pt x="20837" y="11609"/>
                  <a:pt x="20886" y="11609"/>
                </a:cubicBezTo>
              </a:path>
              <a:path w="21184" h="3598">
                <a:moveTo>
                  <a:pt x="21109" y="11212"/>
                </a:moveTo>
                <a:cubicBezTo>
                  <a:pt x="21076" y="11267"/>
                  <a:pt x="21047" y="11365"/>
                  <a:pt x="21034" y="11435"/>
                </a:cubicBezTo>
                <a:cubicBezTo>
                  <a:pt x="21022" y="11498"/>
                  <a:pt x="21013" y="11570"/>
                  <a:pt x="21010" y="11633"/>
                </a:cubicBezTo>
                <a:cubicBezTo>
                  <a:pt x="21006" y="11712"/>
                  <a:pt x="20971" y="11778"/>
                  <a:pt x="20960" y="11857"/>
                </a:cubicBezTo>
                <a:cubicBezTo>
                  <a:pt x="20951" y="11920"/>
                  <a:pt x="20960" y="11991"/>
                  <a:pt x="20960" y="12055"/>
                </a:cubicBezTo>
              </a:path>
              <a:path w="21184" h="3598">
                <a:moveTo>
                  <a:pt x="19918" y="12799"/>
                </a:moveTo>
                <a:lnTo>
                  <a:pt x="19918" y="12799"/>
                </a:lnTo>
              </a:path>
              <a:path w="21184" h="3598">
                <a:moveTo>
                  <a:pt x="19918" y="12799"/>
                </a:moveTo>
                <a:cubicBezTo>
                  <a:pt x="19926" y="12816"/>
                  <a:pt x="19935" y="12832"/>
                  <a:pt x="19943" y="12849"/>
                </a:cubicBezTo>
              </a:path>
              <a:path w="21184" h="3598">
                <a:moveTo>
                  <a:pt x="19943" y="12849"/>
                </a:moveTo>
                <a:cubicBezTo>
                  <a:pt x="20017" y="12886"/>
                  <a:pt x="20058" y="12898"/>
                  <a:pt x="20141" y="12898"/>
                </a:cubicBezTo>
                <a:cubicBezTo>
                  <a:pt x="20217" y="12898"/>
                  <a:pt x="20295" y="12900"/>
                  <a:pt x="20365" y="12923"/>
                </a:cubicBezTo>
                <a:cubicBezTo>
                  <a:pt x="20424" y="12943"/>
                  <a:pt x="20436" y="13039"/>
                  <a:pt x="20414" y="13097"/>
                </a:cubicBezTo>
                <a:cubicBezTo>
                  <a:pt x="20397" y="13140"/>
                  <a:pt x="20347" y="13174"/>
                  <a:pt x="20340" y="13221"/>
                </a:cubicBezTo>
                <a:cubicBezTo>
                  <a:pt x="20340" y="13246"/>
                  <a:pt x="20340" y="13270"/>
                  <a:pt x="20340" y="13295"/>
                </a:cubicBezTo>
              </a:path>
              <a:path w="21184" h="3598">
                <a:moveTo>
                  <a:pt x="20762" y="12725"/>
                </a:moveTo>
                <a:cubicBezTo>
                  <a:pt x="20743" y="12775"/>
                  <a:pt x="20719" y="12853"/>
                  <a:pt x="20712" y="12898"/>
                </a:cubicBezTo>
                <a:cubicBezTo>
                  <a:pt x="20699" y="12982"/>
                  <a:pt x="20682" y="13063"/>
                  <a:pt x="20662" y="13146"/>
                </a:cubicBezTo>
                <a:cubicBezTo>
                  <a:pt x="20638" y="13246"/>
                  <a:pt x="20618" y="13347"/>
                  <a:pt x="20588" y="13444"/>
                </a:cubicBezTo>
                <a:cubicBezTo>
                  <a:pt x="20544" y="13584"/>
                  <a:pt x="20504" y="13731"/>
                  <a:pt x="20464" y="13866"/>
                </a:cubicBezTo>
                <a:cubicBezTo>
                  <a:pt x="20447" y="13926"/>
                  <a:pt x="20405" y="13987"/>
                  <a:pt x="20389" y="14039"/>
                </a:cubicBezTo>
                <a:cubicBezTo>
                  <a:pt x="20389" y="14047"/>
                  <a:pt x="20389" y="14056"/>
                  <a:pt x="20389" y="14064"/>
                </a:cubicBezTo>
              </a:path>
              <a:path w="21184" h="3598">
                <a:moveTo>
                  <a:pt x="20811" y="13271"/>
                </a:moveTo>
                <a:cubicBezTo>
                  <a:pt x="20811" y="13365"/>
                  <a:pt x="20780" y="13410"/>
                  <a:pt x="20762" y="13494"/>
                </a:cubicBezTo>
                <a:cubicBezTo>
                  <a:pt x="20746" y="13568"/>
                  <a:pt x="20731" y="13645"/>
                  <a:pt x="20712" y="13717"/>
                </a:cubicBezTo>
                <a:cubicBezTo>
                  <a:pt x="20689" y="13805"/>
                  <a:pt x="20687" y="13873"/>
                  <a:pt x="20687" y="13965"/>
                </a:cubicBezTo>
                <a:cubicBezTo>
                  <a:pt x="20687" y="14010"/>
                  <a:pt x="20683" y="14023"/>
                  <a:pt x="20712" y="14039"/>
                </a:cubicBezTo>
              </a:path>
              <a:path w="21184" h="3598">
                <a:moveTo>
                  <a:pt x="20910" y="13543"/>
                </a:moveTo>
                <a:cubicBezTo>
                  <a:pt x="20910" y="13646"/>
                  <a:pt x="20923" y="13753"/>
                  <a:pt x="20935" y="13841"/>
                </a:cubicBezTo>
                <a:cubicBezTo>
                  <a:pt x="20948" y="13932"/>
                  <a:pt x="20948" y="13927"/>
                  <a:pt x="21010" y="13990"/>
                </a:cubicBezTo>
                <a:cubicBezTo>
                  <a:pt x="21049" y="14030"/>
                  <a:pt x="21127" y="13984"/>
                  <a:pt x="21158" y="13940"/>
                </a:cubicBezTo>
                <a:cubicBezTo>
                  <a:pt x="21190" y="13895"/>
                  <a:pt x="21198" y="13795"/>
                  <a:pt x="21183" y="13742"/>
                </a:cubicBezTo>
                <a:cubicBezTo>
                  <a:pt x="21175" y="13725"/>
                  <a:pt x="21166" y="13709"/>
                  <a:pt x="21158" y="13692"/>
                </a:cubicBezTo>
                <a:cubicBezTo>
                  <a:pt x="21075" y="13704"/>
                  <a:pt x="21072" y="13739"/>
                  <a:pt x="21034" y="13816"/>
                </a:cubicBezTo>
                <a:cubicBezTo>
                  <a:pt x="20998" y="13889"/>
                  <a:pt x="20960" y="13905"/>
                  <a:pt x="20960" y="139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Ink 7"/>
          <p:cNvSpPr/>
          <p:nvPr/>
        </p:nvSpPr>
        <p:spPr>
          <a:xfrm>
            <a:off x="2571840" y="1776240"/>
            <a:ext cx="206280" cy="287640"/>
          </a:xfrm>
          <a:custGeom>
            <a:avLst/>
            <a:gdLst/>
            <a:ahLst/>
            <a:rect l="l" t="t" r="r" b="b"/>
            <a:pathLst>
              <a:path w="571" h="795">
                <a:moveTo>
                  <a:pt x="7144" y="5085"/>
                </a:moveTo>
                <a:cubicBezTo>
                  <a:pt x="7199" y="5041"/>
                  <a:pt x="7265" y="4992"/>
                  <a:pt x="7342" y="5011"/>
                </a:cubicBezTo>
                <a:cubicBezTo>
                  <a:pt x="7399" y="5025"/>
                  <a:pt x="7426" y="5115"/>
                  <a:pt x="7417" y="5159"/>
                </a:cubicBezTo>
                <a:cubicBezTo>
                  <a:pt x="7403" y="5229"/>
                  <a:pt x="7341" y="5247"/>
                  <a:pt x="7293" y="5283"/>
                </a:cubicBezTo>
                <a:cubicBezTo>
                  <a:pt x="7247" y="5317"/>
                  <a:pt x="7332" y="5278"/>
                  <a:pt x="7392" y="5308"/>
                </a:cubicBezTo>
                <a:cubicBezTo>
                  <a:pt x="7483" y="5354"/>
                  <a:pt x="7491" y="5413"/>
                  <a:pt x="7441" y="5507"/>
                </a:cubicBezTo>
                <a:cubicBezTo>
                  <a:pt x="7419" y="5549"/>
                  <a:pt x="7313" y="5595"/>
                  <a:pt x="7268" y="5581"/>
                </a:cubicBezTo>
                <a:cubicBezTo>
                  <a:pt x="7238" y="5551"/>
                  <a:pt x="7227" y="5537"/>
                  <a:pt x="7218" y="5507"/>
                </a:cubicBezTo>
              </a:path>
              <a:path w="571" h="795">
                <a:moveTo>
                  <a:pt x="7491" y="4936"/>
                </a:moveTo>
                <a:cubicBezTo>
                  <a:pt x="7567" y="5084"/>
                  <a:pt x="7678" y="5260"/>
                  <a:pt x="7714" y="5432"/>
                </a:cubicBezTo>
                <a:cubicBezTo>
                  <a:pt x="7725" y="5485"/>
                  <a:pt x="7710" y="5586"/>
                  <a:pt x="7689" y="5631"/>
                </a:cubicBezTo>
                <a:cubicBezTo>
                  <a:pt x="7675" y="5661"/>
                  <a:pt x="7632" y="5700"/>
                  <a:pt x="7615" y="57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Ink 8"/>
          <p:cNvSpPr/>
          <p:nvPr/>
        </p:nvSpPr>
        <p:spPr>
          <a:xfrm>
            <a:off x="3036960" y="1731960"/>
            <a:ext cx="1116000" cy="287280"/>
          </a:xfrm>
          <a:custGeom>
            <a:avLst/>
            <a:gdLst/>
            <a:ahLst/>
            <a:rect l="l" t="t" r="r" b="b"/>
            <a:pathLst>
              <a:path w="3101" h="795">
                <a:moveTo>
                  <a:pt x="8781" y="4961"/>
                </a:moveTo>
                <a:cubicBezTo>
                  <a:pt x="8781" y="4953"/>
                  <a:pt x="8781" y="4944"/>
                  <a:pt x="8781" y="4936"/>
                </a:cubicBezTo>
              </a:path>
              <a:path w="3101" h="795">
                <a:moveTo>
                  <a:pt x="8781" y="4961"/>
                </a:moveTo>
                <a:lnTo>
                  <a:pt x="8781" y="4961"/>
                </a:lnTo>
              </a:path>
              <a:path w="3101" h="795">
                <a:moveTo>
                  <a:pt x="8806" y="5011"/>
                </a:moveTo>
                <a:cubicBezTo>
                  <a:pt x="8774" y="4958"/>
                  <a:pt x="8771" y="4894"/>
                  <a:pt x="8731" y="4837"/>
                </a:cubicBezTo>
                <a:cubicBezTo>
                  <a:pt x="8723" y="4829"/>
                  <a:pt x="8714" y="4820"/>
                  <a:pt x="8706" y="4812"/>
                </a:cubicBezTo>
                <a:cubicBezTo>
                  <a:pt x="8661" y="4835"/>
                  <a:pt x="8582" y="4860"/>
                  <a:pt x="8558" y="4911"/>
                </a:cubicBezTo>
                <a:cubicBezTo>
                  <a:pt x="8525" y="4982"/>
                  <a:pt x="8494" y="5042"/>
                  <a:pt x="8458" y="5110"/>
                </a:cubicBezTo>
                <a:cubicBezTo>
                  <a:pt x="8430" y="5164"/>
                  <a:pt x="8421" y="5246"/>
                  <a:pt x="8434" y="5308"/>
                </a:cubicBezTo>
                <a:cubicBezTo>
                  <a:pt x="8448" y="5373"/>
                  <a:pt x="8505" y="5486"/>
                  <a:pt x="8558" y="5531"/>
                </a:cubicBezTo>
                <a:cubicBezTo>
                  <a:pt x="8608" y="5574"/>
                  <a:pt x="8690" y="5605"/>
                  <a:pt x="8756" y="5581"/>
                </a:cubicBezTo>
                <a:cubicBezTo>
                  <a:pt x="8780" y="5572"/>
                  <a:pt x="8831" y="5520"/>
                  <a:pt x="8855" y="5507"/>
                </a:cubicBezTo>
              </a:path>
              <a:path w="3101" h="795">
                <a:moveTo>
                  <a:pt x="9054" y="5060"/>
                </a:moveTo>
                <a:cubicBezTo>
                  <a:pt x="9045" y="5122"/>
                  <a:pt x="9046" y="5195"/>
                  <a:pt x="9029" y="5259"/>
                </a:cubicBezTo>
                <a:cubicBezTo>
                  <a:pt x="9008" y="5338"/>
                  <a:pt x="8977" y="5405"/>
                  <a:pt x="9029" y="5482"/>
                </a:cubicBezTo>
                <a:cubicBezTo>
                  <a:pt x="9052" y="5516"/>
                  <a:pt x="9098" y="5609"/>
                  <a:pt x="9153" y="5606"/>
                </a:cubicBezTo>
                <a:cubicBezTo>
                  <a:pt x="9236" y="5601"/>
                  <a:pt x="9286" y="5513"/>
                  <a:pt x="9327" y="5457"/>
                </a:cubicBezTo>
                <a:cubicBezTo>
                  <a:pt x="9360" y="5412"/>
                  <a:pt x="9373" y="5342"/>
                  <a:pt x="9376" y="5283"/>
                </a:cubicBezTo>
                <a:cubicBezTo>
                  <a:pt x="9378" y="5240"/>
                  <a:pt x="9366" y="5126"/>
                  <a:pt x="9351" y="5085"/>
                </a:cubicBezTo>
                <a:cubicBezTo>
                  <a:pt x="9339" y="5053"/>
                  <a:pt x="9254" y="4993"/>
                  <a:pt x="9227" y="4986"/>
                </a:cubicBezTo>
                <a:cubicBezTo>
                  <a:pt x="9172" y="4971"/>
                  <a:pt x="9108" y="5015"/>
                  <a:pt x="9079" y="5060"/>
                </a:cubicBezTo>
                <a:cubicBezTo>
                  <a:pt x="9035" y="5129"/>
                  <a:pt x="9053" y="5189"/>
                  <a:pt x="9079" y="5259"/>
                </a:cubicBezTo>
              </a:path>
              <a:path w="3101" h="795">
                <a:moveTo>
                  <a:pt x="9723" y="5060"/>
                </a:moveTo>
                <a:cubicBezTo>
                  <a:pt x="9639" y="5060"/>
                  <a:pt x="9592" y="5059"/>
                  <a:pt x="9525" y="5110"/>
                </a:cubicBezTo>
                <a:cubicBezTo>
                  <a:pt x="9467" y="5154"/>
                  <a:pt x="9463" y="5216"/>
                  <a:pt x="9525" y="5259"/>
                </a:cubicBezTo>
                <a:cubicBezTo>
                  <a:pt x="9584" y="5301"/>
                  <a:pt x="9641" y="5280"/>
                  <a:pt x="9699" y="5333"/>
                </a:cubicBezTo>
                <a:cubicBezTo>
                  <a:pt x="9732" y="5363"/>
                  <a:pt x="9789" y="5435"/>
                  <a:pt x="9773" y="5482"/>
                </a:cubicBezTo>
                <a:cubicBezTo>
                  <a:pt x="9754" y="5539"/>
                  <a:pt x="9644" y="5549"/>
                  <a:pt x="9599" y="5556"/>
                </a:cubicBezTo>
                <a:cubicBezTo>
                  <a:pt x="9537" y="5566"/>
                  <a:pt x="9491" y="5567"/>
                  <a:pt x="9475" y="5507"/>
                </a:cubicBezTo>
              </a:path>
              <a:path w="3101" h="795">
                <a:moveTo>
                  <a:pt x="10195" y="4936"/>
                </a:moveTo>
                <a:cubicBezTo>
                  <a:pt x="10238" y="4911"/>
                  <a:pt x="10295" y="4846"/>
                  <a:pt x="10344" y="4837"/>
                </a:cubicBezTo>
                <a:cubicBezTo>
                  <a:pt x="10411" y="4825"/>
                  <a:pt x="10478" y="4827"/>
                  <a:pt x="10517" y="4887"/>
                </a:cubicBezTo>
                <a:cubicBezTo>
                  <a:pt x="10567" y="4965"/>
                  <a:pt x="10528" y="5012"/>
                  <a:pt x="10492" y="5085"/>
                </a:cubicBezTo>
                <a:cubicBezTo>
                  <a:pt x="10455" y="5161"/>
                  <a:pt x="10405" y="5255"/>
                  <a:pt x="10344" y="5308"/>
                </a:cubicBezTo>
                <a:cubicBezTo>
                  <a:pt x="10290" y="5355"/>
                  <a:pt x="10269" y="5402"/>
                  <a:pt x="10220" y="5457"/>
                </a:cubicBezTo>
                <a:cubicBezTo>
                  <a:pt x="10183" y="5499"/>
                  <a:pt x="10118" y="5515"/>
                  <a:pt x="10170" y="5507"/>
                </a:cubicBezTo>
                <a:cubicBezTo>
                  <a:pt x="10237" y="5496"/>
                  <a:pt x="10273" y="5484"/>
                  <a:pt x="10344" y="5507"/>
                </a:cubicBezTo>
                <a:cubicBezTo>
                  <a:pt x="10414" y="5530"/>
                  <a:pt x="10444" y="5538"/>
                  <a:pt x="10492" y="5531"/>
                </a:cubicBezTo>
                <a:cubicBezTo>
                  <a:pt x="10509" y="5531"/>
                  <a:pt x="10525" y="5531"/>
                  <a:pt x="10542" y="5531"/>
                </a:cubicBezTo>
              </a:path>
              <a:path w="3101" h="795">
                <a:moveTo>
                  <a:pt x="10988" y="4911"/>
                </a:moveTo>
                <a:cubicBezTo>
                  <a:pt x="10921" y="4960"/>
                  <a:pt x="10894" y="4998"/>
                  <a:pt x="10889" y="5085"/>
                </a:cubicBezTo>
                <a:cubicBezTo>
                  <a:pt x="10885" y="5162"/>
                  <a:pt x="10864" y="5229"/>
                  <a:pt x="10864" y="5308"/>
                </a:cubicBezTo>
                <a:cubicBezTo>
                  <a:pt x="10864" y="5388"/>
                  <a:pt x="10877" y="5465"/>
                  <a:pt x="10889" y="5531"/>
                </a:cubicBezTo>
                <a:cubicBezTo>
                  <a:pt x="10905" y="5613"/>
                  <a:pt x="10943" y="5631"/>
                  <a:pt x="11038" y="5606"/>
                </a:cubicBezTo>
                <a:cubicBezTo>
                  <a:pt x="11085" y="5593"/>
                  <a:pt x="11184" y="5515"/>
                  <a:pt x="11212" y="5482"/>
                </a:cubicBezTo>
                <a:cubicBezTo>
                  <a:pt x="11248" y="5440"/>
                  <a:pt x="11259" y="5335"/>
                  <a:pt x="11261" y="5283"/>
                </a:cubicBezTo>
                <a:cubicBezTo>
                  <a:pt x="11266" y="5166"/>
                  <a:pt x="11264" y="5111"/>
                  <a:pt x="11212" y="5011"/>
                </a:cubicBezTo>
                <a:cubicBezTo>
                  <a:pt x="11177" y="4944"/>
                  <a:pt x="11096" y="4893"/>
                  <a:pt x="11013" y="4911"/>
                </a:cubicBezTo>
                <a:cubicBezTo>
                  <a:pt x="10973" y="4931"/>
                  <a:pt x="10967" y="4940"/>
                  <a:pt x="10939" y="4936"/>
                </a:cubicBezTo>
              </a:path>
              <a:path w="3101" h="795">
                <a:moveTo>
                  <a:pt x="10864" y="5308"/>
                </a:moveTo>
                <a:cubicBezTo>
                  <a:pt x="10929" y="5340"/>
                  <a:pt x="11009" y="5355"/>
                  <a:pt x="11088" y="5358"/>
                </a:cubicBezTo>
                <a:cubicBezTo>
                  <a:pt x="11195" y="5362"/>
                  <a:pt x="11283" y="5348"/>
                  <a:pt x="11385" y="5333"/>
                </a:cubicBezTo>
                <a:cubicBezTo>
                  <a:pt x="11401" y="5331"/>
                  <a:pt x="11577" y="5333"/>
                  <a:pt x="11509" y="5333"/>
                </a:cubicBezTo>
                <a:cubicBezTo>
                  <a:pt x="11501" y="5333"/>
                  <a:pt x="11493" y="5333"/>
                  <a:pt x="11485" y="53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Ink 9"/>
          <p:cNvSpPr/>
          <p:nvPr/>
        </p:nvSpPr>
        <p:spPr>
          <a:xfrm>
            <a:off x="4330800" y="1820880"/>
            <a:ext cx="169920" cy="81000"/>
          </a:xfrm>
          <a:custGeom>
            <a:avLst/>
            <a:gdLst/>
            <a:ahLst/>
            <a:rect l="l" t="t" r="r" b="b"/>
            <a:pathLst>
              <a:path w="473" h="224">
                <a:moveTo>
                  <a:pt x="12030" y="5060"/>
                </a:moveTo>
                <a:cubicBezTo>
                  <a:pt x="12085" y="5093"/>
                  <a:pt x="12136" y="5085"/>
                  <a:pt x="12204" y="5085"/>
                </a:cubicBezTo>
                <a:cubicBezTo>
                  <a:pt x="12295" y="5085"/>
                  <a:pt x="12343" y="5064"/>
                  <a:pt x="12427" y="5060"/>
                </a:cubicBezTo>
                <a:cubicBezTo>
                  <a:pt x="12444" y="5060"/>
                  <a:pt x="12460" y="5060"/>
                  <a:pt x="12477" y="5060"/>
                </a:cubicBezTo>
              </a:path>
              <a:path w="473" h="224">
                <a:moveTo>
                  <a:pt x="12105" y="5259"/>
                </a:moveTo>
                <a:cubicBezTo>
                  <a:pt x="12155" y="5289"/>
                  <a:pt x="12239" y="5299"/>
                  <a:pt x="12303" y="5283"/>
                </a:cubicBezTo>
                <a:cubicBezTo>
                  <a:pt x="12374" y="5265"/>
                  <a:pt x="12426" y="5259"/>
                  <a:pt x="12502" y="52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Ink 10"/>
          <p:cNvSpPr/>
          <p:nvPr/>
        </p:nvSpPr>
        <p:spPr>
          <a:xfrm>
            <a:off x="4697280" y="1581120"/>
            <a:ext cx="1411560" cy="446040"/>
          </a:xfrm>
          <a:custGeom>
            <a:avLst/>
            <a:gdLst/>
            <a:ahLst/>
            <a:rect l="l" t="t" r="r" b="b"/>
            <a:pathLst>
              <a:path w="3920" h="1242">
                <a:moveTo>
                  <a:pt x="13047" y="4539"/>
                </a:moveTo>
                <a:cubicBezTo>
                  <a:pt x="13047" y="4797"/>
                  <a:pt x="13041" y="5059"/>
                  <a:pt x="13072" y="5308"/>
                </a:cubicBezTo>
                <a:cubicBezTo>
                  <a:pt x="13085" y="5411"/>
                  <a:pt x="13072" y="5528"/>
                  <a:pt x="13072" y="5631"/>
                </a:cubicBezTo>
              </a:path>
              <a:path w="3920" h="1242">
                <a:moveTo>
                  <a:pt x="13295" y="5110"/>
                </a:moveTo>
                <a:cubicBezTo>
                  <a:pt x="13416" y="5110"/>
                  <a:pt x="13529" y="5103"/>
                  <a:pt x="13643" y="5085"/>
                </a:cubicBezTo>
                <a:cubicBezTo>
                  <a:pt x="13684" y="5085"/>
                  <a:pt x="13692" y="5085"/>
                  <a:pt x="13717" y="5085"/>
                </a:cubicBezTo>
              </a:path>
              <a:path w="3920" h="1242">
                <a:moveTo>
                  <a:pt x="13866" y="4812"/>
                </a:moveTo>
                <a:cubicBezTo>
                  <a:pt x="13896" y="4738"/>
                  <a:pt x="13911" y="4716"/>
                  <a:pt x="13965" y="4663"/>
                </a:cubicBezTo>
                <a:cubicBezTo>
                  <a:pt x="14026" y="4603"/>
                  <a:pt x="14074" y="4532"/>
                  <a:pt x="14163" y="4514"/>
                </a:cubicBezTo>
                <a:cubicBezTo>
                  <a:pt x="14273" y="4492"/>
                  <a:pt x="14243" y="4581"/>
                  <a:pt x="14238" y="4638"/>
                </a:cubicBezTo>
                <a:cubicBezTo>
                  <a:pt x="14232" y="4708"/>
                  <a:pt x="14224" y="4773"/>
                  <a:pt x="14188" y="4837"/>
                </a:cubicBezTo>
                <a:cubicBezTo>
                  <a:pt x="14145" y="4914"/>
                  <a:pt x="14099" y="4992"/>
                  <a:pt x="14064" y="5060"/>
                </a:cubicBezTo>
                <a:cubicBezTo>
                  <a:pt x="14019" y="5147"/>
                  <a:pt x="13974" y="5231"/>
                  <a:pt x="13915" y="5308"/>
                </a:cubicBezTo>
                <a:cubicBezTo>
                  <a:pt x="13876" y="5359"/>
                  <a:pt x="13850" y="5426"/>
                  <a:pt x="13816" y="5482"/>
                </a:cubicBezTo>
                <a:cubicBezTo>
                  <a:pt x="13791" y="5531"/>
                  <a:pt x="13783" y="5548"/>
                  <a:pt x="13767" y="5581"/>
                </a:cubicBezTo>
                <a:cubicBezTo>
                  <a:pt x="13827" y="5519"/>
                  <a:pt x="13824" y="5546"/>
                  <a:pt x="13891" y="5556"/>
                </a:cubicBezTo>
                <a:cubicBezTo>
                  <a:pt x="13974" y="5569"/>
                  <a:pt x="14054" y="5581"/>
                  <a:pt x="14139" y="5581"/>
                </a:cubicBezTo>
                <a:cubicBezTo>
                  <a:pt x="14164" y="5581"/>
                  <a:pt x="14188" y="5581"/>
                  <a:pt x="14213" y="5581"/>
                </a:cubicBezTo>
              </a:path>
              <a:path w="3920" h="1242">
                <a:moveTo>
                  <a:pt x="14808" y="5060"/>
                </a:moveTo>
                <a:cubicBezTo>
                  <a:pt x="14789" y="4983"/>
                  <a:pt x="14797" y="4965"/>
                  <a:pt x="14759" y="4936"/>
                </a:cubicBezTo>
                <a:cubicBezTo>
                  <a:pt x="14705" y="4943"/>
                  <a:pt x="14631" y="4959"/>
                  <a:pt x="14585" y="4986"/>
                </a:cubicBezTo>
                <a:cubicBezTo>
                  <a:pt x="14549" y="5007"/>
                  <a:pt x="14516" y="5055"/>
                  <a:pt x="14486" y="5085"/>
                </a:cubicBezTo>
                <a:cubicBezTo>
                  <a:pt x="14518" y="5124"/>
                  <a:pt x="14540" y="5180"/>
                  <a:pt x="14585" y="5209"/>
                </a:cubicBezTo>
                <a:cubicBezTo>
                  <a:pt x="14643" y="5246"/>
                  <a:pt x="14708" y="5262"/>
                  <a:pt x="14759" y="5308"/>
                </a:cubicBezTo>
                <a:cubicBezTo>
                  <a:pt x="14797" y="5342"/>
                  <a:pt x="14846" y="5376"/>
                  <a:pt x="14833" y="5432"/>
                </a:cubicBezTo>
                <a:cubicBezTo>
                  <a:pt x="14813" y="5516"/>
                  <a:pt x="14729" y="5520"/>
                  <a:pt x="14660" y="5531"/>
                </a:cubicBezTo>
                <a:cubicBezTo>
                  <a:pt x="14642" y="5534"/>
                  <a:pt x="14512" y="5515"/>
                  <a:pt x="14511" y="5507"/>
                </a:cubicBezTo>
                <a:cubicBezTo>
                  <a:pt x="14533" y="5463"/>
                  <a:pt x="14536" y="5452"/>
                  <a:pt x="14560" y="5432"/>
                </a:cubicBezTo>
              </a:path>
              <a:path w="3920" h="1242">
                <a:moveTo>
                  <a:pt x="15106" y="5011"/>
                </a:moveTo>
                <a:cubicBezTo>
                  <a:pt x="15122" y="5113"/>
                  <a:pt x="15106" y="5201"/>
                  <a:pt x="15106" y="5308"/>
                </a:cubicBezTo>
                <a:cubicBezTo>
                  <a:pt x="15106" y="5381"/>
                  <a:pt x="15106" y="5803"/>
                  <a:pt x="15106" y="5507"/>
                </a:cubicBezTo>
              </a:path>
              <a:path w="3920" h="1242">
                <a:moveTo>
                  <a:pt x="15156" y="4787"/>
                </a:moveTo>
                <a:cubicBezTo>
                  <a:pt x="15180" y="4762"/>
                  <a:pt x="15188" y="4754"/>
                  <a:pt x="15205" y="4738"/>
                </a:cubicBezTo>
              </a:path>
              <a:path w="3920" h="1242">
                <a:moveTo>
                  <a:pt x="15354" y="5432"/>
                </a:moveTo>
                <a:cubicBezTo>
                  <a:pt x="15333" y="5514"/>
                  <a:pt x="15325" y="5530"/>
                  <a:pt x="15329" y="5581"/>
                </a:cubicBezTo>
                <a:cubicBezTo>
                  <a:pt x="15338" y="5487"/>
                  <a:pt x="15354" y="5406"/>
                  <a:pt x="15354" y="5308"/>
                </a:cubicBezTo>
                <a:cubicBezTo>
                  <a:pt x="15354" y="5235"/>
                  <a:pt x="15393" y="5178"/>
                  <a:pt x="15404" y="5110"/>
                </a:cubicBezTo>
                <a:cubicBezTo>
                  <a:pt x="15415" y="5043"/>
                  <a:pt x="15454" y="4990"/>
                  <a:pt x="15503" y="4936"/>
                </a:cubicBezTo>
                <a:cubicBezTo>
                  <a:pt x="15548" y="4886"/>
                  <a:pt x="15606" y="4865"/>
                  <a:pt x="15677" y="4887"/>
                </a:cubicBezTo>
                <a:cubicBezTo>
                  <a:pt x="15750" y="4909"/>
                  <a:pt x="15749" y="5027"/>
                  <a:pt x="15751" y="5085"/>
                </a:cubicBezTo>
                <a:cubicBezTo>
                  <a:pt x="15755" y="5185"/>
                  <a:pt x="15751" y="5643"/>
                  <a:pt x="15751" y="5507"/>
                </a:cubicBezTo>
              </a:path>
              <a:path w="3920" h="1242">
                <a:moveTo>
                  <a:pt x="15925" y="4539"/>
                </a:moveTo>
                <a:cubicBezTo>
                  <a:pt x="15954" y="4513"/>
                  <a:pt x="16051" y="4403"/>
                  <a:pt x="16098" y="4390"/>
                </a:cubicBezTo>
                <a:cubicBezTo>
                  <a:pt x="16162" y="4372"/>
                  <a:pt x="16265" y="4436"/>
                  <a:pt x="16222" y="4514"/>
                </a:cubicBezTo>
                <a:cubicBezTo>
                  <a:pt x="16187" y="4577"/>
                  <a:pt x="16117" y="4674"/>
                  <a:pt x="16073" y="4738"/>
                </a:cubicBezTo>
                <a:cubicBezTo>
                  <a:pt x="16049" y="4762"/>
                  <a:pt x="16040" y="4771"/>
                  <a:pt x="16024" y="4787"/>
                </a:cubicBezTo>
                <a:cubicBezTo>
                  <a:pt x="16108" y="4829"/>
                  <a:pt x="16153" y="4791"/>
                  <a:pt x="16247" y="4762"/>
                </a:cubicBezTo>
              </a:path>
              <a:path w="3920" h="1242">
                <a:moveTo>
                  <a:pt x="16495" y="5011"/>
                </a:moveTo>
                <a:cubicBezTo>
                  <a:pt x="16528" y="5124"/>
                  <a:pt x="16557" y="5166"/>
                  <a:pt x="16619" y="5259"/>
                </a:cubicBezTo>
                <a:cubicBezTo>
                  <a:pt x="16660" y="5321"/>
                  <a:pt x="16677" y="5369"/>
                  <a:pt x="16743" y="5407"/>
                </a:cubicBezTo>
                <a:cubicBezTo>
                  <a:pt x="16833" y="5460"/>
                  <a:pt x="16861" y="5447"/>
                  <a:pt x="16966" y="5432"/>
                </a:cubicBezTo>
              </a:path>
              <a:path w="3920" h="1242">
                <a:moveTo>
                  <a:pt x="16966" y="4986"/>
                </a:moveTo>
                <a:cubicBezTo>
                  <a:pt x="16899" y="5081"/>
                  <a:pt x="16829" y="5206"/>
                  <a:pt x="16743" y="5283"/>
                </a:cubicBezTo>
                <a:cubicBezTo>
                  <a:pt x="16690" y="5331"/>
                  <a:pt x="16630" y="5398"/>
                  <a:pt x="16570" y="5432"/>
                </a:cubicBezTo>
                <a:cubicBezTo>
                  <a:pt x="16537" y="5449"/>
                  <a:pt x="16503" y="5465"/>
                  <a:pt x="16470" y="54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Ink 11"/>
          <p:cNvSpPr/>
          <p:nvPr/>
        </p:nvSpPr>
        <p:spPr>
          <a:xfrm>
            <a:off x="2268360" y="2554200"/>
            <a:ext cx="125640" cy="187560"/>
          </a:xfrm>
          <a:custGeom>
            <a:avLst/>
            <a:gdLst/>
            <a:ahLst/>
            <a:rect l="l" t="t" r="r" b="b"/>
            <a:pathLst>
              <a:path w="349" h="522">
                <a:moveTo>
                  <a:pt x="6300" y="7243"/>
                </a:moveTo>
                <a:cubicBezTo>
                  <a:pt x="6348" y="7195"/>
                  <a:pt x="6389" y="7151"/>
                  <a:pt x="6449" y="7119"/>
                </a:cubicBezTo>
                <a:cubicBezTo>
                  <a:pt x="6517" y="7082"/>
                  <a:pt x="6530" y="7093"/>
                  <a:pt x="6598" y="7119"/>
                </a:cubicBezTo>
                <a:cubicBezTo>
                  <a:pt x="6560" y="7166"/>
                  <a:pt x="6540" y="7223"/>
                  <a:pt x="6499" y="7268"/>
                </a:cubicBezTo>
                <a:cubicBezTo>
                  <a:pt x="6465" y="7306"/>
                  <a:pt x="6326" y="7325"/>
                  <a:pt x="6375" y="7342"/>
                </a:cubicBezTo>
                <a:cubicBezTo>
                  <a:pt x="6452" y="7368"/>
                  <a:pt x="6531" y="7313"/>
                  <a:pt x="6598" y="7367"/>
                </a:cubicBezTo>
                <a:cubicBezTo>
                  <a:pt x="6652" y="7411"/>
                  <a:pt x="6664" y="7465"/>
                  <a:pt x="6623" y="7516"/>
                </a:cubicBezTo>
                <a:cubicBezTo>
                  <a:pt x="6607" y="7536"/>
                  <a:pt x="6524" y="7608"/>
                  <a:pt x="6499" y="7615"/>
                </a:cubicBezTo>
                <a:cubicBezTo>
                  <a:pt x="6440" y="7632"/>
                  <a:pt x="6362" y="7615"/>
                  <a:pt x="6300" y="76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Ink 12"/>
          <p:cNvSpPr/>
          <p:nvPr/>
        </p:nvSpPr>
        <p:spPr>
          <a:xfrm>
            <a:off x="4348080" y="2347920"/>
            <a:ext cx="135000" cy="98280"/>
          </a:xfrm>
          <a:custGeom>
            <a:avLst/>
            <a:gdLst/>
            <a:ahLst/>
            <a:rect l="l" t="t" r="r" b="b"/>
            <a:pathLst>
              <a:path w="373" h="273">
                <a:moveTo>
                  <a:pt x="12080" y="6524"/>
                </a:moveTo>
                <a:cubicBezTo>
                  <a:pt x="12150" y="6549"/>
                  <a:pt x="12203" y="6548"/>
                  <a:pt x="12278" y="6548"/>
                </a:cubicBezTo>
                <a:cubicBezTo>
                  <a:pt x="12336" y="6548"/>
                  <a:pt x="12394" y="6548"/>
                  <a:pt x="12452" y="6548"/>
                </a:cubicBezTo>
              </a:path>
              <a:path w="373" h="273">
                <a:moveTo>
                  <a:pt x="12105" y="6772"/>
                </a:moveTo>
                <a:cubicBezTo>
                  <a:pt x="12159" y="6804"/>
                  <a:pt x="12211" y="6796"/>
                  <a:pt x="12278" y="6796"/>
                </a:cubicBezTo>
                <a:cubicBezTo>
                  <a:pt x="12319" y="6796"/>
                  <a:pt x="12361" y="6796"/>
                  <a:pt x="12402" y="679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Ink 13"/>
          <p:cNvSpPr/>
          <p:nvPr/>
        </p:nvSpPr>
        <p:spPr>
          <a:xfrm>
            <a:off x="4697280" y="2108160"/>
            <a:ext cx="1500480" cy="660600"/>
          </a:xfrm>
          <a:custGeom>
            <a:avLst/>
            <a:gdLst/>
            <a:ahLst/>
            <a:rect l="l" t="t" r="r" b="b"/>
            <a:pathLst>
              <a:path w="4168" h="1836">
                <a:moveTo>
                  <a:pt x="13047" y="6201"/>
                </a:moveTo>
                <a:cubicBezTo>
                  <a:pt x="13047" y="6283"/>
                  <a:pt x="13062" y="6350"/>
                  <a:pt x="13072" y="6424"/>
                </a:cubicBezTo>
                <a:cubicBezTo>
                  <a:pt x="13087" y="6537"/>
                  <a:pt x="13093" y="6659"/>
                  <a:pt x="13097" y="6772"/>
                </a:cubicBezTo>
                <a:cubicBezTo>
                  <a:pt x="13100" y="6857"/>
                  <a:pt x="13106" y="6961"/>
                  <a:pt x="13122" y="7045"/>
                </a:cubicBezTo>
                <a:cubicBezTo>
                  <a:pt x="13138" y="7131"/>
                  <a:pt x="13146" y="7204"/>
                  <a:pt x="13146" y="7293"/>
                </a:cubicBezTo>
                <a:cubicBezTo>
                  <a:pt x="13146" y="7337"/>
                  <a:pt x="13143" y="7351"/>
                  <a:pt x="13171" y="7367"/>
                </a:cubicBezTo>
              </a:path>
              <a:path w="4168" h="1836">
                <a:moveTo>
                  <a:pt x="13370" y="6896"/>
                </a:moveTo>
                <a:cubicBezTo>
                  <a:pt x="13440" y="6923"/>
                  <a:pt x="13492" y="6921"/>
                  <a:pt x="13568" y="6921"/>
                </a:cubicBezTo>
                <a:cubicBezTo>
                  <a:pt x="13640" y="6921"/>
                  <a:pt x="13677" y="6900"/>
                  <a:pt x="13742" y="6896"/>
                </a:cubicBezTo>
                <a:cubicBezTo>
                  <a:pt x="13800" y="6893"/>
                  <a:pt x="13819" y="6899"/>
                  <a:pt x="13866" y="6871"/>
                </a:cubicBezTo>
              </a:path>
              <a:path w="4168" h="1836">
                <a:moveTo>
                  <a:pt x="14188" y="6474"/>
                </a:moveTo>
                <a:cubicBezTo>
                  <a:pt x="14238" y="6404"/>
                  <a:pt x="14252" y="6355"/>
                  <a:pt x="14337" y="6350"/>
                </a:cubicBezTo>
                <a:cubicBezTo>
                  <a:pt x="14420" y="6345"/>
                  <a:pt x="14441" y="6363"/>
                  <a:pt x="14511" y="6400"/>
                </a:cubicBezTo>
                <a:cubicBezTo>
                  <a:pt x="14578" y="6435"/>
                  <a:pt x="14600" y="6525"/>
                  <a:pt x="14610" y="6598"/>
                </a:cubicBezTo>
                <a:cubicBezTo>
                  <a:pt x="14624" y="6703"/>
                  <a:pt x="14598" y="6794"/>
                  <a:pt x="14585" y="6896"/>
                </a:cubicBezTo>
                <a:cubicBezTo>
                  <a:pt x="14570" y="7013"/>
                  <a:pt x="14515" y="7073"/>
                  <a:pt x="14461" y="7169"/>
                </a:cubicBezTo>
                <a:cubicBezTo>
                  <a:pt x="14421" y="7240"/>
                  <a:pt x="14393" y="7288"/>
                  <a:pt x="14312" y="7293"/>
                </a:cubicBezTo>
                <a:cubicBezTo>
                  <a:pt x="14248" y="7297"/>
                  <a:pt x="14178" y="7295"/>
                  <a:pt x="14163" y="7218"/>
                </a:cubicBezTo>
                <a:cubicBezTo>
                  <a:pt x="14151" y="7159"/>
                  <a:pt x="14202" y="7044"/>
                  <a:pt x="14263" y="7020"/>
                </a:cubicBezTo>
                <a:cubicBezTo>
                  <a:pt x="14323" y="6996"/>
                  <a:pt x="14413" y="7036"/>
                  <a:pt x="14461" y="7069"/>
                </a:cubicBezTo>
                <a:cubicBezTo>
                  <a:pt x="14503" y="7098"/>
                  <a:pt x="14573" y="7168"/>
                  <a:pt x="14585" y="7218"/>
                </a:cubicBezTo>
                <a:cubicBezTo>
                  <a:pt x="14585" y="7260"/>
                  <a:pt x="14585" y="7285"/>
                  <a:pt x="14585" y="7243"/>
                </a:cubicBezTo>
              </a:path>
              <a:path w="4168" h="1836">
                <a:moveTo>
                  <a:pt x="14932" y="6995"/>
                </a:moveTo>
                <a:cubicBezTo>
                  <a:pt x="14957" y="7020"/>
                  <a:pt x="14965" y="7028"/>
                  <a:pt x="14932" y="6995"/>
                </a:cubicBezTo>
              </a:path>
              <a:path w="4168" h="1836">
                <a:moveTo>
                  <a:pt x="15453" y="6400"/>
                </a:moveTo>
                <a:cubicBezTo>
                  <a:pt x="15513" y="6340"/>
                  <a:pt x="15567" y="6256"/>
                  <a:pt x="15652" y="6251"/>
                </a:cubicBezTo>
                <a:cubicBezTo>
                  <a:pt x="15694" y="6248"/>
                  <a:pt x="15830" y="6225"/>
                  <a:pt x="15850" y="6276"/>
                </a:cubicBezTo>
                <a:cubicBezTo>
                  <a:pt x="15872" y="6332"/>
                  <a:pt x="15810" y="6412"/>
                  <a:pt x="15776" y="6449"/>
                </a:cubicBezTo>
                <a:cubicBezTo>
                  <a:pt x="15751" y="6474"/>
                  <a:pt x="15743" y="6482"/>
                  <a:pt x="15726" y="6499"/>
                </a:cubicBezTo>
                <a:cubicBezTo>
                  <a:pt x="15782" y="6466"/>
                  <a:pt x="15842" y="6457"/>
                  <a:pt x="15900" y="6499"/>
                </a:cubicBezTo>
                <a:cubicBezTo>
                  <a:pt x="15927" y="6519"/>
                  <a:pt x="16002" y="6587"/>
                  <a:pt x="15999" y="6623"/>
                </a:cubicBezTo>
                <a:cubicBezTo>
                  <a:pt x="15997" y="6652"/>
                  <a:pt x="15897" y="6717"/>
                  <a:pt x="15875" y="6722"/>
                </a:cubicBezTo>
                <a:cubicBezTo>
                  <a:pt x="15825" y="6722"/>
                  <a:pt x="15809" y="6722"/>
                  <a:pt x="15776" y="6722"/>
                </a:cubicBezTo>
              </a:path>
              <a:path w="4168" h="1836">
                <a:moveTo>
                  <a:pt x="15553" y="6846"/>
                </a:moveTo>
                <a:cubicBezTo>
                  <a:pt x="15729" y="6846"/>
                  <a:pt x="15901" y="6841"/>
                  <a:pt x="16073" y="6821"/>
                </a:cubicBezTo>
                <a:cubicBezTo>
                  <a:pt x="16115" y="6821"/>
                  <a:pt x="16123" y="6821"/>
                  <a:pt x="16148" y="6821"/>
                </a:cubicBezTo>
              </a:path>
              <a:path w="4168" h="1836">
                <a:moveTo>
                  <a:pt x="15701" y="7045"/>
                </a:moveTo>
                <a:cubicBezTo>
                  <a:pt x="15793" y="7040"/>
                  <a:pt x="15842" y="7030"/>
                  <a:pt x="15925" y="7020"/>
                </a:cubicBezTo>
              </a:path>
              <a:path w="4168" h="1836">
                <a:moveTo>
                  <a:pt x="15701" y="7045"/>
                </a:moveTo>
                <a:cubicBezTo>
                  <a:pt x="15664" y="7111"/>
                  <a:pt x="15636" y="7127"/>
                  <a:pt x="15677" y="7193"/>
                </a:cubicBezTo>
                <a:cubicBezTo>
                  <a:pt x="15747" y="7154"/>
                  <a:pt x="15756" y="7133"/>
                  <a:pt x="15825" y="7169"/>
                </a:cubicBezTo>
                <a:cubicBezTo>
                  <a:pt x="15897" y="7207"/>
                  <a:pt x="15920" y="7261"/>
                  <a:pt x="15925" y="7342"/>
                </a:cubicBezTo>
                <a:cubicBezTo>
                  <a:pt x="15929" y="7406"/>
                  <a:pt x="15901" y="7453"/>
                  <a:pt x="15850" y="7491"/>
                </a:cubicBezTo>
                <a:cubicBezTo>
                  <a:pt x="15783" y="7541"/>
                  <a:pt x="15661" y="7575"/>
                  <a:pt x="15577" y="7541"/>
                </a:cubicBezTo>
                <a:cubicBezTo>
                  <a:pt x="15512" y="7497"/>
                  <a:pt x="15498" y="7486"/>
                  <a:pt x="15453" y="7466"/>
                </a:cubicBezTo>
              </a:path>
              <a:path w="4168" h="1836">
                <a:moveTo>
                  <a:pt x="15379" y="6077"/>
                </a:moveTo>
                <a:cubicBezTo>
                  <a:pt x="15360" y="6112"/>
                  <a:pt x="15321" y="6189"/>
                  <a:pt x="15304" y="6251"/>
                </a:cubicBezTo>
                <a:cubicBezTo>
                  <a:pt x="15272" y="6366"/>
                  <a:pt x="15233" y="6482"/>
                  <a:pt x="15205" y="6598"/>
                </a:cubicBezTo>
                <a:cubicBezTo>
                  <a:pt x="15170" y="6744"/>
                  <a:pt x="15143" y="6897"/>
                  <a:pt x="15131" y="7045"/>
                </a:cubicBezTo>
                <a:cubicBezTo>
                  <a:pt x="15120" y="7183"/>
                  <a:pt x="15109" y="7360"/>
                  <a:pt x="15156" y="7491"/>
                </a:cubicBezTo>
                <a:cubicBezTo>
                  <a:pt x="15205" y="7628"/>
                  <a:pt x="15202" y="7660"/>
                  <a:pt x="15354" y="7689"/>
                </a:cubicBezTo>
                <a:cubicBezTo>
                  <a:pt x="15408" y="7699"/>
                  <a:pt x="15473" y="7689"/>
                  <a:pt x="15528" y="7689"/>
                </a:cubicBezTo>
              </a:path>
              <a:path w="4168" h="1836">
                <a:moveTo>
                  <a:pt x="16272" y="6028"/>
                </a:moveTo>
                <a:cubicBezTo>
                  <a:pt x="16315" y="6137"/>
                  <a:pt x="16342" y="6231"/>
                  <a:pt x="16346" y="6350"/>
                </a:cubicBezTo>
                <a:cubicBezTo>
                  <a:pt x="16350" y="6476"/>
                  <a:pt x="16368" y="6599"/>
                  <a:pt x="16396" y="6722"/>
                </a:cubicBezTo>
                <a:cubicBezTo>
                  <a:pt x="16430" y="6869"/>
                  <a:pt x="16442" y="7018"/>
                  <a:pt x="16446" y="7169"/>
                </a:cubicBezTo>
                <a:cubicBezTo>
                  <a:pt x="16448" y="7266"/>
                  <a:pt x="16431" y="7375"/>
                  <a:pt x="16396" y="7466"/>
                </a:cubicBezTo>
                <a:cubicBezTo>
                  <a:pt x="16373" y="7525"/>
                  <a:pt x="16339" y="7593"/>
                  <a:pt x="16297" y="7640"/>
                </a:cubicBezTo>
                <a:cubicBezTo>
                  <a:pt x="16234" y="7711"/>
                  <a:pt x="16190" y="7696"/>
                  <a:pt x="16222" y="7590"/>
                </a:cubicBezTo>
                <a:cubicBezTo>
                  <a:pt x="16230" y="7574"/>
                  <a:pt x="16239" y="7557"/>
                  <a:pt x="16247" y="7541"/>
                </a:cubicBezTo>
              </a:path>
              <a:path w="4168" h="1836">
                <a:moveTo>
                  <a:pt x="16694" y="5928"/>
                </a:moveTo>
                <a:cubicBezTo>
                  <a:pt x="16754" y="5883"/>
                  <a:pt x="16792" y="5858"/>
                  <a:pt x="16867" y="5854"/>
                </a:cubicBezTo>
                <a:cubicBezTo>
                  <a:pt x="16906" y="5852"/>
                  <a:pt x="16978" y="5882"/>
                  <a:pt x="16991" y="5928"/>
                </a:cubicBezTo>
                <a:cubicBezTo>
                  <a:pt x="17014" y="6009"/>
                  <a:pt x="16965" y="6132"/>
                  <a:pt x="16917" y="6201"/>
                </a:cubicBezTo>
                <a:cubicBezTo>
                  <a:pt x="16891" y="6238"/>
                  <a:pt x="16890" y="6262"/>
                  <a:pt x="16867" y="6300"/>
                </a:cubicBezTo>
                <a:cubicBezTo>
                  <a:pt x="16933" y="6319"/>
                  <a:pt x="17030" y="6300"/>
                  <a:pt x="17115" y="6300"/>
                </a:cubicBezTo>
                <a:cubicBezTo>
                  <a:pt x="17180" y="6300"/>
                  <a:pt x="17206" y="6327"/>
                  <a:pt x="17190" y="62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Ink 14"/>
          <p:cNvSpPr/>
          <p:nvPr/>
        </p:nvSpPr>
        <p:spPr>
          <a:xfrm>
            <a:off x="4375080" y="2990880"/>
            <a:ext cx="903240" cy="420480"/>
          </a:xfrm>
          <a:custGeom>
            <a:avLst/>
            <a:gdLst/>
            <a:ahLst/>
            <a:rect l="l" t="t" r="r" b="b"/>
            <a:pathLst>
              <a:path w="2507" h="1166">
                <a:moveTo>
                  <a:pt x="12254" y="8657"/>
                </a:moveTo>
                <a:cubicBezTo>
                  <a:pt x="12313" y="8693"/>
                  <a:pt x="12378" y="8682"/>
                  <a:pt x="12452" y="8682"/>
                </a:cubicBezTo>
                <a:cubicBezTo>
                  <a:pt x="12502" y="8682"/>
                  <a:pt x="12518" y="8682"/>
                  <a:pt x="12551" y="8682"/>
                </a:cubicBezTo>
              </a:path>
              <a:path w="2507" h="1166">
                <a:moveTo>
                  <a:pt x="12154" y="8855"/>
                </a:moveTo>
                <a:cubicBezTo>
                  <a:pt x="12221" y="8884"/>
                  <a:pt x="12301" y="8902"/>
                  <a:pt x="12378" y="8905"/>
                </a:cubicBezTo>
                <a:cubicBezTo>
                  <a:pt x="12435" y="8907"/>
                  <a:pt x="12494" y="8905"/>
                  <a:pt x="12551" y="8905"/>
                </a:cubicBezTo>
              </a:path>
              <a:path w="2507" h="1166">
                <a:moveTo>
                  <a:pt x="12973" y="8310"/>
                </a:moveTo>
                <a:cubicBezTo>
                  <a:pt x="13001" y="8411"/>
                  <a:pt x="12998" y="8500"/>
                  <a:pt x="12998" y="8607"/>
                </a:cubicBezTo>
                <a:cubicBezTo>
                  <a:pt x="12998" y="8738"/>
                  <a:pt x="13019" y="8842"/>
                  <a:pt x="13022" y="8979"/>
                </a:cubicBezTo>
                <a:cubicBezTo>
                  <a:pt x="13025" y="9125"/>
                  <a:pt x="13028" y="9259"/>
                  <a:pt x="13047" y="9401"/>
                </a:cubicBezTo>
                <a:cubicBezTo>
                  <a:pt x="13047" y="9442"/>
                  <a:pt x="13047" y="9450"/>
                  <a:pt x="13047" y="9475"/>
                </a:cubicBezTo>
              </a:path>
              <a:path w="2507" h="1166">
                <a:moveTo>
                  <a:pt x="13221" y="9004"/>
                </a:moveTo>
                <a:cubicBezTo>
                  <a:pt x="13281" y="9040"/>
                  <a:pt x="13344" y="9029"/>
                  <a:pt x="13419" y="9029"/>
                </a:cubicBezTo>
                <a:cubicBezTo>
                  <a:pt x="13461" y="9029"/>
                  <a:pt x="13469" y="9029"/>
                  <a:pt x="13494" y="9029"/>
                </a:cubicBezTo>
              </a:path>
              <a:path w="2507" h="1166">
                <a:moveTo>
                  <a:pt x="13791" y="8632"/>
                </a:moveTo>
                <a:cubicBezTo>
                  <a:pt x="13832" y="8581"/>
                  <a:pt x="13830" y="8529"/>
                  <a:pt x="13866" y="8483"/>
                </a:cubicBezTo>
                <a:cubicBezTo>
                  <a:pt x="13904" y="8436"/>
                  <a:pt x="13976" y="8451"/>
                  <a:pt x="14015" y="8483"/>
                </a:cubicBezTo>
                <a:cubicBezTo>
                  <a:pt x="14106" y="8558"/>
                  <a:pt x="14088" y="8661"/>
                  <a:pt x="14114" y="8756"/>
                </a:cubicBezTo>
                <a:cubicBezTo>
                  <a:pt x="14135" y="8834"/>
                  <a:pt x="14159" y="8943"/>
                  <a:pt x="14139" y="9029"/>
                </a:cubicBezTo>
                <a:cubicBezTo>
                  <a:pt x="14124" y="9093"/>
                  <a:pt x="14075" y="9171"/>
                  <a:pt x="14064" y="9227"/>
                </a:cubicBezTo>
                <a:cubicBezTo>
                  <a:pt x="14053" y="9280"/>
                  <a:pt x="14039" y="9380"/>
                  <a:pt x="13965" y="9401"/>
                </a:cubicBezTo>
                <a:cubicBezTo>
                  <a:pt x="13915" y="9415"/>
                  <a:pt x="13840" y="9404"/>
                  <a:pt x="13816" y="9351"/>
                </a:cubicBezTo>
                <a:cubicBezTo>
                  <a:pt x="13798" y="9312"/>
                  <a:pt x="13822" y="9219"/>
                  <a:pt x="13866" y="9203"/>
                </a:cubicBezTo>
                <a:cubicBezTo>
                  <a:pt x="13940" y="9177"/>
                  <a:pt x="14026" y="9246"/>
                  <a:pt x="14064" y="9302"/>
                </a:cubicBezTo>
                <a:cubicBezTo>
                  <a:pt x="14094" y="9347"/>
                  <a:pt x="14115" y="9403"/>
                  <a:pt x="14139" y="9451"/>
                </a:cubicBezTo>
              </a:path>
              <a:path w="2507" h="1166">
                <a:moveTo>
                  <a:pt x="14610" y="9252"/>
                </a:moveTo>
                <a:cubicBezTo>
                  <a:pt x="14627" y="9236"/>
                  <a:pt x="14643" y="9219"/>
                  <a:pt x="14660" y="92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Ink 15"/>
          <p:cNvSpPr/>
          <p:nvPr/>
        </p:nvSpPr>
        <p:spPr>
          <a:xfrm>
            <a:off x="5473800" y="3000240"/>
            <a:ext cx="563400" cy="696960"/>
          </a:xfrm>
          <a:custGeom>
            <a:avLst/>
            <a:gdLst/>
            <a:ahLst/>
            <a:rect l="l" t="t" r="r" b="b"/>
            <a:pathLst>
              <a:path w="1564" h="1936">
                <a:moveTo>
                  <a:pt x="15677" y="8632"/>
                </a:moveTo>
                <a:cubicBezTo>
                  <a:pt x="15668" y="8553"/>
                  <a:pt x="15649" y="8477"/>
                  <a:pt x="15602" y="8409"/>
                </a:cubicBezTo>
                <a:cubicBezTo>
                  <a:pt x="15563" y="8354"/>
                  <a:pt x="15523" y="8323"/>
                  <a:pt x="15453" y="8334"/>
                </a:cubicBezTo>
                <a:cubicBezTo>
                  <a:pt x="15397" y="8343"/>
                  <a:pt x="15335" y="8385"/>
                  <a:pt x="15304" y="8434"/>
                </a:cubicBezTo>
                <a:cubicBezTo>
                  <a:pt x="15251" y="8518"/>
                  <a:pt x="15255" y="8612"/>
                  <a:pt x="15255" y="8706"/>
                </a:cubicBezTo>
                <a:cubicBezTo>
                  <a:pt x="15255" y="8760"/>
                  <a:pt x="15281" y="8799"/>
                  <a:pt x="15329" y="8830"/>
                </a:cubicBezTo>
                <a:cubicBezTo>
                  <a:pt x="15401" y="8876"/>
                  <a:pt x="15488" y="8857"/>
                  <a:pt x="15553" y="8806"/>
                </a:cubicBezTo>
                <a:cubicBezTo>
                  <a:pt x="15601" y="8768"/>
                  <a:pt x="15642" y="8709"/>
                  <a:pt x="15652" y="8657"/>
                </a:cubicBezTo>
                <a:cubicBezTo>
                  <a:pt x="15666" y="8587"/>
                  <a:pt x="15671" y="8600"/>
                  <a:pt x="15652" y="8533"/>
                </a:cubicBezTo>
                <a:cubicBezTo>
                  <a:pt x="15601" y="8597"/>
                  <a:pt x="15586" y="8673"/>
                  <a:pt x="15577" y="8756"/>
                </a:cubicBezTo>
                <a:cubicBezTo>
                  <a:pt x="15560" y="8921"/>
                  <a:pt x="15582" y="9091"/>
                  <a:pt x="15602" y="9252"/>
                </a:cubicBezTo>
                <a:cubicBezTo>
                  <a:pt x="15602" y="9269"/>
                  <a:pt x="15602" y="9285"/>
                  <a:pt x="15602" y="9302"/>
                </a:cubicBezTo>
              </a:path>
              <a:path w="1564" h="1936">
                <a:moveTo>
                  <a:pt x="15205" y="9376"/>
                </a:moveTo>
                <a:cubicBezTo>
                  <a:pt x="15382" y="9376"/>
                  <a:pt x="15554" y="9371"/>
                  <a:pt x="15726" y="9351"/>
                </a:cubicBezTo>
                <a:cubicBezTo>
                  <a:pt x="15751" y="9351"/>
                  <a:pt x="15776" y="9351"/>
                  <a:pt x="15801" y="9351"/>
                </a:cubicBezTo>
              </a:path>
              <a:path w="1564" h="1936">
                <a:moveTo>
                  <a:pt x="15429" y="9624"/>
                </a:moveTo>
                <a:cubicBezTo>
                  <a:pt x="15415" y="9610"/>
                  <a:pt x="15423" y="9541"/>
                  <a:pt x="15478" y="9525"/>
                </a:cubicBezTo>
                <a:cubicBezTo>
                  <a:pt x="15558" y="9502"/>
                  <a:pt x="15566" y="9574"/>
                  <a:pt x="15577" y="9624"/>
                </a:cubicBezTo>
                <a:cubicBezTo>
                  <a:pt x="15594" y="9702"/>
                  <a:pt x="15631" y="9840"/>
                  <a:pt x="15602" y="9922"/>
                </a:cubicBezTo>
                <a:cubicBezTo>
                  <a:pt x="15584" y="9972"/>
                  <a:pt x="15564" y="10045"/>
                  <a:pt x="15528" y="10096"/>
                </a:cubicBezTo>
                <a:cubicBezTo>
                  <a:pt x="15497" y="10140"/>
                  <a:pt x="15442" y="10178"/>
                  <a:pt x="15404" y="10220"/>
                </a:cubicBezTo>
                <a:cubicBezTo>
                  <a:pt x="15379" y="10244"/>
                  <a:pt x="15370" y="10252"/>
                  <a:pt x="15354" y="10269"/>
                </a:cubicBezTo>
                <a:cubicBezTo>
                  <a:pt x="15319" y="10211"/>
                  <a:pt x="15323" y="10178"/>
                  <a:pt x="15354" y="10120"/>
                </a:cubicBezTo>
                <a:cubicBezTo>
                  <a:pt x="15382" y="10068"/>
                  <a:pt x="15403" y="9982"/>
                  <a:pt x="15453" y="9947"/>
                </a:cubicBezTo>
                <a:cubicBezTo>
                  <a:pt x="15528" y="9894"/>
                  <a:pt x="15598" y="9971"/>
                  <a:pt x="15652" y="10021"/>
                </a:cubicBezTo>
                <a:cubicBezTo>
                  <a:pt x="15718" y="10082"/>
                  <a:pt x="15749" y="10083"/>
                  <a:pt x="15825" y="10071"/>
                </a:cubicBezTo>
                <a:cubicBezTo>
                  <a:pt x="15833" y="10071"/>
                  <a:pt x="15842" y="10071"/>
                  <a:pt x="15850" y="10071"/>
                </a:cubicBezTo>
              </a:path>
              <a:path w="1564" h="1936">
                <a:moveTo>
                  <a:pt x="15900" y="9426"/>
                </a:moveTo>
                <a:cubicBezTo>
                  <a:pt x="15950" y="9396"/>
                  <a:pt x="16010" y="9380"/>
                  <a:pt x="16073" y="9376"/>
                </a:cubicBezTo>
                <a:cubicBezTo>
                  <a:pt x="16090" y="9376"/>
                  <a:pt x="16106" y="9376"/>
                  <a:pt x="16123" y="9376"/>
                </a:cubicBezTo>
              </a:path>
              <a:path w="1564" h="1936">
                <a:moveTo>
                  <a:pt x="15900" y="9451"/>
                </a:moveTo>
                <a:cubicBezTo>
                  <a:pt x="15887" y="9484"/>
                  <a:pt x="15808" y="9598"/>
                  <a:pt x="15875" y="9624"/>
                </a:cubicBezTo>
                <a:cubicBezTo>
                  <a:pt x="15933" y="9646"/>
                  <a:pt x="15997" y="9575"/>
                  <a:pt x="16073" y="9599"/>
                </a:cubicBezTo>
                <a:cubicBezTo>
                  <a:pt x="16117" y="9613"/>
                  <a:pt x="16135" y="9716"/>
                  <a:pt x="16148" y="9748"/>
                </a:cubicBezTo>
                <a:cubicBezTo>
                  <a:pt x="16175" y="9815"/>
                  <a:pt x="16198" y="9950"/>
                  <a:pt x="16173" y="10021"/>
                </a:cubicBezTo>
                <a:cubicBezTo>
                  <a:pt x="16143" y="10106"/>
                  <a:pt x="16120" y="10120"/>
                  <a:pt x="16049" y="10145"/>
                </a:cubicBezTo>
                <a:cubicBezTo>
                  <a:pt x="15975" y="10171"/>
                  <a:pt x="15942" y="10181"/>
                  <a:pt x="15875" y="10145"/>
                </a:cubicBezTo>
                <a:cubicBezTo>
                  <a:pt x="15783" y="10096"/>
                  <a:pt x="15781" y="10097"/>
                  <a:pt x="15801" y="9996"/>
                </a:cubicBezTo>
              </a:path>
              <a:path w="1564" h="1936">
                <a:moveTo>
                  <a:pt x="16421" y="9203"/>
                </a:moveTo>
                <a:cubicBezTo>
                  <a:pt x="16511" y="9180"/>
                  <a:pt x="16574" y="9178"/>
                  <a:pt x="16669" y="9178"/>
                </a:cubicBezTo>
              </a:path>
              <a:path w="1564" h="1936">
                <a:moveTo>
                  <a:pt x="16495" y="9327"/>
                </a:moveTo>
                <a:cubicBezTo>
                  <a:pt x="16567" y="9353"/>
                  <a:pt x="16640" y="9372"/>
                  <a:pt x="16718" y="9376"/>
                </a:cubicBezTo>
                <a:cubicBezTo>
                  <a:pt x="16735" y="9376"/>
                  <a:pt x="16751" y="9376"/>
                  <a:pt x="16768" y="93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Ink 16"/>
          <p:cNvSpPr/>
          <p:nvPr/>
        </p:nvSpPr>
        <p:spPr>
          <a:xfrm>
            <a:off x="6313320" y="2990880"/>
            <a:ext cx="250920" cy="447480"/>
          </a:xfrm>
          <a:custGeom>
            <a:avLst/>
            <a:gdLst/>
            <a:ahLst/>
            <a:rect l="l" t="t" r="r" b="b"/>
            <a:pathLst>
              <a:path w="695" h="1241">
                <a:moveTo>
                  <a:pt x="17537" y="8310"/>
                </a:moveTo>
                <a:cubicBezTo>
                  <a:pt x="17584" y="8390"/>
                  <a:pt x="17607" y="8435"/>
                  <a:pt x="17611" y="8533"/>
                </a:cubicBezTo>
                <a:cubicBezTo>
                  <a:pt x="17616" y="8683"/>
                  <a:pt x="17627" y="8834"/>
                  <a:pt x="17636" y="8979"/>
                </a:cubicBezTo>
                <a:cubicBezTo>
                  <a:pt x="17643" y="9082"/>
                  <a:pt x="17584" y="9225"/>
                  <a:pt x="17611" y="9327"/>
                </a:cubicBezTo>
                <a:cubicBezTo>
                  <a:pt x="17626" y="9385"/>
                  <a:pt x="17618" y="9470"/>
                  <a:pt x="17636" y="9525"/>
                </a:cubicBezTo>
                <a:cubicBezTo>
                  <a:pt x="17644" y="9533"/>
                  <a:pt x="17653" y="9542"/>
                  <a:pt x="17661" y="9550"/>
                </a:cubicBezTo>
              </a:path>
              <a:path w="695" h="1241">
                <a:moveTo>
                  <a:pt x="17835" y="9029"/>
                </a:moveTo>
                <a:cubicBezTo>
                  <a:pt x="17965" y="9029"/>
                  <a:pt x="18111" y="9050"/>
                  <a:pt x="18231" y="90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Ink 17"/>
          <p:cNvSpPr/>
          <p:nvPr/>
        </p:nvSpPr>
        <p:spPr>
          <a:xfrm>
            <a:off x="6804000" y="3009960"/>
            <a:ext cx="1233360" cy="884160"/>
          </a:xfrm>
          <a:custGeom>
            <a:avLst/>
            <a:gdLst/>
            <a:ahLst/>
            <a:rect l="l" t="t" r="r" b="b"/>
            <a:pathLst>
              <a:path w="3424" h="2457">
                <a:moveTo>
                  <a:pt x="18926" y="8359"/>
                </a:moveTo>
                <a:cubicBezTo>
                  <a:pt x="18936" y="8438"/>
                  <a:pt x="18951" y="8498"/>
                  <a:pt x="18951" y="8582"/>
                </a:cubicBezTo>
                <a:cubicBezTo>
                  <a:pt x="18951" y="8671"/>
                  <a:pt x="18953" y="8793"/>
                  <a:pt x="18976" y="8880"/>
                </a:cubicBezTo>
                <a:cubicBezTo>
                  <a:pt x="18993" y="8944"/>
                  <a:pt x="19000" y="8986"/>
                  <a:pt x="19000" y="9054"/>
                </a:cubicBezTo>
              </a:path>
              <a:path w="3424" h="2457">
                <a:moveTo>
                  <a:pt x="19472" y="8384"/>
                </a:moveTo>
                <a:cubicBezTo>
                  <a:pt x="19372" y="8384"/>
                  <a:pt x="19312" y="8379"/>
                  <a:pt x="19224" y="8409"/>
                </a:cubicBezTo>
                <a:cubicBezTo>
                  <a:pt x="19224" y="8543"/>
                  <a:pt x="19249" y="8529"/>
                  <a:pt x="19323" y="8632"/>
                </a:cubicBezTo>
                <a:cubicBezTo>
                  <a:pt x="19378" y="8708"/>
                  <a:pt x="19442" y="8780"/>
                  <a:pt x="19496" y="8855"/>
                </a:cubicBezTo>
                <a:cubicBezTo>
                  <a:pt x="19553" y="8935"/>
                  <a:pt x="19567" y="9009"/>
                  <a:pt x="19571" y="9103"/>
                </a:cubicBezTo>
                <a:cubicBezTo>
                  <a:pt x="19571" y="9120"/>
                  <a:pt x="19571" y="9136"/>
                  <a:pt x="19571" y="9153"/>
                </a:cubicBezTo>
                <a:cubicBezTo>
                  <a:pt x="19494" y="9153"/>
                  <a:pt x="19476" y="9156"/>
                  <a:pt x="19422" y="9103"/>
                </a:cubicBezTo>
                <a:cubicBezTo>
                  <a:pt x="19377" y="9059"/>
                  <a:pt x="19354" y="8994"/>
                  <a:pt x="19372" y="8930"/>
                </a:cubicBezTo>
                <a:cubicBezTo>
                  <a:pt x="19404" y="8815"/>
                  <a:pt x="19483" y="8694"/>
                  <a:pt x="19521" y="8582"/>
                </a:cubicBezTo>
                <a:cubicBezTo>
                  <a:pt x="19542" y="8519"/>
                  <a:pt x="19566" y="8473"/>
                  <a:pt x="19571" y="8409"/>
                </a:cubicBezTo>
                <a:cubicBezTo>
                  <a:pt x="19571" y="8401"/>
                  <a:pt x="19571" y="8392"/>
                  <a:pt x="19571" y="8384"/>
                </a:cubicBezTo>
              </a:path>
              <a:path w="3424" h="2457">
                <a:moveTo>
                  <a:pt x="18901" y="9277"/>
                </a:moveTo>
                <a:cubicBezTo>
                  <a:pt x="19006" y="9316"/>
                  <a:pt x="19112" y="9298"/>
                  <a:pt x="19224" y="9277"/>
                </a:cubicBezTo>
                <a:cubicBezTo>
                  <a:pt x="19320" y="9259"/>
                  <a:pt x="19401" y="9232"/>
                  <a:pt x="19496" y="9227"/>
                </a:cubicBezTo>
                <a:cubicBezTo>
                  <a:pt x="19546" y="9227"/>
                  <a:pt x="19563" y="9227"/>
                  <a:pt x="19596" y="9227"/>
                </a:cubicBezTo>
              </a:path>
              <a:path w="3424" h="2457">
                <a:moveTo>
                  <a:pt x="19124" y="9723"/>
                </a:moveTo>
                <a:cubicBezTo>
                  <a:pt x="19191" y="9686"/>
                  <a:pt x="19198" y="9654"/>
                  <a:pt x="19248" y="9599"/>
                </a:cubicBezTo>
                <a:cubicBezTo>
                  <a:pt x="19277" y="9571"/>
                  <a:pt x="19290" y="9563"/>
                  <a:pt x="19323" y="9575"/>
                </a:cubicBezTo>
                <a:cubicBezTo>
                  <a:pt x="19373" y="9650"/>
                  <a:pt x="19372" y="9708"/>
                  <a:pt x="19372" y="9798"/>
                </a:cubicBezTo>
                <a:cubicBezTo>
                  <a:pt x="19372" y="9909"/>
                  <a:pt x="19361" y="10022"/>
                  <a:pt x="19348" y="10120"/>
                </a:cubicBezTo>
                <a:cubicBezTo>
                  <a:pt x="19338" y="10196"/>
                  <a:pt x="19337" y="10275"/>
                  <a:pt x="19298" y="10344"/>
                </a:cubicBezTo>
                <a:cubicBezTo>
                  <a:pt x="19268" y="10396"/>
                  <a:pt x="19239" y="10428"/>
                  <a:pt x="19199" y="10468"/>
                </a:cubicBezTo>
                <a:cubicBezTo>
                  <a:pt x="19162" y="10422"/>
                  <a:pt x="19124" y="10358"/>
                  <a:pt x="19149" y="10294"/>
                </a:cubicBezTo>
                <a:cubicBezTo>
                  <a:pt x="19181" y="10212"/>
                  <a:pt x="19218" y="10178"/>
                  <a:pt x="19298" y="10170"/>
                </a:cubicBezTo>
                <a:cubicBezTo>
                  <a:pt x="19346" y="10165"/>
                  <a:pt x="19446" y="10263"/>
                  <a:pt x="19496" y="10294"/>
                </a:cubicBezTo>
                <a:cubicBezTo>
                  <a:pt x="19582" y="10348"/>
                  <a:pt x="19554" y="10364"/>
                  <a:pt x="19670" y="10344"/>
                </a:cubicBezTo>
              </a:path>
              <a:path w="3424" h="2457">
                <a:moveTo>
                  <a:pt x="19720" y="9674"/>
                </a:moveTo>
                <a:cubicBezTo>
                  <a:pt x="19808" y="9633"/>
                  <a:pt x="19877" y="9612"/>
                  <a:pt x="19968" y="9599"/>
                </a:cubicBezTo>
              </a:path>
              <a:path w="3424" h="2457">
                <a:moveTo>
                  <a:pt x="19769" y="9599"/>
                </a:moveTo>
                <a:cubicBezTo>
                  <a:pt x="19706" y="9663"/>
                  <a:pt x="19639" y="9707"/>
                  <a:pt x="19621" y="9798"/>
                </a:cubicBezTo>
                <a:cubicBezTo>
                  <a:pt x="19607" y="9871"/>
                  <a:pt x="19675" y="9933"/>
                  <a:pt x="19745" y="9922"/>
                </a:cubicBezTo>
                <a:cubicBezTo>
                  <a:pt x="19802" y="9913"/>
                  <a:pt x="19844" y="9872"/>
                  <a:pt x="19918" y="9872"/>
                </a:cubicBezTo>
                <a:cubicBezTo>
                  <a:pt x="19989" y="9872"/>
                  <a:pt x="20010" y="9936"/>
                  <a:pt x="20042" y="9996"/>
                </a:cubicBezTo>
                <a:cubicBezTo>
                  <a:pt x="20088" y="10083"/>
                  <a:pt x="20092" y="10148"/>
                  <a:pt x="20092" y="10244"/>
                </a:cubicBezTo>
                <a:cubicBezTo>
                  <a:pt x="20092" y="10322"/>
                  <a:pt x="20068" y="10385"/>
                  <a:pt x="20017" y="10443"/>
                </a:cubicBezTo>
                <a:cubicBezTo>
                  <a:pt x="19969" y="10498"/>
                  <a:pt x="19941" y="10492"/>
                  <a:pt x="19869" y="10492"/>
                </a:cubicBezTo>
                <a:cubicBezTo>
                  <a:pt x="19770" y="10492"/>
                  <a:pt x="19756" y="10457"/>
                  <a:pt x="19745" y="10368"/>
                </a:cubicBezTo>
              </a:path>
              <a:path w="3424" h="2457">
                <a:moveTo>
                  <a:pt x="20241" y="9451"/>
                </a:moveTo>
                <a:cubicBezTo>
                  <a:pt x="20340" y="9451"/>
                  <a:pt x="20439" y="9451"/>
                  <a:pt x="20538" y="9451"/>
                </a:cubicBezTo>
              </a:path>
              <a:path w="3424" h="2457">
                <a:moveTo>
                  <a:pt x="20340" y="9699"/>
                </a:moveTo>
                <a:cubicBezTo>
                  <a:pt x="20410" y="9714"/>
                  <a:pt x="20446" y="9723"/>
                  <a:pt x="20513" y="9723"/>
                </a:cubicBezTo>
              </a:path>
              <a:path w="3424" h="2457">
                <a:moveTo>
                  <a:pt x="20662" y="8409"/>
                </a:moveTo>
                <a:cubicBezTo>
                  <a:pt x="20722" y="8373"/>
                  <a:pt x="20786" y="8384"/>
                  <a:pt x="20861" y="8384"/>
                </a:cubicBezTo>
                <a:cubicBezTo>
                  <a:pt x="20935" y="8384"/>
                  <a:pt x="21330" y="8340"/>
                  <a:pt x="21357" y="8409"/>
                </a:cubicBezTo>
                <a:cubicBezTo>
                  <a:pt x="21374" y="8452"/>
                  <a:pt x="21326" y="8570"/>
                  <a:pt x="21307" y="8607"/>
                </a:cubicBezTo>
                <a:cubicBezTo>
                  <a:pt x="21280" y="8660"/>
                  <a:pt x="21266" y="8743"/>
                  <a:pt x="21258" y="8806"/>
                </a:cubicBezTo>
                <a:cubicBezTo>
                  <a:pt x="21243" y="8926"/>
                  <a:pt x="21258" y="9057"/>
                  <a:pt x="21258" y="9178"/>
                </a:cubicBezTo>
              </a:path>
              <a:path w="3424" h="2457">
                <a:moveTo>
                  <a:pt x="20886" y="9376"/>
                </a:moveTo>
                <a:cubicBezTo>
                  <a:pt x="20962" y="9402"/>
                  <a:pt x="21027" y="9401"/>
                  <a:pt x="21109" y="9401"/>
                </a:cubicBezTo>
                <a:cubicBezTo>
                  <a:pt x="21199" y="9401"/>
                  <a:pt x="21271" y="9386"/>
                  <a:pt x="21357" y="9376"/>
                </a:cubicBezTo>
                <a:cubicBezTo>
                  <a:pt x="21456" y="9364"/>
                  <a:pt x="21554" y="9401"/>
                  <a:pt x="21654" y="9401"/>
                </a:cubicBezTo>
                <a:cubicBezTo>
                  <a:pt x="21712" y="9401"/>
                  <a:pt x="21733" y="9398"/>
                  <a:pt x="21779" y="9426"/>
                </a:cubicBezTo>
              </a:path>
              <a:path w="3424" h="2457">
                <a:moveTo>
                  <a:pt x="21158" y="9897"/>
                </a:moveTo>
                <a:cubicBezTo>
                  <a:pt x="21150" y="9914"/>
                  <a:pt x="21142" y="9930"/>
                  <a:pt x="21134" y="9947"/>
                </a:cubicBezTo>
                <a:cubicBezTo>
                  <a:pt x="21177" y="9922"/>
                  <a:pt x="21226" y="9839"/>
                  <a:pt x="21258" y="9823"/>
                </a:cubicBezTo>
                <a:cubicBezTo>
                  <a:pt x="21316" y="9794"/>
                  <a:pt x="21372" y="9863"/>
                  <a:pt x="21406" y="9897"/>
                </a:cubicBezTo>
                <a:cubicBezTo>
                  <a:pt x="21461" y="9952"/>
                  <a:pt x="21456" y="9998"/>
                  <a:pt x="21456" y="10071"/>
                </a:cubicBezTo>
                <a:cubicBezTo>
                  <a:pt x="21456" y="10169"/>
                  <a:pt x="21455" y="10258"/>
                  <a:pt x="21431" y="10344"/>
                </a:cubicBezTo>
                <a:cubicBezTo>
                  <a:pt x="21402" y="10449"/>
                  <a:pt x="21387" y="10482"/>
                  <a:pt x="21307" y="10542"/>
                </a:cubicBezTo>
                <a:cubicBezTo>
                  <a:pt x="21274" y="10567"/>
                  <a:pt x="21258" y="10609"/>
                  <a:pt x="21233" y="10641"/>
                </a:cubicBezTo>
                <a:cubicBezTo>
                  <a:pt x="21196" y="10595"/>
                  <a:pt x="21158" y="10532"/>
                  <a:pt x="21183" y="10468"/>
                </a:cubicBezTo>
                <a:cubicBezTo>
                  <a:pt x="21200" y="10424"/>
                  <a:pt x="21249" y="10348"/>
                  <a:pt x="21307" y="10368"/>
                </a:cubicBezTo>
                <a:cubicBezTo>
                  <a:pt x="21345" y="10381"/>
                  <a:pt x="21405" y="10433"/>
                  <a:pt x="21431" y="10468"/>
                </a:cubicBezTo>
                <a:cubicBezTo>
                  <a:pt x="21473" y="10525"/>
                  <a:pt x="21508" y="10589"/>
                  <a:pt x="21555" y="10641"/>
                </a:cubicBezTo>
                <a:cubicBezTo>
                  <a:pt x="21586" y="10676"/>
                  <a:pt x="21612" y="10705"/>
                  <a:pt x="21654" y="10716"/>
                </a:cubicBezTo>
              </a:path>
              <a:path w="3424" h="2457">
                <a:moveTo>
                  <a:pt x="21754" y="9971"/>
                </a:moveTo>
                <a:cubicBezTo>
                  <a:pt x="21845" y="9922"/>
                  <a:pt x="21875" y="9922"/>
                  <a:pt x="21977" y="9922"/>
                </a:cubicBezTo>
                <a:cubicBezTo>
                  <a:pt x="22035" y="9922"/>
                  <a:pt x="22093" y="9922"/>
                  <a:pt x="22151" y="9922"/>
                </a:cubicBezTo>
              </a:path>
              <a:path w="3424" h="2457">
                <a:moveTo>
                  <a:pt x="21803" y="9947"/>
                </a:moveTo>
                <a:cubicBezTo>
                  <a:pt x="21781" y="10003"/>
                  <a:pt x="21729" y="10080"/>
                  <a:pt x="21754" y="10145"/>
                </a:cubicBezTo>
                <a:cubicBezTo>
                  <a:pt x="21769" y="10185"/>
                  <a:pt x="21836" y="10234"/>
                  <a:pt x="21878" y="10220"/>
                </a:cubicBezTo>
                <a:cubicBezTo>
                  <a:pt x="21941" y="10199"/>
                  <a:pt x="21980" y="10177"/>
                  <a:pt x="22051" y="10220"/>
                </a:cubicBezTo>
                <a:cubicBezTo>
                  <a:pt x="22096" y="10247"/>
                  <a:pt x="22142" y="10241"/>
                  <a:pt x="22175" y="10294"/>
                </a:cubicBezTo>
                <a:cubicBezTo>
                  <a:pt x="22240" y="10396"/>
                  <a:pt x="22345" y="10569"/>
                  <a:pt x="22324" y="10691"/>
                </a:cubicBezTo>
                <a:cubicBezTo>
                  <a:pt x="22316" y="10741"/>
                  <a:pt x="22247" y="10804"/>
                  <a:pt x="22200" y="10815"/>
                </a:cubicBezTo>
                <a:cubicBezTo>
                  <a:pt x="22115" y="10835"/>
                  <a:pt x="22075" y="10781"/>
                  <a:pt x="22002" y="10765"/>
                </a:cubicBezTo>
                <a:cubicBezTo>
                  <a:pt x="21944" y="10752"/>
                  <a:pt x="21909" y="10743"/>
                  <a:pt x="21853" y="107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Ink 18"/>
          <p:cNvSpPr/>
          <p:nvPr/>
        </p:nvSpPr>
        <p:spPr>
          <a:xfrm>
            <a:off x="366840" y="2009880"/>
            <a:ext cx="1820880" cy="1312920"/>
          </a:xfrm>
          <a:custGeom>
            <a:avLst/>
            <a:gdLst/>
            <a:ahLst/>
            <a:rect l="l" t="t" r="r" b="b"/>
            <a:pathLst>
              <a:path w="5061" h="3647">
                <a:moveTo>
                  <a:pt x="1042" y="8855"/>
                </a:moveTo>
                <a:cubicBezTo>
                  <a:pt x="1098" y="8836"/>
                  <a:pt x="1088" y="8854"/>
                  <a:pt x="1141" y="8830"/>
                </a:cubicBezTo>
                <a:cubicBezTo>
                  <a:pt x="1193" y="8807"/>
                  <a:pt x="1236" y="8790"/>
                  <a:pt x="1290" y="8756"/>
                </a:cubicBezTo>
                <a:cubicBezTo>
                  <a:pt x="1334" y="8728"/>
                  <a:pt x="1371" y="8685"/>
                  <a:pt x="1414" y="8657"/>
                </a:cubicBezTo>
                <a:cubicBezTo>
                  <a:pt x="1465" y="8624"/>
                  <a:pt x="1514" y="8595"/>
                  <a:pt x="1563" y="8558"/>
                </a:cubicBezTo>
                <a:cubicBezTo>
                  <a:pt x="1631" y="8507"/>
                  <a:pt x="1691" y="8456"/>
                  <a:pt x="1761" y="8409"/>
                </a:cubicBezTo>
                <a:cubicBezTo>
                  <a:pt x="1844" y="8353"/>
                  <a:pt x="1928" y="8293"/>
                  <a:pt x="2009" y="8235"/>
                </a:cubicBezTo>
                <a:cubicBezTo>
                  <a:pt x="2082" y="8183"/>
                  <a:pt x="2150" y="8142"/>
                  <a:pt x="2232" y="8086"/>
                </a:cubicBezTo>
                <a:cubicBezTo>
                  <a:pt x="2314" y="8030"/>
                  <a:pt x="2394" y="7968"/>
                  <a:pt x="2480" y="7913"/>
                </a:cubicBezTo>
                <a:cubicBezTo>
                  <a:pt x="2563" y="7860"/>
                  <a:pt x="2647" y="7788"/>
                  <a:pt x="2729" y="7739"/>
                </a:cubicBezTo>
                <a:cubicBezTo>
                  <a:pt x="2896" y="7639"/>
                  <a:pt x="3067" y="7535"/>
                  <a:pt x="3225" y="7417"/>
                </a:cubicBezTo>
                <a:cubicBezTo>
                  <a:pt x="3339" y="7332"/>
                  <a:pt x="3459" y="7252"/>
                  <a:pt x="3572" y="7169"/>
                </a:cubicBezTo>
                <a:cubicBezTo>
                  <a:pt x="3664" y="7101"/>
                  <a:pt x="3753" y="7035"/>
                  <a:pt x="3845" y="6970"/>
                </a:cubicBezTo>
                <a:cubicBezTo>
                  <a:pt x="3947" y="6898"/>
                  <a:pt x="4042" y="6820"/>
                  <a:pt x="4142" y="6747"/>
                </a:cubicBezTo>
                <a:cubicBezTo>
                  <a:pt x="4272" y="6653"/>
                  <a:pt x="4406" y="6563"/>
                  <a:pt x="4539" y="6474"/>
                </a:cubicBezTo>
                <a:cubicBezTo>
                  <a:pt x="4640" y="6406"/>
                  <a:pt x="4745" y="6309"/>
                  <a:pt x="4837" y="6251"/>
                </a:cubicBezTo>
                <a:cubicBezTo>
                  <a:pt x="4946" y="6182"/>
                  <a:pt x="5050" y="6121"/>
                  <a:pt x="5159" y="6052"/>
                </a:cubicBezTo>
                <a:cubicBezTo>
                  <a:pt x="5245" y="5997"/>
                  <a:pt x="5325" y="5938"/>
                  <a:pt x="5407" y="5879"/>
                </a:cubicBezTo>
                <a:cubicBezTo>
                  <a:pt x="5518" y="5800"/>
                  <a:pt x="5633" y="5719"/>
                  <a:pt x="5755" y="5655"/>
                </a:cubicBezTo>
                <a:cubicBezTo>
                  <a:pt x="5812" y="5625"/>
                  <a:pt x="5875" y="5602"/>
                  <a:pt x="5928" y="5581"/>
                </a:cubicBezTo>
                <a:cubicBezTo>
                  <a:pt x="5945" y="5581"/>
                  <a:pt x="5961" y="5581"/>
                  <a:pt x="5978" y="5581"/>
                </a:cubicBezTo>
                <a:cubicBezTo>
                  <a:pt x="5978" y="5788"/>
                  <a:pt x="5993" y="6003"/>
                  <a:pt x="6003" y="6201"/>
                </a:cubicBezTo>
                <a:cubicBezTo>
                  <a:pt x="6010" y="6340"/>
                  <a:pt x="6023" y="6493"/>
                  <a:pt x="6028" y="6623"/>
                </a:cubicBezTo>
                <a:cubicBezTo>
                  <a:pt x="6035" y="6799"/>
                  <a:pt x="6011" y="6977"/>
                  <a:pt x="6003" y="7144"/>
                </a:cubicBezTo>
                <a:cubicBezTo>
                  <a:pt x="5988" y="7457"/>
                  <a:pt x="6014" y="7782"/>
                  <a:pt x="6028" y="8086"/>
                </a:cubicBezTo>
                <a:cubicBezTo>
                  <a:pt x="6033" y="8192"/>
                  <a:pt x="6039" y="8282"/>
                  <a:pt x="6052" y="8384"/>
                </a:cubicBezTo>
                <a:cubicBezTo>
                  <a:pt x="6063" y="8474"/>
                  <a:pt x="6073" y="8567"/>
                  <a:pt x="6077" y="8657"/>
                </a:cubicBezTo>
                <a:cubicBezTo>
                  <a:pt x="6085" y="8846"/>
                  <a:pt x="6077" y="9038"/>
                  <a:pt x="6077" y="9227"/>
                </a:cubicBezTo>
                <a:cubicBezTo>
                  <a:pt x="5983" y="9223"/>
                  <a:pt x="5896" y="9208"/>
                  <a:pt x="5804" y="9203"/>
                </a:cubicBezTo>
                <a:cubicBezTo>
                  <a:pt x="5672" y="9196"/>
                  <a:pt x="5535" y="9185"/>
                  <a:pt x="5407" y="9178"/>
                </a:cubicBezTo>
                <a:cubicBezTo>
                  <a:pt x="5218" y="9168"/>
                  <a:pt x="5023" y="9162"/>
                  <a:pt x="4837" y="9153"/>
                </a:cubicBezTo>
                <a:cubicBezTo>
                  <a:pt x="4587" y="9141"/>
                  <a:pt x="4340" y="9132"/>
                  <a:pt x="4093" y="9103"/>
                </a:cubicBezTo>
                <a:cubicBezTo>
                  <a:pt x="3961" y="9088"/>
                  <a:pt x="3828" y="9071"/>
                  <a:pt x="3696" y="9054"/>
                </a:cubicBezTo>
                <a:cubicBezTo>
                  <a:pt x="3564" y="9038"/>
                  <a:pt x="3432" y="9021"/>
                  <a:pt x="3299" y="9004"/>
                </a:cubicBezTo>
                <a:cubicBezTo>
                  <a:pt x="3167" y="8987"/>
                  <a:pt x="3034" y="8970"/>
                  <a:pt x="2902" y="8954"/>
                </a:cubicBezTo>
                <a:cubicBezTo>
                  <a:pt x="2779" y="8939"/>
                  <a:pt x="2653" y="8918"/>
                  <a:pt x="2530" y="8905"/>
                </a:cubicBezTo>
                <a:cubicBezTo>
                  <a:pt x="2391" y="8890"/>
                  <a:pt x="2247" y="8894"/>
                  <a:pt x="2108" y="8880"/>
                </a:cubicBezTo>
                <a:cubicBezTo>
                  <a:pt x="1950" y="8864"/>
                  <a:pt x="1798" y="8855"/>
                  <a:pt x="1637" y="8855"/>
                </a:cubicBezTo>
                <a:cubicBezTo>
                  <a:pt x="1542" y="8855"/>
                  <a:pt x="1423" y="8827"/>
                  <a:pt x="1339" y="8830"/>
                </a:cubicBezTo>
                <a:cubicBezTo>
                  <a:pt x="1259" y="8833"/>
                  <a:pt x="1246" y="8835"/>
                  <a:pt x="1166" y="88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Use the half angle formulas to find the value of Tan 105</a:t>
            </a:r>
            <a:r>
              <a:rPr b="0" lang="en-US" sz="4000" spc="-1" strike="noStrike">
                <a:solidFill>
                  <a:srgbClr val="ffff99"/>
                </a:solidFill>
                <a:latin typeface="Symbol"/>
                <a:ea typeface="Symbol"/>
              </a:rPr>
              <a:t>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99"/>
                </a:solidFill>
                <a:latin typeface="Tahoma"/>
              </a:rPr>
              <a:t>Homework:</a:t>
            </a:r>
            <a:br>
              <a:rPr sz="7000"/>
            </a:br>
            <a:r>
              <a:rPr b="0" lang="en-US" sz="7000" spc="-1" strike="noStrike">
                <a:solidFill>
                  <a:srgbClr val="ffff99"/>
                </a:solidFill>
                <a:latin typeface="Tahoma"/>
              </a:rPr>
              <a:t>Pages 418-419</a:t>
            </a:r>
            <a:br>
              <a:rPr sz="7000"/>
            </a:br>
            <a:r>
              <a:rPr b="0" lang="en-US" sz="7000" spc="-1" strike="noStrike">
                <a:solidFill>
                  <a:srgbClr val="ffff99"/>
                </a:solidFill>
                <a:latin typeface="Tahoma"/>
              </a:rPr>
              <a:t>#31,33,35,47,49</a:t>
            </a:r>
            <a:endParaRPr b="0" lang="en-US" sz="70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68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68" fill="hold"/>
                                        <p:tgtEl>
                                          <p:spTgt spid="4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68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68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2" name="Ink 3"/>
          <p:cNvSpPr/>
          <p:nvPr/>
        </p:nvSpPr>
        <p:spPr>
          <a:xfrm>
            <a:off x="750960" y="2125800"/>
            <a:ext cx="187200" cy="249120"/>
          </a:xfrm>
          <a:custGeom>
            <a:avLst/>
            <a:gdLst/>
            <a:ahLst/>
            <a:rect l="l" t="t" r="r" b="b"/>
            <a:pathLst>
              <a:path w="521" h="695">
                <a:moveTo>
                  <a:pt x="2208" y="6028"/>
                </a:moveTo>
                <a:cubicBezTo>
                  <a:pt x="2300" y="6001"/>
                  <a:pt x="2392" y="5978"/>
                  <a:pt x="2480" y="5953"/>
                </a:cubicBezTo>
                <a:cubicBezTo>
                  <a:pt x="2525" y="5940"/>
                  <a:pt x="2540" y="5914"/>
                  <a:pt x="2580" y="5904"/>
                </a:cubicBezTo>
              </a:path>
              <a:path w="521" h="695">
                <a:moveTo>
                  <a:pt x="2133" y="6152"/>
                </a:moveTo>
                <a:cubicBezTo>
                  <a:pt x="2117" y="6168"/>
                  <a:pt x="2100" y="6185"/>
                  <a:pt x="2084" y="6201"/>
                </a:cubicBezTo>
                <a:cubicBezTo>
                  <a:pt x="2162" y="6249"/>
                  <a:pt x="2214" y="6213"/>
                  <a:pt x="2307" y="6201"/>
                </a:cubicBezTo>
                <a:cubicBezTo>
                  <a:pt x="2397" y="6190"/>
                  <a:pt x="2485" y="6193"/>
                  <a:pt x="2555" y="6251"/>
                </a:cubicBezTo>
                <a:cubicBezTo>
                  <a:pt x="2617" y="6302"/>
                  <a:pt x="2612" y="6392"/>
                  <a:pt x="2555" y="6449"/>
                </a:cubicBezTo>
                <a:cubicBezTo>
                  <a:pt x="2484" y="6519"/>
                  <a:pt x="2401" y="6544"/>
                  <a:pt x="2307" y="6573"/>
                </a:cubicBezTo>
                <a:cubicBezTo>
                  <a:pt x="2249" y="6592"/>
                  <a:pt x="2243" y="6601"/>
                  <a:pt x="2208" y="65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Ink 4"/>
          <p:cNvSpPr/>
          <p:nvPr/>
        </p:nvSpPr>
        <p:spPr>
          <a:xfrm>
            <a:off x="3116160" y="1446120"/>
            <a:ext cx="1920960" cy="696960"/>
          </a:xfrm>
          <a:custGeom>
            <a:avLst/>
            <a:gdLst/>
            <a:ahLst/>
            <a:rect l="l" t="t" r="r" b="b"/>
            <a:pathLst>
              <a:path w="5334" h="1936">
                <a:moveTo>
                  <a:pt x="9103" y="5259"/>
                </a:moveTo>
                <a:cubicBezTo>
                  <a:pt x="9094" y="5197"/>
                  <a:pt x="9074" y="5160"/>
                  <a:pt x="9029" y="5110"/>
                </a:cubicBezTo>
                <a:cubicBezTo>
                  <a:pt x="8982" y="5058"/>
                  <a:pt x="8932" y="5016"/>
                  <a:pt x="8855" y="5035"/>
                </a:cubicBezTo>
                <a:cubicBezTo>
                  <a:pt x="8816" y="5045"/>
                  <a:pt x="8769" y="5175"/>
                  <a:pt x="8756" y="5209"/>
                </a:cubicBezTo>
                <a:cubicBezTo>
                  <a:pt x="8726" y="5285"/>
                  <a:pt x="8674" y="5378"/>
                  <a:pt x="8657" y="5457"/>
                </a:cubicBezTo>
                <a:cubicBezTo>
                  <a:pt x="8644" y="5519"/>
                  <a:pt x="8695" y="5611"/>
                  <a:pt x="8731" y="5655"/>
                </a:cubicBezTo>
                <a:cubicBezTo>
                  <a:pt x="8787" y="5723"/>
                  <a:pt x="8865" y="5744"/>
                  <a:pt x="8954" y="5730"/>
                </a:cubicBezTo>
                <a:cubicBezTo>
                  <a:pt x="8971" y="5722"/>
                  <a:pt x="8987" y="5713"/>
                  <a:pt x="9004" y="5705"/>
                </a:cubicBezTo>
              </a:path>
              <a:path w="5334" h="1936">
                <a:moveTo>
                  <a:pt x="9550" y="5159"/>
                </a:moveTo>
                <a:cubicBezTo>
                  <a:pt x="9502" y="5102"/>
                  <a:pt x="9451" y="5082"/>
                  <a:pt x="9376" y="5135"/>
                </a:cubicBezTo>
                <a:cubicBezTo>
                  <a:pt x="9351" y="5153"/>
                  <a:pt x="9275" y="5236"/>
                  <a:pt x="9277" y="5259"/>
                </a:cubicBezTo>
                <a:cubicBezTo>
                  <a:pt x="9282" y="5326"/>
                  <a:pt x="9359" y="5341"/>
                  <a:pt x="9401" y="5358"/>
                </a:cubicBezTo>
                <a:cubicBezTo>
                  <a:pt x="9479" y="5390"/>
                  <a:pt x="9517" y="5424"/>
                  <a:pt x="9575" y="5482"/>
                </a:cubicBezTo>
                <a:cubicBezTo>
                  <a:pt x="9506" y="5550"/>
                  <a:pt x="9462" y="5590"/>
                  <a:pt x="9376" y="5631"/>
                </a:cubicBezTo>
                <a:cubicBezTo>
                  <a:pt x="9320" y="5657"/>
                  <a:pt x="9204" y="5741"/>
                  <a:pt x="9203" y="5680"/>
                </a:cubicBezTo>
                <a:cubicBezTo>
                  <a:pt x="9211" y="5672"/>
                  <a:pt x="9219" y="5663"/>
                  <a:pt x="9227" y="5655"/>
                </a:cubicBezTo>
              </a:path>
              <a:path w="5334" h="1936">
                <a:moveTo>
                  <a:pt x="10145" y="5085"/>
                </a:moveTo>
                <a:cubicBezTo>
                  <a:pt x="10170" y="5110"/>
                  <a:pt x="10195" y="5135"/>
                  <a:pt x="10220" y="5159"/>
                </a:cubicBezTo>
                <a:cubicBezTo>
                  <a:pt x="10201" y="5127"/>
                  <a:pt x="10140" y="5032"/>
                  <a:pt x="10096" y="5035"/>
                </a:cubicBezTo>
                <a:cubicBezTo>
                  <a:pt x="9957" y="5044"/>
                  <a:pt x="9954" y="5150"/>
                  <a:pt x="9897" y="5234"/>
                </a:cubicBezTo>
                <a:cubicBezTo>
                  <a:pt x="9848" y="5307"/>
                  <a:pt x="9762" y="5356"/>
                  <a:pt x="9773" y="5457"/>
                </a:cubicBezTo>
                <a:cubicBezTo>
                  <a:pt x="9777" y="5491"/>
                  <a:pt x="9846" y="5587"/>
                  <a:pt x="9872" y="5606"/>
                </a:cubicBezTo>
                <a:cubicBezTo>
                  <a:pt x="9932" y="5649"/>
                  <a:pt x="9994" y="5673"/>
                  <a:pt x="10071" y="5655"/>
                </a:cubicBezTo>
                <a:cubicBezTo>
                  <a:pt x="10144" y="5619"/>
                  <a:pt x="10184" y="5602"/>
                  <a:pt x="10244" y="5581"/>
                </a:cubicBezTo>
              </a:path>
              <a:path w="5334" h="1936">
                <a:moveTo>
                  <a:pt x="10468" y="4986"/>
                </a:moveTo>
                <a:cubicBezTo>
                  <a:pt x="10528" y="4917"/>
                  <a:pt x="10582" y="4872"/>
                  <a:pt x="10691" y="4887"/>
                </a:cubicBezTo>
                <a:cubicBezTo>
                  <a:pt x="10760" y="4896"/>
                  <a:pt x="10856" y="4922"/>
                  <a:pt x="10840" y="5011"/>
                </a:cubicBezTo>
                <a:cubicBezTo>
                  <a:pt x="10820" y="5122"/>
                  <a:pt x="10733" y="5226"/>
                  <a:pt x="10666" y="5308"/>
                </a:cubicBezTo>
                <a:cubicBezTo>
                  <a:pt x="10620" y="5365"/>
                  <a:pt x="10537" y="5434"/>
                  <a:pt x="10517" y="5507"/>
                </a:cubicBezTo>
                <a:cubicBezTo>
                  <a:pt x="10501" y="5565"/>
                  <a:pt x="10516" y="5622"/>
                  <a:pt x="10567" y="5655"/>
                </a:cubicBezTo>
                <a:cubicBezTo>
                  <a:pt x="10623" y="5691"/>
                  <a:pt x="10677" y="5680"/>
                  <a:pt x="10740" y="5680"/>
                </a:cubicBezTo>
              </a:path>
              <a:path w="5334" h="1936">
                <a:moveTo>
                  <a:pt x="11162" y="4936"/>
                </a:moveTo>
                <a:cubicBezTo>
                  <a:pt x="11121" y="5050"/>
                  <a:pt x="11119" y="5148"/>
                  <a:pt x="11088" y="5259"/>
                </a:cubicBezTo>
                <a:cubicBezTo>
                  <a:pt x="11063" y="5349"/>
                  <a:pt x="11058" y="5393"/>
                  <a:pt x="11088" y="5482"/>
                </a:cubicBezTo>
                <a:cubicBezTo>
                  <a:pt x="11124" y="5588"/>
                  <a:pt x="11148" y="5629"/>
                  <a:pt x="11261" y="5655"/>
                </a:cubicBezTo>
                <a:cubicBezTo>
                  <a:pt x="11331" y="5671"/>
                  <a:pt x="11414" y="5622"/>
                  <a:pt x="11460" y="5581"/>
                </a:cubicBezTo>
                <a:cubicBezTo>
                  <a:pt x="11533" y="5515"/>
                  <a:pt x="11596" y="5477"/>
                  <a:pt x="11633" y="5383"/>
                </a:cubicBezTo>
                <a:cubicBezTo>
                  <a:pt x="11679" y="5265"/>
                  <a:pt x="11675" y="5231"/>
                  <a:pt x="11658" y="5110"/>
                </a:cubicBezTo>
                <a:cubicBezTo>
                  <a:pt x="11645" y="5016"/>
                  <a:pt x="11604" y="4950"/>
                  <a:pt x="11485" y="4936"/>
                </a:cubicBezTo>
                <a:cubicBezTo>
                  <a:pt x="11437" y="4960"/>
                  <a:pt x="11422" y="4968"/>
                  <a:pt x="11385" y="4961"/>
                </a:cubicBezTo>
              </a:path>
              <a:path w="5334" h="1936">
                <a:moveTo>
                  <a:pt x="11013" y="5283"/>
                </a:moveTo>
                <a:cubicBezTo>
                  <a:pt x="11116" y="5283"/>
                  <a:pt x="11209" y="5305"/>
                  <a:pt x="11311" y="5308"/>
                </a:cubicBezTo>
                <a:cubicBezTo>
                  <a:pt x="11444" y="5312"/>
                  <a:pt x="11573" y="5283"/>
                  <a:pt x="11708" y="5283"/>
                </a:cubicBezTo>
                <a:cubicBezTo>
                  <a:pt x="11791" y="5283"/>
                  <a:pt x="11807" y="5283"/>
                  <a:pt x="11857" y="5283"/>
                </a:cubicBezTo>
              </a:path>
              <a:path w="5334" h="1936">
                <a:moveTo>
                  <a:pt x="12204" y="5085"/>
                </a:moveTo>
                <a:cubicBezTo>
                  <a:pt x="12265" y="5059"/>
                  <a:pt x="12353" y="5039"/>
                  <a:pt x="12427" y="5035"/>
                </a:cubicBezTo>
                <a:cubicBezTo>
                  <a:pt x="12444" y="5035"/>
                  <a:pt x="12460" y="5035"/>
                  <a:pt x="12477" y="5035"/>
                </a:cubicBezTo>
              </a:path>
              <a:path w="5334" h="1936">
                <a:moveTo>
                  <a:pt x="12254" y="5308"/>
                </a:moveTo>
                <a:cubicBezTo>
                  <a:pt x="12404" y="5286"/>
                  <a:pt x="12497" y="5284"/>
                  <a:pt x="12626" y="5209"/>
                </a:cubicBezTo>
              </a:path>
              <a:path w="5334" h="1936">
                <a:moveTo>
                  <a:pt x="12750" y="4217"/>
                </a:moveTo>
                <a:cubicBezTo>
                  <a:pt x="12811" y="4173"/>
                  <a:pt x="12915" y="4082"/>
                  <a:pt x="12998" y="4068"/>
                </a:cubicBezTo>
                <a:cubicBezTo>
                  <a:pt x="13078" y="4054"/>
                  <a:pt x="13164" y="4123"/>
                  <a:pt x="13196" y="4192"/>
                </a:cubicBezTo>
                <a:cubicBezTo>
                  <a:pt x="13260" y="4333"/>
                  <a:pt x="13209" y="4454"/>
                  <a:pt x="13171" y="4589"/>
                </a:cubicBezTo>
                <a:cubicBezTo>
                  <a:pt x="13139" y="4702"/>
                  <a:pt x="13101" y="4755"/>
                  <a:pt x="12998" y="4812"/>
                </a:cubicBezTo>
                <a:cubicBezTo>
                  <a:pt x="12948" y="4840"/>
                  <a:pt x="12869" y="4891"/>
                  <a:pt x="12824" y="4812"/>
                </a:cubicBezTo>
                <a:cubicBezTo>
                  <a:pt x="12776" y="4728"/>
                  <a:pt x="12911" y="4613"/>
                  <a:pt x="12973" y="4589"/>
                </a:cubicBezTo>
                <a:cubicBezTo>
                  <a:pt x="13067" y="4553"/>
                  <a:pt x="13095" y="4608"/>
                  <a:pt x="13146" y="4663"/>
                </a:cubicBezTo>
                <a:cubicBezTo>
                  <a:pt x="13167" y="4686"/>
                  <a:pt x="13288" y="4790"/>
                  <a:pt x="13320" y="4787"/>
                </a:cubicBezTo>
                <a:cubicBezTo>
                  <a:pt x="13328" y="4779"/>
                  <a:pt x="13337" y="4770"/>
                  <a:pt x="13345" y="4762"/>
                </a:cubicBezTo>
              </a:path>
              <a:path w="5334" h="1936">
                <a:moveTo>
                  <a:pt x="13494" y="4018"/>
                </a:moveTo>
                <a:cubicBezTo>
                  <a:pt x="13552" y="4018"/>
                  <a:pt x="13821" y="4063"/>
                  <a:pt x="13891" y="4043"/>
                </a:cubicBezTo>
                <a:cubicBezTo>
                  <a:pt x="13899" y="4035"/>
                  <a:pt x="13907" y="4026"/>
                  <a:pt x="13915" y="4018"/>
                </a:cubicBezTo>
              </a:path>
              <a:path w="5334" h="1936">
                <a:moveTo>
                  <a:pt x="13444" y="4142"/>
                </a:moveTo>
                <a:cubicBezTo>
                  <a:pt x="13403" y="4235"/>
                  <a:pt x="13312" y="4400"/>
                  <a:pt x="13469" y="4465"/>
                </a:cubicBezTo>
                <a:cubicBezTo>
                  <a:pt x="13532" y="4491"/>
                  <a:pt x="13551" y="4416"/>
                  <a:pt x="13593" y="4390"/>
                </a:cubicBezTo>
                <a:cubicBezTo>
                  <a:pt x="13599" y="4386"/>
                  <a:pt x="13716" y="4291"/>
                  <a:pt x="13717" y="4291"/>
                </a:cubicBezTo>
                <a:cubicBezTo>
                  <a:pt x="13821" y="4303"/>
                  <a:pt x="13874" y="4422"/>
                  <a:pt x="13891" y="4514"/>
                </a:cubicBezTo>
                <a:cubicBezTo>
                  <a:pt x="13902" y="4576"/>
                  <a:pt x="13900" y="4666"/>
                  <a:pt x="13866" y="4713"/>
                </a:cubicBezTo>
                <a:cubicBezTo>
                  <a:pt x="13830" y="4763"/>
                  <a:pt x="13722" y="4781"/>
                  <a:pt x="13667" y="4787"/>
                </a:cubicBezTo>
                <a:cubicBezTo>
                  <a:pt x="13593" y="4787"/>
                  <a:pt x="13568" y="4787"/>
                  <a:pt x="13519" y="4787"/>
                </a:cubicBezTo>
              </a:path>
              <a:path w="5334" h="1936">
                <a:moveTo>
                  <a:pt x="12898" y="4911"/>
                </a:moveTo>
                <a:cubicBezTo>
                  <a:pt x="13010" y="4911"/>
                  <a:pt x="13113" y="4897"/>
                  <a:pt x="13221" y="4887"/>
                </a:cubicBezTo>
                <a:cubicBezTo>
                  <a:pt x="13358" y="4875"/>
                  <a:pt x="13508" y="4883"/>
                  <a:pt x="13643" y="4862"/>
                </a:cubicBezTo>
                <a:cubicBezTo>
                  <a:pt x="13727" y="4849"/>
                  <a:pt x="13862" y="4867"/>
                  <a:pt x="13940" y="4837"/>
                </a:cubicBezTo>
                <a:cubicBezTo>
                  <a:pt x="13948" y="4829"/>
                  <a:pt x="13957" y="4820"/>
                  <a:pt x="13965" y="4812"/>
                </a:cubicBezTo>
              </a:path>
              <a:path w="5334" h="1936">
                <a:moveTo>
                  <a:pt x="13196" y="5234"/>
                </a:moveTo>
                <a:cubicBezTo>
                  <a:pt x="13128" y="5302"/>
                  <a:pt x="13238" y="5197"/>
                  <a:pt x="13246" y="5184"/>
                </a:cubicBezTo>
                <a:cubicBezTo>
                  <a:pt x="13288" y="5120"/>
                  <a:pt x="13290" y="5090"/>
                  <a:pt x="13370" y="5085"/>
                </a:cubicBezTo>
                <a:cubicBezTo>
                  <a:pt x="13488" y="5078"/>
                  <a:pt x="13469" y="5201"/>
                  <a:pt x="13469" y="5283"/>
                </a:cubicBezTo>
                <a:cubicBezTo>
                  <a:pt x="13469" y="5428"/>
                  <a:pt x="13452" y="5478"/>
                  <a:pt x="13395" y="5606"/>
                </a:cubicBezTo>
                <a:cubicBezTo>
                  <a:pt x="13363" y="5678"/>
                  <a:pt x="13348" y="5744"/>
                  <a:pt x="13295" y="5804"/>
                </a:cubicBezTo>
                <a:cubicBezTo>
                  <a:pt x="13271" y="5832"/>
                  <a:pt x="13199" y="5885"/>
                  <a:pt x="13171" y="5879"/>
                </a:cubicBezTo>
                <a:cubicBezTo>
                  <a:pt x="13102" y="5865"/>
                  <a:pt x="13077" y="5732"/>
                  <a:pt x="13072" y="5680"/>
                </a:cubicBezTo>
                <a:cubicBezTo>
                  <a:pt x="13064" y="5603"/>
                  <a:pt x="13117" y="5544"/>
                  <a:pt x="13196" y="5556"/>
                </a:cubicBezTo>
                <a:cubicBezTo>
                  <a:pt x="13243" y="5563"/>
                  <a:pt x="13347" y="5663"/>
                  <a:pt x="13370" y="5705"/>
                </a:cubicBezTo>
                <a:cubicBezTo>
                  <a:pt x="13409" y="5777"/>
                  <a:pt x="13399" y="5872"/>
                  <a:pt x="13469" y="5854"/>
                </a:cubicBezTo>
              </a:path>
              <a:path w="5334" h="1936">
                <a:moveTo>
                  <a:pt x="13543" y="5259"/>
                </a:moveTo>
                <a:cubicBezTo>
                  <a:pt x="13549" y="5305"/>
                  <a:pt x="13562" y="5412"/>
                  <a:pt x="13618" y="5432"/>
                </a:cubicBezTo>
                <a:cubicBezTo>
                  <a:pt x="13682" y="5455"/>
                  <a:pt x="13781" y="5381"/>
                  <a:pt x="13841" y="5358"/>
                </a:cubicBezTo>
              </a:path>
              <a:path w="5334" h="1936">
                <a:moveTo>
                  <a:pt x="13891" y="4936"/>
                </a:moveTo>
                <a:cubicBezTo>
                  <a:pt x="13875" y="5117"/>
                  <a:pt x="13844" y="5323"/>
                  <a:pt x="13866" y="5507"/>
                </a:cubicBezTo>
                <a:cubicBezTo>
                  <a:pt x="13880" y="5625"/>
                  <a:pt x="13895" y="5743"/>
                  <a:pt x="13940" y="5854"/>
                </a:cubicBezTo>
                <a:cubicBezTo>
                  <a:pt x="13965" y="5904"/>
                  <a:pt x="13973" y="5920"/>
                  <a:pt x="13990" y="59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Ink 5"/>
          <p:cNvSpPr/>
          <p:nvPr/>
        </p:nvSpPr>
        <p:spPr>
          <a:xfrm>
            <a:off x="490680" y="1482840"/>
            <a:ext cx="1751040" cy="1901880"/>
          </a:xfrm>
          <a:custGeom>
            <a:avLst/>
            <a:gdLst/>
            <a:ahLst/>
            <a:rect l="l" t="t" r="r" b="b"/>
            <a:pathLst>
              <a:path w="4863" h="5284">
                <a:moveTo>
                  <a:pt x="1364" y="8359"/>
                </a:moveTo>
                <a:cubicBezTo>
                  <a:pt x="1389" y="8315"/>
                  <a:pt x="1406" y="8262"/>
                  <a:pt x="1439" y="8210"/>
                </a:cubicBezTo>
                <a:cubicBezTo>
                  <a:pt x="1534" y="8063"/>
                  <a:pt x="1649" y="7925"/>
                  <a:pt x="1761" y="7789"/>
                </a:cubicBezTo>
                <a:cubicBezTo>
                  <a:pt x="1899" y="7623"/>
                  <a:pt x="2037" y="7452"/>
                  <a:pt x="2183" y="7293"/>
                </a:cubicBezTo>
                <a:cubicBezTo>
                  <a:pt x="2427" y="7027"/>
                  <a:pt x="2662" y="6747"/>
                  <a:pt x="2902" y="6474"/>
                </a:cubicBezTo>
                <a:cubicBezTo>
                  <a:pt x="3068" y="6285"/>
                  <a:pt x="3235" y="6095"/>
                  <a:pt x="3398" y="5904"/>
                </a:cubicBezTo>
                <a:cubicBezTo>
                  <a:pt x="3600" y="5668"/>
                  <a:pt x="3814" y="5442"/>
                  <a:pt x="4018" y="5209"/>
                </a:cubicBezTo>
                <a:cubicBezTo>
                  <a:pt x="4165" y="5041"/>
                  <a:pt x="4316" y="4879"/>
                  <a:pt x="4465" y="4713"/>
                </a:cubicBezTo>
                <a:cubicBezTo>
                  <a:pt x="4597" y="4566"/>
                  <a:pt x="4728" y="4436"/>
                  <a:pt x="4887" y="4316"/>
                </a:cubicBezTo>
                <a:cubicBezTo>
                  <a:pt x="4956" y="4264"/>
                  <a:pt x="5020" y="4185"/>
                  <a:pt x="5085" y="4142"/>
                </a:cubicBezTo>
                <a:cubicBezTo>
                  <a:pt x="5130" y="4142"/>
                  <a:pt x="5143" y="4146"/>
                  <a:pt x="5159" y="4118"/>
                </a:cubicBezTo>
                <a:cubicBezTo>
                  <a:pt x="5185" y="4227"/>
                  <a:pt x="5207" y="4314"/>
                  <a:pt x="5209" y="4440"/>
                </a:cubicBezTo>
                <a:cubicBezTo>
                  <a:pt x="5214" y="4744"/>
                  <a:pt x="5211" y="5034"/>
                  <a:pt x="5259" y="5333"/>
                </a:cubicBezTo>
                <a:cubicBezTo>
                  <a:pt x="5306" y="5624"/>
                  <a:pt x="5375" y="5909"/>
                  <a:pt x="5407" y="6201"/>
                </a:cubicBezTo>
                <a:cubicBezTo>
                  <a:pt x="5427" y="6383"/>
                  <a:pt x="5423" y="6566"/>
                  <a:pt x="5457" y="6747"/>
                </a:cubicBezTo>
                <a:cubicBezTo>
                  <a:pt x="5486" y="6897"/>
                  <a:pt x="5510" y="7043"/>
                  <a:pt x="5531" y="7193"/>
                </a:cubicBezTo>
                <a:cubicBezTo>
                  <a:pt x="5552" y="7343"/>
                  <a:pt x="5560" y="7491"/>
                  <a:pt x="5581" y="7640"/>
                </a:cubicBezTo>
                <a:cubicBezTo>
                  <a:pt x="5593" y="7729"/>
                  <a:pt x="5617" y="7821"/>
                  <a:pt x="5606" y="7913"/>
                </a:cubicBezTo>
                <a:cubicBezTo>
                  <a:pt x="5593" y="8021"/>
                  <a:pt x="5539" y="8046"/>
                  <a:pt x="5457" y="8086"/>
                </a:cubicBezTo>
                <a:cubicBezTo>
                  <a:pt x="5395" y="8116"/>
                  <a:pt x="5252" y="8107"/>
                  <a:pt x="5184" y="8111"/>
                </a:cubicBezTo>
                <a:cubicBezTo>
                  <a:pt x="5017" y="8122"/>
                  <a:pt x="4857" y="8134"/>
                  <a:pt x="4688" y="8136"/>
                </a:cubicBezTo>
                <a:cubicBezTo>
                  <a:pt x="4513" y="8138"/>
                  <a:pt x="4339" y="8156"/>
                  <a:pt x="4167" y="8161"/>
                </a:cubicBezTo>
                <a:cubicBezTo>
                  <a:pt x="3976" y="8167"/>
                  <a:pt x="3786" y="8165"/>
                  <a:pt x="3597" y="8186"/>
                </a:cubicBezTo>
                <a:cubicBezTo>
                  <a:pt x="3343" y="8214"/>
                  <a:pt x="3083" y="8241"/>
                  <a:pt x="2828" y="8260"/>
                </a:cubicBezTo>
                <a:cubicBezTo>
                  <a:pt x="2596" y="8277"/>
                  <a:pt x="2365" y="8285"/>
                  <a:pt x="2133" y="8310"/>
                </a:cubicBezTo>
                <a:cubicBezTo>
                  <a:pt x="2001" y="8324"/>
                  <a:pt x="1868" y="8321"/>
                  <a:pt x="1736" y="8334"/>
                </a:cubicBezTo>
                <a:cubicBezTo>
                  <a:pt x="1651" y="8343"/>
                  <a:pt x="1574" y="8365"/>
                  <a:pt x="1488" y="8359"/>
                </a:cubicBezTo>
                <a:cubicBezTo>
                  <a:pt x="1444" y="8359"/>
                  <a:pt x="1424" y="8362"/>
                  <a:pt x="1463" y="8334"/>
                </a:cubicBezTo>
              </a:path>
              <a:path w="4863" h="5284">
                <a:moveTo>
                  <a:pt x="2084" y="7689"/>
                </a:moveTo>
                <a:cubicBezTo>
                  <a:pt x="2046" y="7748"/>
                  <a:pt x="1972" y="7840"/>
                  <a:pt x="1960" y="7913"/>
                </a:cubicBezTo>
                <a:cubicBezTo>
                  <a:pt x="1942" y="8017"/>
                  <a:pt x="1915" y="8109"/>
                  <a:pt x="2009" y="8186"/>
                </a:cubicBezTo>
                <a:cubicBezTo>
                  <a:pt x="2074" y="8239"/>
                  <a:pt x="2173" y="8207"/>
                  <a:pt x="2232" y="8161"/>
                </a:cubicBezTo>
                <a:cubicBezTo>
                  <a:pt x="2305" y="8104"/>
                  <a:pt x="2339" y="8069"/>
                  <a:pt x="2381" y="7987"/>
                </a:cubicBezTo>
                <a:cubicBezTo>
                  <a:pt x="2417" y="7915"/>
                  <a:pt x="2413" y="7861"/>
                  <a:pt x="2381" y="7789"/>
                </a:cubicBezTo>
                <a:cubicBezTo>
                  <a:pt x="2347" y="7713"/>
                  <a:pt x="2292" y="7681"/>
                  <a:pt x="2208" y="7665"/>
                </a:cubicBezTo>
                <a:cubicBezTo>
                  <a:pt x="2124" y="7649"/>
                  <a:pt x="2077" y="7675"/>
                  <a:pt x="2009" y="7714"/>
                </a:cubicBezTo>
              </a:path>
              <a:path w="4863" h="5284">
                <a:moveTo>
                  <a:pt x="1960" y="7888"/>
                </a:moveTo>
                <a:cubicBezTo>
                  <a:pt x="2053" y="7908"/>
                  <a:pt x="2160" y="7930"/>
                  <a:pt x="2257" y="7913"/>
                </a:cubicBezTo>
                <a:cubicBezTo>
                  <a:pt x="2352" y="7897"/>
                  <a:pt x="2430" y="7888"/>
                  <a:pt x="2530" y="7888"/>
                </a:cubicBezTo>
              </a:path>
              <a:path w="4863" h="5284">
                <a:moveTo>
                  <a:pt x="5755" y="6127"/>
                </a:moveTo>
                <a:cubicBezTo>
                  <a:pt x="5843" y="6076"/>
                  <a:pt x="5897" y="6077"/>
                  <a:pt x="6003" y="6077"/>
                </a:cubicBezTo>
                <a:cubicBezTo>
                  <a:pt x="6036" y="6077"/>
                  <a:pt x="6180" y="6092"/>
                  <a:pt x="6176" y="6152"/>
                </a:cubicBezTo>
                <a:cubicBezTo>
                  <a:pt x="6172" y="6218"/>
                  <a:pt x="6075" y="6274"/>
                  <a:pt x="6028" y="6300"/>
                </a:cubicBezTo>
                <a:cubicBezTo>
                  <a:pt x="5972" y="6331"/>
                  <a:pt x="5913" y="6342"/>
                  <a:pt x="5854" y="6350"/>
                </a:cubicBezTo>
                <a:cubicBezTo>
                  <a:pt x="5941" y="6417"/>
                  <a:pt x="6038" y="6457"/>
                  <a:pt x="6127" y="6524"/>
                </a:cubicBezTo>
                <a:cubicBezTo>
                  <a:pt x="6170" y="6556"/>
                  <a:pt x="6251" y="6634"/>
                  <a:pt x="6226" y="6697"/>
                </a:cubicBezTo>
                <a:cubicBezTo>
                  <a:pt x="6188" y="6793"/>
                  <a:pt x="6117" y="6815"/>
                  <a:pt x="6028" y="6846"/>
                </a:cubicBezTo>
                <a:cubicBezTo>
                  <a:pt x="5936" y="6877"/>
                  <a:pt x="5894" y="6892"/>
                  <a:pt x="5829" y="6921"/>
                </a:cubicBezTo>
              </a:path>
              <a:path w="4863" h="5284">
                <a:moveTo>
                  <a:pt x="3299" y="8657"/>
                </a:moveTo>
                <a:cubicBezTo>
                  <a:pt x="3320" y="8761"/>
                  <a:pt x="3368" y="8799"/>
                  <a:pt x="3497" y="8781"/>
                </a:cubicBezTo>
                <a:cubicBezTo>
                  <a:pt x="3522" y="8773"/>
                  <a:pt x="3547" y="8764"/>
                  <a:pt x="3572" y="8756"/>
                </a:cubicBezTo>
              </a:path>
              <a:path w="4863" h="5284">
                <a:moveTo>
                  <a:pt x="3696" y="8359"/>
                </a:moveTo>
                <a:cubicBezTo>
                  <a:pt x="3684" y="8466"/>
                  <a:pt x="3662" y="8575"/>
                  <a:pt x="3646" y="8682"/>
                </a:cubicBezTo>
                <a:cubicBezTo>
                  <a:pt x="3623" y="8839"/>
                  <a:pt x="3597" y="8967"/>
                  <a:pt x="3597" y="9128"/>
                </a:cubicBezTo>
                <a:cubicBezTo>
                  <a:pt x="3597" y="9219"/>
                  <a:pt x="3597" y="9310"/>
                  <a:pt x="3597" y="94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Ink 6"/>
          <p:cNvSpPr/>
          <p:nvPr/>
        </p:nvSpPr>
        <p:spPr>
          <a:xfrm>
            <a:off x="2938320" y="2554200"/>
            <a:ext cx="3616560" cy="393840"/>
          </a:xfrm>
          <a:custGeom>
            <a:avLst/>
            <a:gdLst/>
            <a:ahLst/>
            <a:rect l="l" t="t" r="r" b="b"/>
            <a:pathLst>
              <a:path w="10047" h="1093">
                <a:moveTo>
                  <a:pt x="8558" y="7441"/>
                </a:moveTo>
                <a:cubicBezTo>
                  <a:pt x="8558" y="7329"/>
                  <a:pt x="8552" y="7304"/>
                  <a:pt x="8434" y="7293"/>
                </a:cubicBezTo>
                <a:cubicBezTo>
                  <a:pt x="8352" y="7285"/>
                  <a:pt x="8279" y="7294"/>
                  <a:pt x="8210" y="7342"/>
                </a:cubicBezTo>
                <a:cubicBezTo>
                  <a:pt x="8147" y="7386"/>
                  <a:pt x="8151" y="7458"/>
                  <a:pt x="8186" y="7516"/>
                </a:cubicBezTo>
                <a:cubicBezTo>
                  <a:pt x="8222" y="7576"/>
                  <a:pt x="8408" y="7635"/>
                  <a:pt x="8458" y="7665"/>
                </a:cubicBezTo>
                <a:cubicBezTo>
                  <a:pt x="8525" y="7705"/>
                  <a:pt x="8627" y="7761"/>
                  <a:pt x="8657" y="7838"/>
                </a:cubicBezTo>
                <a:cubicBezTo>
                  <a:pt x="8680" y="7897"/>
                  <a:pt x="8609" y="7977"/>
                  <a:pt x="8558" y="7987"/>
                </a:cubicBezTo>
                <a:cubicBezTo>
                  <a:pt x="8483" y="8002"/>
                  <a:pt x="8356" y="7965"/>
                  <a:pt x="8285" y="7938"/>
                </a:cubicBezTo>
                <a:cubicBezTo>
                  <a:pt x="8206" y="7908"/>
                  <a:pt x="8172" y="7891"/>
                  <a:pt x="8161" y="7813"/>
                </a:cubicBezTo>
              </a:path>
              <a:path w="10047" h="1093">
                <a:moveTo>
                  <a:pt x="8954" y="7615"/>
                </a:moveTo>
                <a:cubicBezTo>
                  <a:pt x="8968" y="7720"/>
                  <a:pt x="8998" y="7819"/>
                  <a:pt x="9004" y="7913"/>
                </a:cubicBezTo>
                <a:cubicBezTo>
                  <a:pt x="9004" y="7957"/>
                  <a:pt x="9007" y="7977"/>
                  <a:pt x="8979" y="7938"/>
                </a:cubicBezTo>
              </a:path>
              <a:path w="10047" h="1093">
                <a:moveTo>
                  <a:pt x="8979" y="7094"/>
                </a:moveTo>
                <a:lnTo>
                  <a:pt x="8979" y="7094"/>
                </a:lnTo>
              </a:path>
              <a:path w="10047" h="1093">
                <a:moveTo>
                  <a:pt x="9302" y="7813"/>
                </a:moveTo>
                <a:cubicBezTo>
                  <a:pt x="9302" y="7952"/>
                  <a:pt x="9302" y="7952"/>
                  <a:pt x="9302" y="7813"/>
                </a:cubicBezTo>
                <a:cubicBezTo>
                  <a:pt x="9302" y="7717"/>
                  <a:pt x="9312" y="7652"/>
                  <a:pt x="9327" y="7565"/>
                </a:cubicBezTo>
                <a:cubicBezTo>
                  <a:pt x="9336" y="7511"/>
                  <a:pt x="9340" y="7446"/>
                  <a:pt x="9401" y="7417"/>
                </a:cubicBezTo>
                <a:cubicBezTo>
                  <a:pt x="9525" y="7358"/>
                  <a:pt x="9551" y="7439"/>
                  <a:pt x="9624" y="7516"/>
                </a:cubicBezTo>
                <a:cubicBezTo>
                  <a:pt x="9697" y="7593"/>
                  <a:pt x="9711" y="7688"/>
                  <a:pt x="9723" y="7789"/>
                </a:cubicBezTo>
                <a:cubicBezTo>
                  <a:pt x="9732" y="7867"/>
                  <a:pt x="9709" y="7923"/>
                  <a:pt x="9748" y="7987"/>
                </a:cubicBezTo>
              </a:path>
              <a:path w="10047" h="1093">
                <a:moveTo>
                  <a:pt x="9922" y="7293"/>
                </a:moveTo>
                <a:cubicBezTo>
                  <a:pt x="10008" y="7247"/>
                  <a:pt x="10109" y="7159"/>
                  <a:pt x="10195" y="7268"/>
                </a:cubicBezTo>
                <a:cubicBezTo>
                  <a:pt x="10259" y="7349"/>
                  <a:pt x="10232" y="7404"/>
                  <a:pt x="10195" y="7491"/>
                </a:cubicBezTo>
                <a:cubicBezTo>
                  <a:pt x="10163" y="7565"/>
                  <a:pt x="10125" y="7656"/>
                  <a:pt x="10071" y="7714"/>
                </a:cubicBezTo>
                <a:cubicBezTo>
                  <a:pt x="10009" y="7780"/>
                  <a:pt x="9967" y="7825"/>
                  <a:pt x="10021" y="7913"/>
                </a:cubicBezTo>
                <a:cubicBezTo>
                  <a:pt x="10055" y="7968"/>
                  <a:pt x="10106" y="7997"/>
                  <a:pt x="10170" y="7987"/>
                </a:cubicBezTo>
                <a:cubicBezTo>
                  <a:pt x="10237" y="7964"/>
                  <a:pt x="10255" y="7959"/>
                  <a:pt x="10294" y="7938"/>
                </a:cubicBezTo>
              </a:path>
              <a:path w="10047" h="1093">
                <a:moveTo>
                  <a:pt x="10740" y="7243"/>
                </a:moveTo>
                <a:cubicBezTo>
                  <a:pt x="10682" y="7400"/>
                  <a:pt x="10648" y="7502"/>
                  <a:pt x="10641" y="7665"/>
                </a:cubicBezTo>
                <a:cubicBezTo>
                  <a:pt x="10638" y="7747"/>
                  <a:pt x="10645" y="7812"/>
                  <a:pt x="10666" y="7888"/>
                </a:cubicBezTo>
                <a:cubicBezTo>
                  <a:pt x="10696" y="7996"/>
                  <a:pt x="10724" y="8033"/>
                  <a:pt x="10840" y="8037"/>
                </a:cubicBezTo>
                <a:cubicBezTo>
                  <a:pt x="11022" y="8044"/>
                  <a:pt x="10990" y="7991"/>
                  <a:pt x="11088" y="7888"/>
                </a:cubicBezTo>
                <a:cubicBezTo>
                  <a:pt x="11176" y="7795"/>
                  <a:pt x="11180" y="7791"/>
                  <a:pt x="11212" y="7665"/>
                </a:cubicBezTo>
                <a:cubicBezTo>
                  <a:pt x="11240" y="7553"/>
                  <a:pt x="11211" y="7484"/>
                  <a:pt x="11137" y="7392"/>
                </a:cubicBezTo>
                <a:cubicBezTo>
                  <a:pt x="11072" y="7312"/>
                  <a:pt x="11016" y="7273"/>
                  <a:pt x="10914" y="7268"/>
                </a:cubicBezTo>
                <a:cubicBezTo>
                  <a:pt x="10839" y="7264"/>
                  <a:pt x="10765" y="7286"/>
                  <a:pt x="10691" y="7293"/>
                </a:cubicBezTo>
              </a:path>
              <a:path w="10047" h="1093">
                <a:moveTo>
                  <a:pt x="10393" y="7640"/>
                </a:moveTo>
                <a:cubicBezTo>
                  <a:pt x="10552" y="7674"/>
                  <a:pt x="10699" y="7686"/>
                  <a:pt x="10864" y="7689"/>
                </a:cubicBezTo>
                <a:cubicBezTo>
                  <a:pt x="11029" y="7692"/>
                  <a:pt x="11195" y="7689"/>
                  <a:pt x="11361" y="7689"/>
                </a:cubicBezTo>
              </a:path>
              <a:path w="10047" h="1093">
                <a:moveTo>
                  <a:pt x="11708" y="7590"/>
                </a:moveTo>
                <a:cubicBezTo>
                  <a:pt x="11821" y="7615"/>
                  <a:pt x="11895" y="7634"/>
                  <a:pt x="12005" y="7615"/>
                </a:cubicBezTo>
              </a:path>
              <a:path w="10047" h="1093">
                <a:moveTo>
                  <a:pt x="11757" y="7764"/>
                </a:moveTo>
                <a:cubicBezTo>
                  <a:pt x="11848" y="7787"/>
                  <a:pt x="11937" y="7803"/>
                  <a:pt x="12030" y="7813"/>
                </a:cubicBezTo>
              </a:path>
              <a:path w="10047" h="1093">
                <a:moveTo>
                  <a:pt x="12601" y="7268"/>
                </a:moveTo>
                <a:cubicBezTo>
                  <a:pt x="12631" y="7318"/>
                  <a:pt x="12621" y="7366"/>
                  <a:pt x="12650" y="7417"/>
                </a:cubicBezTo>
                <a:cubicBezTo>
                  <a:pt x="12707" y="7360"/>
                  <a:pt x="12767" y="7267"/>
                  <a:pt x="12824" y="7218"/>
                </a:cubicBezTo>
                <a:cubicBezTo>
                  <a:pt x="12874" y="7175"/>
                  <a:pt x="12917" y="7137"/>
                  <a:pt x="12973" y="7169"/>
                </a:cubicBezTo>
                <a:cubicBezTo>
                  <a:pt x="13022" y="7197"/>
                  <a:pt x="13066" y="7367"/>
                  <a:pt x="13072" y="7417"/>
                </a:cubicBezTo>
                <a:cubicBezTo>
                  <a:pt x="13093" y="7595"/>
                  <a:pt x="12986" y="7724"/>
                  <a:pt x="12948" y="7888"/>
                </a:cubicBezTo>
                <a:cubicBezTo>
                  <a:pt x="12929" y="7971"/>
                  <a:pt x="12920" y="8049"/>
                  <a:pt x="12824" y="8086"/>
                </a:cubicBezTo>
                <a:cubicBezTo>
                  <a:pt x="12733" y="8121"/>
                  <a:pt x="12708" y="8016"/>
                  <a:pt x="12675" y="7962"/>
                </a:cubicBezTo>
                <a:cubicBezTo>
                  <a:pt x="12633" y="7899"/>
                  <a:pt x="12617" y="7887"/>
                  <a:pt x="12626" y="7838"/>
                </a:cubicBezTo>
                <a:cubicBezTo>
                  <a:pt x="12733" y="7811"/>
                  <a:pt x="12714" y="7853"/>
                  <a:pt x="12799" y="7913"/>
                </a:cubicBezTo>
                <a:cubicBezTo>
                  <a:pt x="12832" y="7936"/>
                  <a:pt x="12928" y="8040"/>
                  <a:pt x="12973" y="8037"/>
                </a:cubicBezTo>
                <a:cubicBezTo>
                  <a:pt x="12989" y="8029"/>
                  <a:pt x="13006" y="8020"/>
                  <a:pt x="13022" y="8012"/>
                </a:cubicBezTo>
              </a:path>
              <a:path w="10047" h="1093">
                <a:moveTo>
                  <a:pt x="13643" y="7541"/>
                </a:moveTo>
                <a:cubicBezTo>
                  <a:pt x="13516" y="7556"/>
                  <a:pt x="13365" y="7534"/>
                  <a:pt x="13320" y="7640"/>
                </a:cubicBezTo>
                <a:cubicBezTo>
                  <a:pt x="13396" y="7678"/>
                  <a:pt x="13457" y="7706"/>
                  <a:pt x="13519" y="7764"/>
                </a:cubicBezTo>
                <a:cubicBezTo>
                  <a:pt x="13593" y="7834"/>
                  <a:pt x="13709" y="7897"/>
                  <a:pt x="13643" y="8012"/>
                </a:cubicBezTo>
                <a:cubicBezTo>
                  <a:pt x="13608" y="8073"/>
                  <a:pt x="13499" y="8062"/>
                  <a:pt x="13444" y="8062"/>
                </a:cubicBezTo>
                <a:cubicBezTo>
                  <a:pt x="13338" y="8062"/>
                  <a:pt x="13329" y="8030"/>
                  <a:pt x="13320" y="7938"/>
                </a:cubicBezTo>
              </a:path>
              <a:path w="10047" h="1093">
                <a:moveTo>
                  <a:pt x="13891" y="7689"/>
                </a:moveTo>
                <a:cubicBezTo>
                  <a:pt x="13916" y="7785"/>
                  <a:pt x="13940" y="7864"/>
                  <a:pt x="13940" y="7962"/>
                </a:cubicBezTo>
                <a:cubicBezTo>
                  <a:pt x="13940" y="7979"/>
                  <a:pt x="13940" y="7995"/>
                  <a:pt x="13940" y="8012"/>
                </a:cubicBezTo>
              </a:path>
              <a:path w="10047" h="1093">
                <a:moveTo>
                  <a:pt x="13965" y="7293"/>
                </a:moveTo>
                <a:cubicBezTo>
                  <a:pt x="14010" y="7293"/>
                  <a:pt x="14023" y="7289"/>
                  <a:pt x="14039" y="7317"/>
                </a:cubicBezTo>
              </a:path>
              <a:path w="10047" h="1093">
                <a:moveTo>
                  <a:pt x="14139" y="7863"/>
                </a:moveTo>
                <a:cubicBezTo>
                  <a:pt x="14164" y="7913"/>
                  <a:pt x="14188" y="7962"/>
                  <a:pt x="14213" y="8012"/>
                </a:cubicBezTo>
                <a:cubicBezTo>
                  <a:pt x="14213" y="7903"/>
                  <a:pt x="14223" y="7840"/>
                  <a:pt x="14263" y="7739"/>
                </a:cubicBezTo>
                <a:cubicBezTo>
                  <a:pt x="14288" y="7677"/>
                  <a:pt x="14366" y="7628"/>
                  <a:pt x="14436" y="7640"/>
                </a:cubicBezTo>
                <a:cubicBezTo>
                  <a:pt x="14567" y="7663"/>
                  <a:pt x="14576" y="7711"/>
                  <a:pt x="14610" y="7813"/>
                </a:cubicBezTo>
                <a:cubicBezTo>
                  <a:pt x="14634" y="7884"/>
                  <a:pt x="14635" y="7935"/>
                  <a:pt x="14635" y="8012"/>
                </a:cubicBezTo>
                <a:cubicBezTo>
                  <a:pt x="14635" y="8057"/>
                  <a:pt x="14631" y="8070"/>
                  <a:pt x="14660" y="8086"/>
                </a:cubicBezTo>
              </a:path>
              <a:path w="10047" h="1093">
                <a:moveTo>
                  <a:pt x="14982" y="7342"/>
                </a:moveTo>
                <a:cubicBezTo>
                  <a:pt x="14941" y="7447"/>
                  <a:pt x="14875" y="7576"/>
                  <a:pt x="14858" y="7689"/>
                </a:cubicBezTo>
                <a:cubicBezTo>
                  <a:pt x="14840" y="7808"/>
                  <a:pt x="14842" y="7898"/>
                  <a:pt x="14858" y="8012"/>
                </a:cubicBezTo>
                <a:cubicBezTo>
                  <a:pt x="14864" y="8051"/>
                  <a:pt x="14920" y="8139"/>
                  <a:pt x="14982" y="8136"/>
                </a:cubicBezTo>
                <a:cubicBezTo>
                  <a:pt x="15097" y="8131"/>
                  <a:pt x="15161" y="8074"/>
                  <a:pt x="15205" y="7987"/>
                </a:cubicBezTo>
                <a:cubicBezTo>
                  <a:pt x="15258" y="7883"/>
                  <a:pt x="15334" y="7824"/>
                  <a:pt x="15329" y="7689"/>
                </a:cubicBezTo>
                <a:cubicBezTo>
                  <a:pt x="15326" y="7607"/>
                  <a:pt x="15256" y="7503"/>
                  <a:pt x="15205" y="7441"/>
                </a:cubicBezTo>
                <a:cubicBezTo>
                  <a:pt x="15129" y="7350"/>
                  <a:pt x="15074" y="7321"/>
                  <a:pt x="14957" y="7317"/>
                </a:cubicBezTo>
                <a:cubicBezTo>
                  <a:pt x="14896" y="7317"/>
                  <a:pt x="14880" y="7308"/>
                  <a:pt x="14858" y="7342"/>
                </a:cubicBezTo>
              </a:path>
              <a:path w="10047" h="1093">
                <a:moveTo>
                  <a:pt x="14759" y="7640"/>
                </a:moveTo>
                <a:cubicBezTo>
                  <a:pt x="14838" y="7731"/>
                  <a:pt x="14910" y="7714"/>
                  <a:pt x="15032" y="7714"/>
                </a:cubicBezTo>
                <a:cubicBezTo>
                  <a:pt x="15210" y="7714"/>
                  <a:pt x="15379" y="7721"/>
                  <a:pt x="15553" y="7739"/>
                </a:cubicBezTo>
                <a:cubicBezTo>
                  <a:pt x="15578" y="7739"/>
                  <a:pt x="15602" y="7739"/>
                  <a:pt x="15627" y="7739"/>
                </a:cubicBezTo>
              </a:path>
              <a:path w="10047" h="1093">
                <a:moveTo>
                  <a:pt x="16123" y="7665"/>
                </a:moveTo>
                <a:cubicBezTo>
                  <a:pt x="16167" y="7707"/>
                  <a:pt x="16064" y="7630"/>
                  <a:pt x="15999" y="7640"/>
                </a:cubicBezTo>
                <a:cubicBezTo>
                  <a:pt x="15931" y="7651"/>
                  <a:pt x="15807" y="7728"/>
                  <a:pt x="15776" y="7789"/>
                </a:cubicBezTo>
                <a:cubicBezTo>
                  <a:pt x="15758" y="7826"/>
                  <a:pt x="15738" y="7916"/>
                  <a:pt x="15751" y="7962"/>
                </a:cubicBezTo>
                <a:cubicBezTo>
                  <a:pt x="15767" y="8021"/>
                  <a:pt x="15866" y="8076"/>
                  <a:pt x="15925" y="8086"/>
                </a:cubicBezTo>
                <a:cubicBezTo>
                  <a:pt x="16020" y="8102"/>
                  <a:pt x="16111" y="8066"/>
                  <a:pt x="16197" y="8037"/>
                </a:cubicBezTo>
              </a:path>
              <a:path w="10047" h="1093">
                <a:moveTo>
                  <a:pt x="16545" y="7640"/>
                </a:moveTo>
                <a:cubicBezTo>
                  <a:pt x="16561" y="7688"/>
                  <a:pt x="16506" y="7665"/>
                  <a:pt x="16446" y="7714"/>
                </a:cubicBezTo>
                <a:cubicBezTo>
                  <a:pt x="16384" y="7765"/>
                  <a:pt x="16273" y="7847"/>
                  <a:pt x="16297" y="7938"/>
                </a:cubicBezTo>
                <a:cubicBezTo>
                  <a:pt x="16321" y="8030"/>
                  <a:pt x="16415" y="8055"/>
                  <a:pt x="16495" y="8062"/>
                </a:cubicBezTo>
                <a:cubicBezTo>
                  <a:pt x="16588" y="8070"/>
                  <a:pt x="16658" y="8065"/>
                  <a:pt x="16718" y="7987"/>
                </a:cubicBezTo>
                <a:cubicBezTo>
                  <a:pt x="16752" y="7943"/>
                  <a:pt x="16832" y="7871"/>
                  <a:pt x="16842" y="7813"/>
                </a:cubicBezTo>
                <a:cubicBezTo>
                  <a:pt x="16857" y="7729"/>
                  <a:pt x="16809" y="7662"/>
                  <a:pt x="16743" y="7615"/>
                </a:cubicBezTo>
                <a:cubicBezTo>
                  <a:pt x="16650" y="7549"/>
                  <a:pt x="16554" y="7573"/>
                  <a:pt x="16470" y="7590"/>
                </a:cubicBezTo>
                <a:cubicBezTo>
                  <a:pt x="16426" y="7590"/>
                  <a:pt x="16406" y="7587"/>
                  <a:pt x="16446" y="7615"/>
                </a:cubicBezTo>
              </a:path>
              <a:path w="10047" h="1093">
                <a:moveTo>
                  <a:pt x="17041" y="7665"/>
                </a:moveTo>
                <a:cubicBezTo>
                  <a:pt x="16973" y="7665"/>
                  <a:pt x="16954" y="7662"/>
                  <a:pt x="16917" y="7689"/>
                </a:cubicBezTo>
                <a:cubicBezTo>
                  <a:pt x="16932" y="7848"/>
                  <a:pt x="16987" y="7789"/>
                  <a:pt x="17066" y="7888"/>
                </a:cubicBezTo>
                <a:cubicBezTo>
                  <a:pt x="17112" y="7946"/>
                  <a:pt x="17173" y="8069"/>
                  <a:pt x="17190" y="8136"/>
                </a:cubicBezTo>
                <a:cubicBezTo>
                  <a:pt x="17087" y="8188"/>
                  <a:pt x="17097" y="8142"/>
                  <a:pt x="17016" y="8086"/>
                </a:cubicBezTo>
                <a:cubicBezTo>
                  <a:pt x="16950" y="8040"/>
                  <a:pt x="16952" y="8042"/>
                  <a:pt x="16942" y="7962"/>
                </a:cubicBezTo>
              </a:path>
              <a:path w="10047" h="1093">
                <a:moveTo>
                  <a:pt x="17487" y="7491"/>
                </a:moveTo>
                <a:cubicBezTo>
                  <a:pt x="17487" y="7597"/>
                  <a:pt x="17466" y="7685"/>
                  <a:pt x="17462" y="7789"/>
                </a:cubicBezTo>
                <a:cubicBezTo>
                  <a:pt x="17459" y="7868"/>
                  <a:pt x="17458" y="7997"/>
                  <a:pt x="17512" y="8062"/>
                </a:cubicBezTo>
                <a:cubicBezTo>
                  <a:pt x="17568" y="8129"/>
                  <a:pt x="17707" y="8174"/>
                  <a:pt x="17785" y="8186"/>
                </a:cubicBezTo>
                <a:cubicBezTo>
                  <a:pt x="17833" y="8193"/>
                  <a:pt x="17937" y="8085"/>
                  <a:pt x="17959" y="8037"/>
                </a:cubicBezTo>
                <a:cubicBezTo>
                  <a:pt x="17997" y="7954"/>
                  <a:pt x="18028" y="7806"/>
                  <a:pt x="18008" y="7714"/>
                </a:cubicBezTo>
                <a:cubicBezTo>
                  <a:pt x="17992" y="7636"/>
                  <a:pt x="17897" y="7514"/>
                  <a:pt x="17835" y="7466"/>
                </a:cubicBezTo>
                <a:cubicBezTo>
                  <a:pt x="17754" y="7403"/>
                  <a:pt x="17673" y="7429"/>
                  <a:pt x="17587" y="7441"/>
                </a:cubicBezTo>
              </a:path>
              <a:path w="10047" h="1093">
                <a:moveTo>
                  <a:pt x="17264" y="7714"/>
                </a:moveTo>
                <a:cubicBezTo>
                  <a:pt x="17437" y="7733"/>
                  <a:pt x="17613" y="7751"/>
                  <a:pt x="17785" y="7764"/>
                </a:cubicBezTo>
                <a:cubicBezTo>
                  <a:pt x="17923" y="7775"/>
                  <a:pt x="18068" y="7764"/>
                  <a:pt x="18207" y="77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Ink 7"/>
          <p:cNvSpPr/>
          <p:nvPr/>
        </p:nvSpPr>
        <p:spPr>
          <a:xfrm>
            <a:off x="4133880" y="3178080"/>
            <a:ext cx="1554120" cy="662040"/>
          </a:xfrm>
          <a:custGeom>
            <a:avLst/>
            <a:gdLst/>
            <a:ahLst/>
            <a:rect l="l" t="t" r="r" b="b"/>
            <a:pathLst>
              <a:path w="4317" h="1837">
                <a:moveTo>
                  <a:pt x="11485" y="9227"/>
                </a:moveTo>
                <a:cubicBezTo>
                  <a:pt x="11613" y="9227"/>
                  <a:pt x="11733" y="9221"/>
                  <a:pt x="11857" y="9252"/>
                </a:cubicBezTo>
              </a:path>
              <a:path w="4317" h="1837">
                <a:moveTo>
                  <a:pt x="11584" y="9376"/>
                </a:moveTo>
                <a:cubicBezTo>
                  <a:pt x="11731" y="9435"/>
                  <a:pt x="11828" y="9427"/>
                  <a:pt x="11981" y="9401"/>
                </a:cubicBezTo>
              </a:path>
              <a:path w="4317" h="1837">
                <a:moveTo>
                  <a:pt x="12427" y="8954"/>
                </a:moveTo>
                <a:cubicBezTo>
                  <a:pt x="12476" y="8918"/>
                  <a:pt x="12522" y="8881"/>
                  <a:pt x="12576" y="8855"/>
                </a:cubicBezTo>
                <a:cubicBezTo>
                  <a:pt x="12630" y="8829"/>
                  <a:pt x="12760" y="8810"/>
                  <a:pt x="12799" y="8880"/>
                </a:cubicBezTo>
                <a:cubicBezTo>
                  <a:pt x="12828" y="8931"/>
                  <a:pt x="12847" y="9043"/>
                  <a:pt x="12849" y="9103"/>
                </a:cubicBezTo>
                <a:cubicBezTo>
                  <a:pt x="12853" y="9214"/>
                  <a:pt x="12803" y="9345"/>
                  <a:pt x="12774" y="9451"/>
                </a:cubicBezTo>
                <a:cubicBezTo>
                  <a:pt x="12757" y="9516"/>
                  <a:pt x="12700" y="9606"/>
                  <a:pt x="12650" y="9649"/>
                </a:cubicBezTo>
                <a:cubicBezTo>
                  <a:pt x="12619" y="9677"/>
                  <a:pt x="12583" y="9692"/>
                  <a:pt x="12551" y="9723"/>
                </a:cubicBezTo>
                <a:cubicBezTo>
                  <a:pt x="12488" y="9662"/>
                  <a:pt x="12493" y="9677"/>
                  <a:pt x="12502" y="9599"/>
                </a:cubicBezTo>
                <a:cubicBezTo>
                  <a:pt x="12510" y="9536"/>
                  <a:pt x="12537" y="9530"/>
                  <a:pt x="12576" y="9475"/>
                </a:cubicBezTo>
                <a:cubicBezTo>
                  <a:pt x="12652" y="9529"/>
                  <a:pt x="12725" y="9541"/>
                  <a:pt x="12774" y="9624"/>
                </a:cubicBezTo>
                <a:cubicBezTo>
                  <a:pt x="12803" y="9673"/>
                  <a:pt x="12805" y="9701"/>
                  <a:pt x="12849" y="9723"/>
                </a:cubicBezTo>
              </a:path>
              <a:path w="4317" h="1837">
                <a:moveTo>
                  <a:pt x="13271" y="9599"/>
                </a:moveTo>
                <a:cubicBezTo>
                  <a:pt x="13292" y="9556"/>
                  <a:pt x="13296" y="9544"/>
                  <a:pt x="13320" y="9525"/>
                </a:cubicBezTo>
              </a:path>
              <a:path w="4317" h="1837">
                <a:moveTo>
                  <a:pt x="13519" y="8954"/>
                </a:moveTo>
                <a:cubicBezTo>
                  <a:pt x="13583" y="8862"/>
                  <a:pt x="13658" y="8785"/>
                  <a:pt x="13791" y="8830"/>
                </a:cubicBezTo>
                <a:cubicBezTo>
                  <a:pt x="13906" y="8869"/>
                  <a:pt x="13891" y="8958"/>
                  <a:pt x="13891" y="9054"/>
                </a:cubicBezTo>
                <a:cubicBezTo>
                  <a:pt x="13891" y="9146"/>
                  <a:pt x="13840" y="9183"/>
                  <a:pt x="13767" y="9227"/>
                </a:cubicBezTo>
                <a:cubicBezTo>
                  <a:pt x="13723" y="9249"/>
                  <a:pt x="13702" y="9262"/>
                  <a:pt x="13742" y="9227"/>
                </a:cubicBezTo>
                <a:cubicBezTo>
                  <a:pt x="13816" y="9227"/>
                  <a:pt x="13878" y="9221"/>
                  <a:pt x="13940" y="9252"/>
                </a:cubicBezTo>
                <a:cubicBezTo>
                  <a:pt x="13987" y="9276"/>
                  <a:pt x="14050" y="9348"/>
                  <a:pt x="14064" y="9401"/>
                </a:cubicBezTo>
                <a:cubicBezTo>
                  <a:pt x="14090" y="9500"/>
                  <a:pt x="14053" y="9566"/>
                  <a:pt x="13990" y="9624"/>
                </a:cubicBezTo>
                <a:cubicBezTo>
                  <a:pt x="13940" y="9670"/>
                  <a:pt x="13857" y="9649"/>
                  <a:pt x="13791" y="9649"/>
                </a:cubicBezTo>
              </a:path>
              <a:path w="4317" h="1837">
                <a:moveTo>
                  <a:pt x="13593" y="9773"/>
                </a:moveTo>
                <a:cubicBezTo>
                  <a:pt x="13735" y="9783"/>
                  <a:pt x="13870" y="9798"/>
                  <a:pt x="14015" y="9798"/>
                </a:cubicBezTo>
                <a:cubicBezTo>
                  <a:pt x="14102" y="9798"/>
                  <a:pt x="14175" y="9773"/>
                  <a:pt x="14263" y="9773"/>
                </a:cubicBezTo>
              </a:path>
              <a:path w="4317" h="1837">
                <a:moveTo>
                  <a:pt x="13915" y="9897"/>
                </a:moveTo>
                <a:cubicBezTo>
                  <a:pt x="14057" y="9931"/>
                  <a:pt x="14098" y="9952"/>
                  <a:pt x="14238" y="9922"/>
                </a:cubicBezTo>
              </a:path>
              <a:path w="4317" h="1837">
                <a:moveTo>
                  <a:pt x="14039" y="9897"/>
                </a:moveTo>
                <a:cubicBezTo>
                  <a:pt x="13939" y="9938"/>
                  <a:pt x="13920" y="9936"/>
                  <a:pt x="13915" y="10046"/>
                </a:cubicBezTo>
                <a:cubicBezTo>
                  <a:pt x="13911" y="10122"/>
                  <a:pt x="13966" y="10155"/>
                  <a:pt x="14039" y="10170"/>
                </a:cubicBezTo>
                <a:cubicBezTo>
                  <a:pt x="14114" y="10185"/>
                  <a:pt x="14166" y="10149"/>
                  <a:pt x="14238" y="10145"/>
                </a:cubicBezTo>
                <a:cubicBezTo>
                  <a:pt x="14358" y="10139"/>
                  <a:pt x="14360" y="10240"/>
                  <a:pt x="14387" y="10319"/>
                </a:cubicBezTo>
                <a:cubicBezTo>
                  <a:pt x="14411" y="10391"/>
                  <a:pt x="14420" y="10471"/>
                  <a:pt x="14387" y="10542"/>
                </a:cubicBezTo>
                <a:cubicBezTo>
                  <a:pt x="14355" y="10612"/>
                  <a:pt x="14260" y="10676"/>
                  <a:pt x="14188" y="10666"/>
                </a:cubicBezTo>
                <a:cubicBezTo>
                  <a:pt x="14073" y="10651"/>
                  <a:pt x="14017" y="10575"/>
                  <a:pt x="13940" y="10517"/>
                </a:cubicBezTo>
                <a:cubicBezTo>
                  <a:pt x="13866" y="10460"/>
                  <a:pt x="13872" y="10455"/>
                  <a:pt x="13891" y="10368"/>
                </a:cubicBezTo>
              </a:path>
              <a:path w="4317" h="1837">
                <a:moveTo>
                  <a:pt x="14709" y="9823"/>
                </a:moveTo>
                <a:cubicBezTo>
                  <a:pt x="14751" y="9864"/>
                  <a:pt x="14735" y="9813"/>
                  <a:pt x="14759" y="9773"/>
                </a:cubicBezTo>
              </a:path>
              <a:path w="4317" h="1837">
                <a:moveTo>
                  <a:pt x="15230" y="8880"/>
                </a:moveTo>
                <a:cubicBezTo>
                  <a:pt x="15209" y="8931"/>
                  <a:pt x="15144" y="9006"/>
                  <a:pt x="15131" y="9054"/>
                </a:cubicBezTo>
                <a:cubicBezTo>
                  <a:pt x="15119" y="9098"/>
                  <a:pt x="15169" y="9178"/>
                  <a:pt x="15205" y="9203"/>
                </a:cubicBezTo>
                <a:cubicBezTo>
                  <a:pt x="15267" y="9247"/>
                  <a:pt x="15348" y="9235"/>
                  <a:pt x="15404" y="9203"/>
                </a:cubicBezTo>
              </a:path>
              <a:path w="4317" h="1837">
                <a:moveTo>
                  <a:pt x="15553" y="8855"/>
                </a:moveTo>
                <a:cubicBezTo>
                  <a:pt x="15498" y="9020"/>
                  <a:pt x="15442" y="9171"/>
                  <a:pt x="15478" y="9351"/>
                </a:cubicBezTo>
                <a:cubicBezTo>
                  <a:pt x="15491" y="9415"/>
                  <a:pt x="15503" y="9457"/>
                  <a:pt x="15503" y="9525"/>
                </a:cubicBezTo>
              </a:path>
              <a:path w="4317" h="1837">
                <a:moveTo>
                  <a:pt x="15230" y="9599"/>
                </a:moveTo>
                <a:cubicBezTo>
                  <a:pt x="15325" y="9576"/>
                  <a:pt x="15405" y="9575"/>
                  <a:pt x="15503" y="9575"/>
                </a:cubicBezTo>
                <a:cubicBezTo>
                  <a:pt x="15635" y="9575"/>
                  <a:pt x="15668" y="9575"/>
                  <a:pt x="15751" y="9575"/>
                </a:cubicBezTo>
              </a:path>
              <a:path w="4317" h="1837">
                <a:moveTo>
                  <a:pt x="15304" y="9847"/>
                </a:moveTo>
                <a:cubicBezTo>
                  <a:pt x="15425" y="9873"/>
                  <a:pt x="15482" y="9851"/>
                  <a:pt x="15602" y="9847"/>
                </a:cubicBezTo>
                <a:cubicBezTo>
                  <a:pt x="15678" y="9847"/>
                  <a:pt x="15704" y="9847"/>
                  <a:pt x="15751" y="9823"/>
                </a:cubicBezTo>
              </a:path>
              <a:path w="4317" h="1837">
                <a:moveTo>
                  <a:pt x="15453" y="9847"/>
                </a:moveTo>
                <a:cubicBezTo>
                  <a:pt x="15385" y="9887"/>
                  <a:pt x="15390" y="9872"/>
                  <a:pt x="15379" y="9947"/>
                </a:cubicBezTo>
                <a:cubicBezTo>
                  <a:pt x="15434" y="9979"/>
                  <a:pt x="15486" y="9971"/>
                  <a:pt x="15553" y="9971"/>
                </a:cubicBezTo>
                <a:cubicBezTo>
                  <a:pt x="15639" y="9971"/>
                  <a:pt x="15669" y="10013"/>
                  <a:pt x="15726" y="10071"/>
                </a:cubicBezTo>
                <a:cubicBezTo>
                  <a:pt x="15789" y="10135"/>
                  <a:pt x="15797" y="10208"/>
                  <a:pt x="15801" y="10294"/>
                </a:cubicBezTo>
                <a:cubicBezTo>
                  <a:pt x="15805" y="10383"/>
                  <a:pt x="15806" y="10458"/>
                  <a:pt x="15726" y="10517"/>
                </a:cubicBezTo>
                <a:cubicBezTo>
                  <a:pt x="15653" y="10571"/>
                  <a:pt x="15553" y="10542"/>
                  <a:pt x="15478" y="10517"/>
                </a:cubicBezTo>
                <a:cubicBezTo>
                  <a:pt x="15380" y="10484"/>
                  <a:pt x="15374" y="10458"/>
                  <a:pt x="15329" y="103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Ink 8"/>
          <p:cNvSpPr/>
          <p:nvPr/>
        </p:nvSpPr>
        <p:spPr>
          <a:xfrm>
            <a:off x="4313160" y="4098960"/>
            <a:ext cx="839880" cy="741240"/>
          </a:xfrm>
          <a:custGeom>
            <a:avLst/>
            <a:gdLst/>
            <a:ahLst/>
            <a:rect l="l" t="t" r="r" b="b"/>
            <a:pathLst>
              <a:path w="2332" h="2060">
                <a:moveTo>
                  <a:pt x="11981" y="11807"/>
                </a:moveTo>
                <a:cubicBezTo>
                  <a:pt x="12038" y="11749"/>
                  <a:pt x="12072" y="11757"/>
                  <a:pt x="12154" y="11757"/>
                </a:cubicBezTo>
                <a:cubicBezTo>
                  <a:pt x="12229" y="11757"/>
                  <a:pt x="12303" y="11757"/>
                  <a:pt x="12378" y="11757"/>
                </a:cubicBezTo>
              </a:path>
              <a:path w="2332" h="2060">
                <a:moveTo>
                  <a:pt x="12005" y="11956"/>
                </a:moveTo>
                <a:cubicBezTo>
                  <a:pt x="12142" y="12004"/>
                  <a:pt x="12170" y="12016"/>
                  <a:pt x="12303" y="11981"/>
                </a:cubicBezTo>
              </a:path>
              <a:path w="2332" h="2060">
                <a:moveTo>
                  <a:pt x="12898" y="11435"/>
                </a:moveTo>
                <a:cubicBezTo>
                  <a:pt x="12962" y="11387"/>
                  <a:pt x="13040" y="11362"/>
                  <a:pt x="13122" y="11410"/>
                </a:cubicBezTo>
                <a:cubicBezTo>
                  <a:pt x="13191" y="11451"/>
                  <a:pt x="13254" y="11609"/>
                  <a:pt x="13246" y="11683"/>
                </a:cubicBezTo>
                <a:cubicBezTo>
                  <a:pt x="13238" y="11756"/>
                  <a:pt x="13147" y="11931"/>
                  <a:pt x="13097" y="11981"/>
                </a:cubicBezTo>
                <a:cubicBezTo>
                  <a:pt x="13048" y="12029"/>
                  <a:pt x="12947" y="12137"/>
                  <a:pt x="12874" y="12154"/>
                </a:cubicBezTo>
                <a:cubicBezTo>
                  <a:pt x="12787" y="12174"/>
                  <a:pt x="12751" y="12069"/>
                  <a:pt x="12799" y="12005"/>
                </a:cubicBezTo>
                <a:cubicBezTo>
                  <a:pt x="12838" y="11954"/>
                  <a:pt x="12931" y="11912"/>
                  <a:pt x="12998" y="11931"/>
                </a:cubicBezTo>
                <a:cubicBezTo>
                  <a:pt x="13102" y="11960"/>
                  <a:pt x="13109" y="12029"/>
                  <a:pt x="13171" y="12105"/>
                </a:cubicBezTo>
                <a:cubicBezTo>
                  <a:pt x="13219" y="12164"/>
                  <a:pt x="13230" y="12154"/>
                  <a:pt x="13295" y="12154"/>
                </a:cubicBezTo>
              </a:path>
              <a:path w="2332" h="2060">
                <a:moveTo>
                  <a:pt x="13643" y="11509"/>
                </a:moveTo>
                <a:cubicBezTo>
                  <a:pt x="13612" y="11563"/>
                  <a:pt x="13562" y="11642"/>
                  <a:pt x="13568" y="11708"/>
                </a:cubicBezTo>
                <a:cubicBezTo>
                  <a:pt x="13572" y="11752"/>
                  <a:pt x="13657" y="11840"/>
                  <a:pt x="13692" y="11857"/>
                </a:cubicBezTo>
                <a:cubicBezTo>
                  <a:pt x="13790" y="11896"/>
                  <a:pt x="13804" y="11912"/>
                  <a:pt x="13866" y="11906"/>
                </a:cubicBezTo>
              </a:path>
              <a:path w="2332" h="2060">
                <a:moveTo>
                  <a:pt x="13866" y="11435"/>
                </a:moveTo>
                <a:cubicBezTo>
                  <a:pt x="13808" y="11534"/>
                  <a:pt x="13758" y="11640"/>
                  <a:pt x="13742" y="11757"/>
                </a:cubicBezTo>
                <a:cubicBezTo>
                  <a:pt x="13727" y="11873"/>
                  <a:pt x="13755" y="11972"/>
                  <a:pt x="13791" y="12080"/>
                </a:cubicBezTo>
                <a:cubicBezTo>
                  <a:pt x="13813" y="12145"/>
                  <a:pt x="13821" y="12160"/>
                  <a:pt x="13816" y="12204"/>
                </a:cubicBezTo>
              </a:path>
              <a:path w="2332" h="2060">
                <a:moveTo>
                  <a:pt x="12923" y="12278"/>
                </a:moveTo>
                <a:cubicBezTo>
                  <a:pt x="13180" y="12294"/>
                  <a:pt x="13437" y="12330"/>
                  <a:pt x="13692" y="12353"/>
                </a:cubicBezTo>
                <a:cubicBezTo>
                  <a:pt x="13767" y="12353"/>
                  <a:pt x="13791" y="12353"/>
                  <a:pt x="13841" y="12353"/>
                </a:cubicBezTo>
              </a:path>
              <a:path w="2332" h="2060">
                <a:moveTo>
                  <a:pt x="13320" y="12675"/>
                </a:moveTo>
                <a:cubicBezTo>
                  <a:pt x="13394" y="12626"/>
                  <a:pt x="13499" y="12585"/>
                  <a:pt x="13593" y="12601"/>
                </a:cubicBezTo>
                <a:cubicBezTo>
                  <a:pt x="13673" y="12615"/>
                  <a:pt x="13692" y="12784"/>
                  <a:pt x="13667" y="12849"/>
                </a:cubicBezTo>
                <a:cubicBezTo>
                  <a:pt x="13634" y="12935"/>
                  <a:pt x="13549" y="13073"/>
                  <a:pt x="13494" y="13146"/>
                </a:cubicBezTo>
                <a:cubicBezTo>
                  <a:pt x="13453" y="13200"/>
                  <a:pt x="13394" y="13247"/>
                  <a:pt x="13345" y="13295"/>
                </a:cubicBezTo>
                <a:cubicBezTo>
                  <a:pt x="13317" y="13249"/>
                  <a:pt x="13307" y="13182"/>
                  <a:pt x="13320" y="13122"/>
                </a:cubicBezTo>
                <a:cubicBezTo>
                  <a:pt x="13328" y="13097"/>
                  <a:pt x="13337" y="13072"/>
                  <a:pt x="13345" y="13047"/>
                </a:cubicBezTo>
                <a:cubicBezTo>
                  <a:pt x="13404" y="13054"/>
                  <a:pt x="13480" y="13067"/>
                  <a:pt x="13519" y="13122"/>
                </a:cubicBezTo>
                <a:cubicBezTo>
                  <a:pt x="13555" y="13172"/>
                  <a:pt x="13642" y="13242"/>
                  <a:pt x="13717" y="13221"/>
                </a:cubicBezTo>
                <a:cubicBezTo>
                  <a:pt x="13758" y="13204"/>
                  <a:pt x="13800" y="13188"/>
                  <a:pt x="13841" y="13171"/>
                </a:cubicBezTo>
              </a:path>
              <a:path w="2332" h="2060">
                <a:moveTo>
                  <a:pt x="14064" y="12650"/>
                </a:moveTo>
                <a:cubicBezTo>
                  <a:pt x="14150" y="12657"/>
                  <a:pt x="14225" y="12675"/>
                  <a:pt x="14312" y="12675"/>
                </a:cubicBezTo>
              </a:path>
              <a:path w="2332" h="2060">
                <a:moveTo>
                  <a:pt x="13940" y="12700"/>
                </a:moveTo>
                <a:cubicBezTo>
                  <a:pt x="13894" y="12719"/>
                  <a:pt x="13858" y="12740"/>
                  <a:pt x="13816" y="12750"/>
                </a:cubicBezTo>
                <a:cubicBezTo>
                  <a:pt x="13850" y="12817"/>
                  <a:pt x="13865" y="12870"/>
                  <a:pt x="13940" y="12898"/>
                </a:cubicBezTo>
                <a:cubicBezTo>
                  <a:pt x="14051" y="12940"/>
                  <a:pt x="14205" y="13000"/>
                  <a:pt x="14263" y="13122"/>
                </a:cubicBezTo>
                <a:cubicBezTo>
                  <a:pt x="14288" y="13175"/>
                  <a:pt x="14275" y="13302"/>
                  <a:pt x="14238" y="13345"/>
                </a:cubicBezTo>
                <a:cubicBezTo>
                  <a:pt x="14180" y="13412"/>
                  <a:pt x="14086" y="13480"/>
                  <a:pt x="13990" y="13444"/>
                </a:cubicBezTo>
                <a:cubicBezTo>
                  <a:pt x="13821" y="13380"/>
                  <a:pt x="13760" y="13256"/>
                  <a:pt x="13667" y="131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9" name="Ink 3"/>
          <p:cNvSpPr/>
          <p:nvPr/>
        </p:nvSpPr>
        <p:spPr>
          <a:xfrm>
            <a:off x="561960" y="1535040"/>
            <a:ext cx="295200" cy="519120"/>
          </a:xfrm>
          <a:custGeom>
            <a:avLst/>
            <a:gdLst/>
            <a:ahLst/>
            <a:rect l="l" t="t" r="r" b="b"/>
            <a:pathLst>
              <a:path w="819" h="1440">
                <a:moveTo>
                  <a:pt x="2108" y="4688"/>
                </a:moveTo>
                <a:cubicBezTo>
                  <a:pt x="2108" y="4606"/>
                  <a:pt x="2100" y="4581"/>
                  <a:pt x="2059" y="4514"/>
                </a:cubicBezTo>
                <a:cubicBezTo>
                  <a:pt x="2043" y="4488"/>
                  <a:pt x="1998" y="4398"/>
                  <a:pt x="1960" y="4390"/>
                </a:cubicBezTo>
                <a:cubicBezTo>
                  <a:pt x="1865" y="4370"/>
                  <a:pt x="1820" y="4431"/>
                  <a:pt x="1761" y="4490"/>
                </a:cubicBezTo>
                <a:cubicBezTo>
                  <a:pt x="1686" y="4565"/>
                  <a:pt x="1612" y="4629"/>
                  <a:pt x="1588" y="4738"/>
                </a:cubicBezTo>
                <a:cubicBezTo>
                  <a:pt x="1577" y="4787"/>
                  <a:pt x="1529" y="4939"/>
                  <a:pt x="1612" y="4961"/>
                </a:cubicBezTo>
                <a:cubicBezTo>
                  <a:pt x="1668" y="4976"/>
                  <a:pt x="1770" y="4943"/>
                  <a:pt x="1811" y="4911"/>
                </a:cubicBezTo>
                <a:cubicBezTo>
                  <a:pt x="1876" y="4860"/>
                  <a:pt x="1888" y="4829"/>
                  <a:pt x="1935" y="4762"/>
                </a:cubicBezTo>
                <a:cubicBezTo>
                  <a:pt x="1968" y="4715"/>
                  <a:pt x="1981" y="4685"/>
                  <a:pt x="2009" y="4638"/>
                </a:cubicBezTo>
                <a:cubicBezTo>
                  <a:pt x="2009" y="4857"/>
                  <a:pt x="1920" y="5470"/>
                  <a:pt x="2034" y="5283"/>
                </a:cubicBezTo>
                <a:cubicBezTo>
                  <a:pt x="2034" y="5267"/>
                  <a:pt x="2034" y="5250"/>
                  <a:pt x="2034" y="5234"/>
                </a:cubicBezTo>
              </a:path>
              <a:path w="819" h="1440">
                <a:moveTo>
                  <a:pt x="2034" y="4266"/>
                </a:moveTo>
                <a:cubicBezTo>
                  <a:pt x="2148" y="4422"/>
                  <a:pt x="2261" y="4578"/>
                  <a:pt x="2332" y="4762"/>
                </a:cubicBezTo>
                <a:cubicBezTo>
                  <a:pt x="2376" y="4878"/>
                  <a:pt x="2381" y="4988"/>
                  <a:pt x="2381" y="5110"/>
                </a:cubicBezTo>
                <a:cubicBezTo>
                  <a:pt x="2381" y="5237"/>
                  <a:pt x="2357" y="5343"/>
                  <a:pt x="2307" y="5457"/>
                </a:cubicBezTo>
                <a:cubicBezTo>
                  <a:pt x="2276" y="5528"/>
                  <a:pt x="2230" y="5605"/>
                  <a:pt x="2208" y="5680"/>
                </a:cubicBezTo>
                <a:cubicBezTo>
                  <a:pt x="2208" y="5688"/>
                  <a:pt x="2208" y="5697"/>
                  <a:pt x="2208" y="57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Ink 4"/>
          <p:cNvSpPr/>
          <p:nvPr/>
        </p:nvSpPr>
        <p:spPr>
          <a:xfrm>
            <a:off x="1330200" y="1527120"/>
            <a:ext cx="2982960" cy="411120"/>
          </a:xfrm>
          <a:custGeom>
            <a:avLst/>
            <a:gdLst/>
            <a:ahLst/>
            <a:rect l="l" t="t" r="r" b="b"/>
            <a:pathLst>
              <a:path w="8286" h="1142">
                <a:moveTo>
                  <a:pt x="4242" y="4564"/>
                </a:moveTo>
                <a:cubicBezTo>
                  <a:pt x="4333" y="4611"/>
                  <a:pt x="4204" y="4492"/>
                  <a:pt x="4192" y="4490"/>
                </a:cubicBezTo>
                <a:cubicBezTo>
                  <a:pt x="4119" y="4478"/>
                  <a:pt x="3988" y="4480"/>
                  <a:pt x="3919" y="4514"/>
                </a:cubicBezTo>
                <a:cubicBezTo>
                  <a:pt x="3880" y="4533"/>
                  <a:pt x="3805" y="4562"/>
                  <a:pt x="3770" y="4589"/>
                </a:cubicBezTo>
                <a:cubicBezTo>
                  <a:pt x="3700" y="4643"/>
                  <a:pt x="3673" y="4710"/>
                  <a:pt x="3721" y="4787"/>
                </a:cubicBezTo>
                <a:cubicBezTo>
                  <a:pt x="3750" y="4833"/>
                  <a:pt x="3847" y="4854"/>
                  <a:pt x="3894" y="4862"/>
                </a:cubicBezTo>
                <a:cubicBezTo>
                  <a:pt x="3990" y="4878"/>
                  <a:pt x="4098" y="4905"/>
                  <a:pt x="4192" y="4936"/>
                </a:cubicBezTo>
                <a:cubicBezTo>
                  <a:pt x="4266" y="4961"/>
                  <a:pt x="4312" y="5014"/>
                  <a:pt x="4366" y="5060"/>
                </a:cubicBezTo>
                <a:cubicBezTo>
                  <a:pt x="4448" y="5129"/>
                  <a:pt x="4338" y="5194"/>
                  <a:pt x="4291" y="5234"/>
                </a:cubicBezTo>
                <a:cubicBezTo>
                  <a:pt x="4233" y="5283"/>
                  <a:pt x="4139" y="5262"/>
                  <a:pt x="4068" y="5283"/>
                </a:cubicBezTo>
                <a:cubicBezTo>
                  <a:pt x="3962" y="5315"/>
                  <a:pt x="3903" y="5298"/>
                  <a:pt x="3795" y="5283"/>
                </a:cubicBezTo>
                <a:cubicBezTo>
                  <a:pt x="3682" y="5267"/>
                  <a:pt x="3696" y="5246"/>
                  <a:pt x="3696" y="5135"/>
                </a:cubicBezTo>
              </a:path>
              <a:path w="8286" h="1142">
                <a:moveTo>
                  <a:pt x="4713" y="4688"/>
                </a:moveTo>
                <a:cubicBezTo>
                  <a:pt x="4751" y="4823"/>
                  <a:pt x="4762" y="4900"/>
                  <a:pt x="4762" y="5035"/>
                </a:cubicBezTo>
                <a:cubicBezTo>
                  <a:pt x="4762" y="5055"/>
                  <a:pt x="4804" y="5313"/>
                  <a:pt x="4812" y="5308"/>
                </a:cubicBezTo>
                <a:cubicBezTo>
                  <a:pt x="4812" y="5234"/>
                  <a:pt x="4812" y="5193"/>
                  <a:pt x="4812" y="5135"/>
                </a:cubicBezTo>
              </a:path>
              <a:path w="8286" h="1142">
                <a:moveTo>
                  <a:pt x="4837" y="4366"/>
                </a:moveTo>
                <a:cubicBezTo>
                  <a:pt x="4845" y="4349"/>
                  <a:pt x="4854" y="4333"/>
                  <a:pt x="4862" y="4316"/>
                </a:cubicBezTo>
              </a:path>
              <a:path w="8286" h="1142">
                <a:moveTo>
                  <a:pt x="5060" y="4887"/>
                </a:moveTo>
                <a:lnTo>
                  <a:pt x="5085" y="5011"/>
                </a:lnTo>
                <a:lnTo>
                  <a:pt x="5085" y="5060"/>
                </a:lnTo>
                <a:lnTo>
                  <a:pt x="5085" y="5110"/>
                </a:lnTo>
                <a:lnTo>
                  <a:pt x="5085" y="5159"/>
                </a:lnTo>
                <a:lnTo>
                  <a:pt x="5085" y="5209"/>
                </a:lnTo>
                <a:lnTo>
                  <a:pt x="5110" y="5184"/>
                </a:lnTo>
                <a:lnTo>
                  <a:pt x="5110" y="5135"/>
                </a:lnTo>
                <a:lnTo>
                  <a:pt x="5110" y="5060"/>
                </a:lnTo>
                <a:lnTo>
                  <a:pt x="5110" y="5011"/>
                </a:lnTo>
                <a:lnTo>
                  <a:pt x="5110" y="4961"/>
                </a:lnTo>
                <a:lnTo>
                  <a:pt x="5184" y="4837"/>
                </a:lnTo>
                <a:lnTo>
                  <a:pt x="5184" y="4787"/>
                </a:lnTo>
                <a:lnTo>
                  <a:pt x="5209" y="4738"/>
                </a:lnTo>
                <a:lnTo>
                  <a:pt x="5234" y="4713"/>
                </a:lnTo>
                <a:lnTo>
                  <a:pt x="5283" y="4663"/>
                </a:lnTo>
                <a:lnTo>
                  <a:pt x="5333" y="4614"/>
                </a:lnTo>
                <a:lnTo>
                  <a:pt x="5383" y="4589"/>
                </a:lnTo>
                <a:lnTo>
                  <a:pt x="5432" y="4589"/>
                </a:lnTo>
                <a:lnTo>
                  <a:pt x="5482" y="4589"/>
                </a:lnTo>
                <a:lnTo>
                  <a:pt x="5507" y="4614"/>
                </a:lnTo>
                <a:lnTo>
                  <a:pt x="5531" y="4638"/>
                </a:lnTo>
                <a:lnTo>
                  <a:pt x="5581" y="4738"/>
                </a:lnTo>
                <a:lnTo>
                  <a:pt x="5581" y="4787"/>
                </a:lnTo>
                <a:lnTo>
                  <a:pt x="5581" y="4837"/>
                </a:lnTo>
                <a:lnTo>
                  <a:pt x="5581" y="4887"/>
                </a:lnTo>
                <a:lnTo>
                  <a:pt x="5581" y="4936"/>
                </a:lnTo>
                <a:lnTo>
                  <a:pt x="5581" y="4986"/>
                </a:lnTo>
                <a:lnTo>
                  <a:pt x="5581" y="5035"/>
                </a:lnTo>
                <a:lnTo>
                  <a:pt x="5581" y="5110"/>
                </a:lnTo>
                <a:lnTo>
                  <a:pt x="5581" y="5085"/>
                </a:lnTo>
              </a:path>
              <a:path w="8286" h="1142">
                <a:moveTo>
                  <a:pt x="6028" y="4366"/>
                </a:moveTo>
                <a:cubicBezTo>
                  <a:pt x="6096" y="4318"/>
                  <a:pt x="6167" y="4259"/>
                  <a:pt x="6251" y="4242"/>
                </a:cubicBezTo>
                <a:cubicBezTo>
                  <a:pt x="6309" y="4230"/>
                  <a:pt x="6397" y="4259"/>
                  <a:pt x="6424" y="4316"/>
                </a:cubicBezTo>
                <a:cubicBezTo>
                  <a:pt x="6460" y="4392"/>
                  <a:pt x="6448" y="4465"/>
                  <a:pt x="6424" y="4539"/>
                </a:cubicBezTo>
                <a:cubicBezTo>
                  <a:pt x="6391" y="4641"/>
                  <a:pt x="6318" y="4779"/>
                  <a:pt x="6251" y="4862"/>
                </a:cubicBezTo>
                <a:cubicBezTo>
                  <a:pt x="6186" y="4942"/>
                  <a:pt x="6142" y="5027"/>
                  <a:pt x="6077" y="5110"/>
                </a:cubicBezTo>
                <a:cubicBezTo>
                  <a:pt x="6034" y="5165"/>
                  <a:pt x="5990" y="5168"/>
                  <a:pt x="5953" y="5234"/>
                </a:cubicBezTo>
                <a:cubicBezTo>
                  <a:pt x="5999" y="5188"/>
                  <a:pt x="6011" y="5163"/>
                  <a:pt x="6077" y="5159"/>
                </a:cubicBezTo>
                <a:cubicBezTo>
                  <a:pt x="6178" y="5153"/>
                  <a:pt x="6274" y="5180"/>
                  <a:pt x="6375" y="5184"/>
                </a:cubicBezTo>
                <a:cubicBezTo>
                  <a:pt x="6426" y="5184"/>
                  <a:pt x="6445" y="5183"/>
                  <a:pt x="6474" y="5159"/>
                </a:cubicBezTo>
              </a:path>
              <a:path w="8286" h="1142">
                <a:moveTo>
                  <a:pt x="6747" y="4663"/>
                </a:moveTo>
                <a:cubicBezTo>
                  <a:pt x="6783" y="4754"/>
                  <a:pt x="6804" y="4819"/>
                  <a:pt x="6846" y="4911"/>
                </a:cubicBezTo>
                <a:cubicBezTo>
                  <a:pt x="6875" y="4973"/>
                  <a:pt x="6911" y="5028"/>
                  <a:pt x="6945" y="5085"/>
                </a:cubicBezTo>
                <a:cubicBezTo>
                  <a:pt x="6979" y="5142"/>
                  <a:pt x="7024" y="5183"/>
                  <a:pt x="7069" y="5234"/>
                </a:cubicBezTo>
                <a:cubicBezTo>
                  <a:pt x="7100" y="5269"/>
                  <a:pt x="7189" y="5281"/>
                  <a:pt x="7218" y="5234"/>
                </a:cubicBezTo>
                <a:cubicBezTo>
                  <a:pt x="7218" y="5226"/>
                  <a:pt x="7218" y="5217"/>
                  <a:pt x="7218" y="5209"/>
                </a:cubicBezTo>
              </a:path>
              <a:path w="8286" h="1142">
                <a:moveTo>
                  <a:pt x="7094" y="4638"/>
                </a:moveTo>
                <a:cubicBezTo>
                  <a:pt x="7020" y="4741"/>
                  <a:pt x="6931" y="4822"/>
                  <a:pt x="6871" y="4936"/>
                </a:cubicBezTo>
                <a:cubicBezTo>
                  <a:pt x="6828" y="5017"/>
                  <a:pt x="6803" y="5069"/>
                  <a:pt x="6747" y="5135"/>
                </a:cubicBezTo>
                <a:cubicBezTo>
                  <a:pt x="6706" y="5184"/>
                  <a:pt x="6695" y="5236"/>
                  <a:pt x="6648" y="5283"/>
                </a:cubicBezTo>
                <a:cubicBezTo>
                  <a:pt x="6615" y="5316"/>
                  <a:pt x="6616" y="5343"/>
                  <a:pt x="6598" y="5308"/>
                </a:cubicBezTo>
              </a:path>
              <a:path w="8286" h="1142">
                <a:moveTo>
                  <a:pt x="7193" y="4936"/>
                </a:moveTo>
                <a:cubicBezTo>
                  <a:pt x="7342" y="4936"/>
                  <a:pt x="7491" y="4936"/>
                  <a:pt x="7640" y="4936"/>
                </a:cubicBezTo>
              </a:path>
              <a:path w="8286" h="1142">
                <a:moveTo>
                  <a:pt x="8483" y="4663"/>
                </a:moveTo>
                <a:cubicBezTo>
                  <a:pt x="8412" y="4636"/>
                  <a:pt x="8332" y="4632"/>
                  <a:pt x="8260" y="4663"/>
                </a:cubicBezTo>
                <a:cubicBezTo>
                  <a:pt x="8231" y="4675"/>
                  <a:pt x="8153" y="4738"/>
                  <a:pt x="8136" y="4762"/>
                </a:cubicBezTo>
                <a:cubicBezTo>
                  <a:pt x="8076" y="4846"/>
                  <a:pt x="8158" y="4864"/>
                  <a:pt x="8210" y="4911"/>
                </a:cubicBezTo>
                <a:cubicBezTo>
                  <a:pt x="8285" y="4979"/>
                  <a:pt x="8351" y="5008"/>
                  <a:pt x="8409" y="5085"/>
                </a:cubicBezTo>
                <a:cubicBezTo>
                  <a:pt x="8450" y="5140"/>
                  <a:pt x="8481" y="5183"/>
                  <a:pt x="8409" y="5234"/>
                </a:cubicBezTo>
                <a:cubicBezTo>
                  <a:pt x="8344" y="5281"/>
                  <a:pt x="8286" y="5283"/>
                  <a:pt x="8210" y="5283"/>
                </a:cubicBezTo>
                <a:cubicBezTo>
                  <a:pt x="8103" y="5283"/>
                  <a:pt x="8080" y="5262"/>
                  <a:pt x="8136" y="5184"/>
                </a:cubicBezTo>
              </a:path>
              <a:path w="8286" h="1142">
                <a:moveTo>
                  <a:pt x="8731" y="4837"/>
                </a:moveTo>
                <a:cubicBezTo>
                  <a:pt x="8731" y="4942"/>
                  <a:pt x="8719" y="5037"/>
                  <a:pt x="8706" y="5135"/>
                </a:cubicBezTo>
                <a:cubicBezTo>
                  <a:pt x="8706" y="5201"/>
                  <a:pt x="8706" y="5218"/>
                  <a:pt x="8706" y="5259"/>
                </a:cubicBezTo>
              </a:path>
              <a:path w="8286" h="1142">
                <a:moveTo>
                  <a:pt x="8954" y="5060"/>
                </a:moveTo>
                <a:cubicBezTo>
                  <a:pt x="8954" y="5134"/>
                  <a:pt x="8954" y="5209"/>
                  <a:pt x="8954" y="5283"/>
                </a:cubicBezTo>
                <a:cubicBezTo>
                  <a:pt x="8954" y="5209"/>
                  <a:pt x="8970" y="5152"/>
                  <a:pt x="8979" y="5085"/>
                </a:cubicBezTo>
                <a:cubicBezTo>
                  <a:pt x="8994" y="4967"/>
                  <a:pt x="9001" y="4905"/>
                  <a:pt x="9079" y="4812"/>
                </a:cubicBezTo>
                <a:cubicBezTo>
                  <a:pt x="9126" y="4757"/>
                  <a:pt x="9158" y="4717"/>
                  <a:pt x="9227" y="4713"/>
                </a:cubicBezTo>
                <a:cubicBezTo>
                  <a:pt x="9354" y="4705"/>
                  <a:pt x="9326" y="4774"/>
                  <a:pt x="9351" y="4862"/>
                </a:cubicBezTo>
                <a:cubicBezTo>
                  <a:pt x="9377" y="4954"/>
                  <a:pt x="9366" y="4993"/>
                  <a:pt x="9351" y="5085"/>
                </a:cubicBezTo>
                <a:cubicBezTo>
                  <a:pt x="9344" y="5127"/>
                  <a:pt x="9330" y="5266"/>
                  <a:pt x="9376" y="5283"/>
                </a:cubicBezTo>
                <a:cubicBezTo>
                  <a:pt x="9376" y="5275"/>
                  <a:pt x="9376" y="5267"/>
                  <a:pt x="9376" y="5259"/>
                </a:cubicBezTo>
              </a:path>
              <a:path w="8286" h="1142">
                <a:moveTo>
                  <a:pt x="9748" y="4638"/>
                </a:moveTo>
                <a:cubicBezTo>
                  <a:pt x="9799" y="4744"/>
                  <a:pt x="9854" y="4851"/>
                  <a:pt x="9897" y="4961"/>
                </a:cubicBezTo>
                <a:cubicBezTo>
                  <a:pt x="9933" y="5053"/>
                  <a:pt x="9968" y="5105"/>
                  <a:pt x="10021" y="5184"/>
                </a:cubicBezTo>
                <a:cubicBezTo>
                  <a:pt x="10061" y="5244"/>
                  <a:pt x="10108" y="5314"/>
                  <a:pt x="10170" y="5358"/>
                </a:cubicBezTo>
                <a:cubicBezTo>
                  <a:pt x="10230" y="5400"/>
                  <a:pt x="10229" y="5373"/>
                  <a:pt x="10269" y="5333"/>
                </a:cubicBezTo>
              </a:path>
              <a:path w="8286" h="1142">
                <a:moveTo>
                  <a:pt x="10145" y="4614"/>
                </a:moveTo>
                <a:cubicBezTo>
                  <a:pt x="10088" y="4704"/>
                  <a:pt x="10034" y="4803"/>
                  <a:pt x="9971" y="4887"/>
                </a:cubicBezTo>
                <a:cubicBezTo>
                  <a:pt x="9912" y="4966"/>
                  <a:pt x="9880" y="5072"/>
                  <a:pt x="9798" y="5135"/>
                </a:cubicBezTo>
                <a:cubicBezTo>
                  <a:pt x="9727" y="5190"/>
                  <a:pt x="9699" y="5233"/>
                  <a:pt x="9624" y="5283"/>
                </a:cubicBezTo>
                <a:cubicBezTo>
                  <a:pt x="9548" y="5333"/>
                  <a:pt x="9637" y="5248"/>
                  <a:pt x="9649" y="5234"/>
                </a:cubicBezTo>
              </a:path>
              <a:path w="8286" h="1142">
                <a:moveTo>
                  <a:pt x="10443" y="4862"/>
                </a:moveTo>
                <a:cubicBezTo>
                  <a:pt x="10564" y="4862"/>
                  <a:pt x="10673" y="4853"/>
                  <a:pt x="10790" y="4837"/>
                </a:cubicBezTo>
                <a:cubicBezTo>
                  <a:pt x="10844" y="4830"/>
                  <a:pt x="10910" y="4837"/>
                  <a:pt x="10964" y="4837"/>
                </a:cubicBezTo>
              </a:path>
              <a:path w="8286" h="1142">
                <a:moveTo>
                  <a:pt x="10592" y="5035"/>
                </a:moveTo>
                <a:cubicBezTo>
                  <a:pt x="10656" y="5054"/>
                  <a:pt x="10687" y="5035"/>
                  <a:pt x="10765" y="5035"/>
                </a:cubicBezTo>
                <a:cubicBezTo>
                  <a:pt x="10844" y="5035"/>
                  <a:pt x="10871" y="5020"/>
                  <a:pt x="10939" y="4986"/>
                </a:cubicBezTo>
              </a:path>
              <a:path w="8286" h="1142">
                <a:moveTo>
                  <a:pt x="11435" y="4663"/>
                </a:moveTo>
                <a:cubicBezTo>
                  <a:pt x="11408" y="4736"/>
                  <a:pt x="11410" y="4818"/>
                  <a:pt x="11385" y="4887"/>
                </a:cubicBezTo>
                <a:cubicBezTo>
                  <a:pt x="11356" y="4967"/>
                  <a:pt x="11349" y="5049"/>
                  <a:pt x="11385" y="5135"/>
                </a:cubicBezTo>
                <a:cubicBezTo>
                  <a:pt x="11412" y="5200"/>
                  <a:pt x="11400" y="5263"/>
                  <a:pt x="11485" y="5283"/>
                </a:cubicBezTo>
                <a:cubicBezTo>
                  <a:pt x="11549" y="5298"/>
                  <a:pt x="11730" y="5304"/>
                  <a:pt x="11782" y="5259"/>
                </a:cubicBezTo>
                <a:cubicBezTo>
                  <a:pt x="11826" y="5221"/>
                  <a:pt x="11921" y="5137"/>
                  <a:pt x="11956" y="5085"/>
                </a:cubicBezTo>
                <a:cubicBezTo>
                  <a:pt x="12003" y="5014"/>
                  <a:pt x="11981" y="4893"/>
                  <a:pt x="11981" y="4812"/>
                </a:cubicBezTo>
                <a:cubicBezTo>
                  <a:pt x="11981" y="4744"/>
                  <a:pt x="11940" y="4719"/>
                  <a:pt x="11906" y="4663"/>
                </a:cubicBezTo>
                <a:cubicBezTo>
                  <a:pt x="11871" y="4606"/>
                  <a:pt x="11803" y="4555"/>
                  <a:pt x="11733" y="4539"/>
                </a:cubicBezTo>
                <a:cubicBezTo>
                  <a:pt x="11683" y="4539"/>
                  <a:pt x="11666" y="4539"/>
                  <a:pt x="11633" y="45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Ink 5"/>
          <p:cNvSpPr/>
          <p:nvPr/>
        </p:nvSpPr>
        <p:spPr>
          <a:xfrm>
            <a:off x="1204920" y="1803240"/>
            <a:ext cx="1339920" cy="233640"/>
          </a:xfrm>
          <a:custGeom>
            <a:avLst/>
            <a:gdLst/>
            <a:ahLst/>
            <a:rect l="l" t="t" r="r" b="b"/>
            <a:pathLst>
              <a:path w="3721" h="645">
                <a:moveTo>
                  <a:pt x="3373" y="5011"/>
                </a:moveTo>
                <a:cubicBezTo>
                  <a:pt x="3411" y="5073"/>
                  <a:pt x="3429" y="5074"/>
                  <a:pt x="3423" y="5159"/>
                </a:cubicBezTo>
                <a:cubicBezTo>
                  <a:pt x="3417" y="5243"/>
                  <a:pt x="3415" y="5349"/>
                  <a:pt x="3398" y="5432"/>
                </a:cubicBezTo>
                <a:cubicBezTo>
                  <a:pt x="3388" y="5480"/>
                  <a:pt x="3358" y="5550"/>
                  <a:pt x="3349" y="5606"/>
                </a:cubicBezTo>
                <a:cubicBezTo>
                  <a:pt x="3349" y="5622"/>
                  <a:pt x="3349" y="5639"/>
                  <a:pt x="3349" y="5655"/>
                </a:cubicBezTo>
                <a:cubicBezTo>
                  <a:pt x="3407" y="5651"/>
                  <a:pt x="3476" y="5636"/>
                  <a:pt x="3522" y="5631"/>
                </a:cubicBezTo>
                <a:cubicBezTo>
                  <a:pt x="3605" y="5622"/>
                  <a:pt x="3667" y="5609"/>
                  <a:pt x="3746" y="5606"/>
                </a:cubicBezTo>
                <a:cubicBezTo>
                  <a:pt x="3835" y="5603"/>
                  <a:pt x="3909" y="5597"/>
                  <a:pt x="3994" y="5581"/>
                </a:cubicBezTo>
                <a:cubicBezTo>
                  <a:pt x="4085" y="5564"/>
                  <a:pt x="4172" y="5567"/>
                  <a:pt x="4266" y="5556"/>
                </a:cubicBezTo>
                <a:cubicBezTo>
                  <a:pt x="4403" y="5540"/>
                  <a:pt x="4525" y="5531"/>
                  <a:pt x="4663" y="5531"/>
                </a:cubicBezTo>
                <a:cubicBezTo>
                  <a:pt x="4789" y="5531"/>
                  <a:pt x="4907" y="5507"/>
                  <a:pt x="5035" y="5507"/>
                </a:cubicBezTo>
                <a:cubicBezTo>
                  <a:pt x="5499" y="5507"/>
                  <a:pt x="5963" y="5498"/>
                  <a:pt x="6424" y="5531"/>
                </a:cubicBezTo>
                <a:cubicBezTo>
                  <a:pt x="6571" y="5542"/>
                  <a:pt x="6732" y="5543"/>
                  <a:pt x="6871" y="5507"/>
                </a:cubicBezTo>
                <a:cubicBezTo>
                  <a:pt x="6928" y="5492"/>
                  <a:pt x="6956" y="5487"/>
                  <a:pt x="6995" y="5432"/>
                </a:cubicBezTo>
                <a:cubicBezTo>
                  <a:pt x="7045" y="5361"/>
                  <a:pt x="7051" y="5291"/>
                  <a:pt x="7069" y="52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Ink 6"/>
          <p:cNvSpPr/>
          <p:nvPr/>
        </p:nvSpPr>
        <p:spPr>
          <a:xfrm>
            <a:off x="901800" y="2295360"/>
            <a:ext cx="3876480" cy="490680"/>
          </a:xfrm>
          <a:custGeom>
            <a:avLst/>
            <a:gdLst/>
            <a:ahLst/>
            <a:rect l="l" t="t" r="r" b="b"/>
            <a:pathLst>
              <a:path w="10767" h="1365">
                <a:moveTo>
                  <a:pt x="2654" y="6573"/>
                </a:moveTo>
                <a:cubicBezTo>
                  <a:pt x="2654" y="6618"/>
                  <a:pt x="2657" y="6631"/>
                  <a:pt x="2629" y="6648"/>
                </a:cubicBezTo>
                <a:cubicBezTo>
                  <a:pt x="2639" y="6575"/>
                  <a:pt x="2689" y="6492"/>
                  <a:pt x="2729" y="6424"/>
                </a:cubicBezTo>
                <a:cubicBezTo>
                  <a:pt x="2747" y="6394"/>
                  <a:pt x="2867" y="6366"/>
                  <a:pt x="2902" y="6375"/>
                </a:cubicBezTo>
                <a:cubicBezTo>
                  <a:pt x="3051" y="6415"/>
                  <a:pt x="3063" y="6430"/>
                  <a:pt x="3101" y="6548"/>
                </a:cubicBezTo>
                <a:cubicBezTo>
                  <a:pt x="3135" y="6651"/>
                  <a:pt x="3169" y="6731"/>
                  <a:pt x="3150" y="6846"/>
                </a:cubicBezTo>
                <a:cubicBezTo>
                  <a:pt x="3132" y="6954"/>
                  <a:pt x="3110" y="7063"/>
                  <a:pt x="3076" y="7169"/>
                </a:cubicBezTo>
                <a:cubicBezTo>
                  <a:pt x="3045" y="7264"/>
                  <a:pt x="2954" y="7461"/>
                  <a:pt x="2853" y="7491"/>
                </a:cubicBezTo>
                <a:cubicBezTo>
                  <a:pt x="2793" y="7509"/>
                  <a:pt x="2713" y="7518"/>
                  <a:pt x="2654" y="7491"/>
                </a:cubicBezTo>
                <a:cubicBezTo>
                  <a:pt x="2596" y="7464"/>
                  <a:pt x="2570" y="7386"/>
                  <a:pt x="2530" y="7342"/>
                </a:cubicBezTo>
                <a:cubicBezTo>
                  <a:pt x="2497" y="7305"/>
                  <a:pt x="2491" y="7220"/>
                  <a:pt x="2505" y="7169"/>
                </a:cubicBezTo>
                <a:cubicBezTo>
                  <a:pt x="2535" y="7062"/>
                  <a:pt x="2568" y="7060"/>
                  <a:pt x="2654" y="7069"/>
                </a:cubicBezTo>
                <a:cubicBezTo>
                  <a:pt x="2715" y="7075"/>
                  <a:pt x="2840" y="7155"/>
                  <a:pt x="2877" y="7218"/>
                </a:cubicBezTo>
                <a:cubicBezTo>
                  <a:pt x="2917" y="7287"/>
                  <a:pt x="2920" y="7347"/>
                  <a:pt x="2952" y="7417"/>
                </a:cubicBezTo>
                <a:cubicBezTo>
                  <a:pt x="2976" y="7471"/>
                  <a:pt x="3021" y="7511"/>
                  <a:pt x="3051" y="7541"/>
                </a:cubicBezTo>
              </a:path>
              <a:path w="10767" h="1365">
                <a:moveTo>
                  <a:pt x="3770" y="6846"/>
                </a:moveTo>
                <a:cubicBezTo>
                  <a:pt x="3684" y="6892"/>
                  <a:pt x="3577" y="6914"/>
                  <a:pt x="3497" y="6970"/>
                </a:cubicBezTo>
                <a:cubicBezTo>
                  <a:pt x="3443" y="7008"/>
                  <a:pt x="3434" y="7044"/>
                  <a:pt x="3473" y="7094"/>
                </a:cubicBezTo>
                <a:cubicBezTo>
                  <a:pt x="3509" y="7141"/>
                  <a:pt x="3717" y="7223"/>
                  <a:pt x="3770" y="7268"/>
                </a:cubicBezTo>
                <a:cubicBezTo>
                  <a:pt x="3840" y="7327"/>
                  <a:pt x="3904" y="7357"/>
                  <a:pt x="3870" y="7466"/>
                </a:cubicBezTo>
                <a:cubicBezTo>
                  <a:pt x="3850" y="7530"/>
                  <a:pt x="3769" y="7516"/>
                  <a:pt x="3721" y="7516"/>
                </a:cubicBezTo>
                <a:cubicBezTo>
                  <a:pt x="3644" y="7516"/>
                  <a:pt x="3565" y="7531"/>
                  <a:pt x="3497" y="7491"/>
                </a:cubicBezTo>
                <a:cubicBezTo>
                  <a:pt x="3489" y="7483"/>
                  <a:pt x="3481" y="7474"/>
                  <a:pt x="3473" y="7466"/>
                </a:cubicBezTo>
              </a:path>
              <a:path w="10767" h="1365">
                <a:moveTo>
                  <a:pt x="4093" y="6921"/>
                </a:moveTo>
                <a:cubicBezTo>
                  <a:pt x="4093" y="7047"/>
                  <a:pt x="4103" y="7146"/>
                  <a:pt x="4118" y="7268"/>
                </a:cubicBezTo>
                <a:cubicBezTo>
                  <a:pt x="4127" y="7337"/>
                  <a:pt x="4118" y="7581"/>
                  <a:pt x="4118" y="7565"/>
                </a:cubicBezTo>
              </a:path>
              <a:path w="10767" h="1365">
                <a:moveTo>
                  <a:pt x="4167" y="6623"/>
                </a:moveTo>
                <a:cubicBezTo>
                  <a:pt x="4204" y="6548"/>
                  <a:pt x="4199" y="6584"/>
                  <a:pt x="4266" y="6598"/>
                </a:cubicBezTo>
              </a:path>
              <a:path w="10767" h="1365">
                <a:moveTo>
                  <a:pt x="4415" y="7144"/>
                </a:moveTo>
                <a:cubicBezTo>
                  <a:pt x="4437" y="7289"/>
                  <a:pt x="4436" y="7318"/>
                  <a:pt x="4415" y="7441"/>
                </a:cubicBezTo>
                <a:cubicBezTo>
                  <a:pt x="4415" y="7458"/>
                  <a:pt x="4415" y="7474"/>
                  <a:pt x="4415" y="7491"/>
                </a:cubicBezTo>
                <a:cubicBezTo>
                  <a:pt x="4415" y="7362"/>
                  <a:pt x="4421" y="7241"/>
                  <a:pt x="4440" y="7119"/>
                </a:cubicBezTo>
                <a:cubicBezTo>
                  <a:pt x="4456" y="7016"/>
                  <a:pt x="4504" y="7003"/>
                  <a:pt x="4564" y="6921"/>
                </a:cubicBezTo>
                <a:cubicBezTo>
                  <a:pt x="4629" y="6831"/>
                  <a:pt x="4676" y="6772"/>
                  <a:pt x="4787" y="6896"/>
                </a:cubicBezTo>
                <a:cubicBezTo>
                  <a:pt x="4821" y="6934"/>
                  <a:pt x="4812" y="7068"/>
                  <a:pt x="4812" y="7119"/>
                </a:cubicBezTo>
                <a:cubicBezTo>
                  <a:pt x="4812" y="7196"/>
                  <a:pt x="4837" y="7263"/>
                  <a:pt x="4837" y="7342"/>
                </a:cubicBezTo>
                <a:cubicBezTo>
                  <a:pt x="4837" y="7408"/>
                  <a:pt x="4823" y="7440"/>
                  <a:pt x="4862" y="7466"/>
                </a:cubicBezTo>
              </a:path>
              <a:path w="10767" h="1365">
                <a:moveTo>
                  <a:pt x="5060" y="6896"/>
                </a:moveTo>
                <a:cubicBezTo>
                  <a:pt x="5162" y="6977"/>
                  <a:pt x="5145" y="7002"/>
                  <a:pt x="5184" y="7119"/>
                </a:cubicBezTo>
                <a:cubicBezTo>
                  <a:pt x="5218" y="7219"/>
                  <a:pt x="5289" y="7269"/>
                  <a:pt x="5333" y="7342"/>
                </a:cubicBezTo>
                <a:cubicBezTo>
                  <a:pt x="5383" y="7425"/>
                  <a:pt x="5368" y="7490"/>
                  <a:pt x="5457" y="7541"/>
                </a:cubicBezTo>
                <a:cubicBezTo>
                  <a:pt x="5503" y="7568"/>
                  <a:pt x="5531" y="7565"/>
                  <a:pt x="5581" y="7565"/>
                </a:cubicBezTo>
              </a:path>
              <a:path w="10767" h="1365">
                <a:moveTo>
                  <a:pt x="5457" y="6896"/>
                </a:moveTo>
                <a:cubicBezTo>
                  <a:pt x="5382" y="6994"/>
                  <a:pt x="5298" y="7110"/>
                  <a:pt x="5234" y="7218"/>
                </a:cubicBezTo>
                <a:cubicBezTo>
                  <a:pt x="5183" y="7305"/>
                  <a:pt x="5152" y="7388"/>
                  <a:pt x="5085" y="7466"/>
                </a:cubicBezTo>
                <a:cubicBezTo>
                  <a:pt x="5058" y="7498"/>
                  <a:pt x="5045" y="7503"/>
                  <a:pt x="5035" y="7541"/>
                </a:cubicBezTo>
              </a:path>
              <a:path w="10767" h="1365">
                <a:moveTo>
                  <a:pt x="6127" y="6921"/>
                </a:moveTo>
                <a:cubicBezTo>
                  <a:pt x="6087" y="6841"/>
                  <a:pt x="6045" y="6884"/>
                  <a:pt x="5978" y="6921"/>
                </a:cubicBezTo>
                <a:cubicBezTo>
                  <a:pt x="5882" y="6974"/>
                  <a:pt x="5829" y="7048"/>
                  <a:pt x="5779" y="7144"/>
                </a:cubicBezTo>
                <a:cubicBezTo>
                  <a:pt x="5739" y="7221"/>
                  <a:pt x="5730" y="7283"/>
                  <a:pt x="5730" y="7367"/>
                </a:cubicBezTo>
                <a:cubicBezTo>
                  <a:pt x="5730" y="7434"/>
                  <a:pt x="5755" y="7499"/>
                  <a:pt x="5829" y="7516"/>
                </a:cubicBezTo>
                <a:cubicBezTo>
                  <a:pt x="5890" y="7531"/>
                  <a:pt x="6004" y="7503"/>
                  <a:pt x="6052" y="7466"/>
                </a:cubicBezTo>
                <a:cubicBezTo>
                  <a:pt x="6085" y="7433"/>
                  <a:pt x="6119" y="7400"/>
                  <a:pt x="6152" y="7367"/>
                </a:cubicBezTo>
              </a:path>
              <a:path w="10767" h="1365">
                <a:moveTo>
                  <a:pt x="6375" y="6995"/>
                </a:moveTo>
                <a:cubicBezTo>
                  <a:pt x="6347" y="7114"/>
                  <a:pt x="6325" y="7196"/>
                  <a:pt x="6325" y="7317"/>
                </a:cubicBezTo>
                <a:cubicBezTo>
                  <a:pt x="6325" y="7382"/>
                  <a:pt x="6315" y="7447"/>
                  <a:pt x="6375" y="7491"/>
                </a:cubicBezTo>
                <a:cubicBezTo>
                  <a:pt x="6437" y="7536"/>
                  <a:pt x="6531" y="7555"/>
                  <a:pt x="6598" y="7516"/>
                </a:cubicBezTo>
                <a:cubicBezTo>
                  <a:pt x="6646" y="7488"/>
                  <a:pt x="6712" y="7372"/>
                  <a:pt x="6722" y="7317"/>
                </a:cubicBezTo>
                <a:cubicBezTo>
                  <a:pt x="6735" y="7245"/>
                  <a:pt x="6727" y="7158"/>
                  <a:pt x="6697" y="7094"/>
                </a:cubicBezTo>
                <a:cubicBezTo>
                  <a:pt x="6648" y="6988"/>
                  <a:pt x="6607" y="6963"/>
                  <a:pt x="6499" y="6945"/>
                </a:cubicBezTo>
                <a:cubicBezTo>
                  <a:pt x="6427" y="6933"/>
                  <a:pt x="6414" y="6951"/>
                  <a:pt x="6424" y="6995"/>
                </a:cubicBezTo>
              </a:path>
              <a:path w="10767" h="1365">
                <a:moveTo>
                  <a:pt x="7094" y="6970"/>
                </a:moveTo>
                <a:cubicBezTo>
                  <a:pt x="7005" y="7023"/>
                  <a:pt x="6921" y="7056"/>
                  <a:pt x="6896" y="7144"/>
                </a:cubicBezTo>
                <a:cubicBezTo>
                  <a:pt x="6957" y="7184"/>
                  <a:pt x="7029" y="7204"/>
                  <a:pt x="7094" y="7243"/>
                </a:cubicBezTo>
                <a:cubicBezTo>
                  <a:pt x="7139" y="7270"/>
                  <a:pt x="7282" y="7334"/>
                  <a:pt x="7218" y="7417"/>
                </a:cubicBezTo>
                <a:cubicBezTo>
                  <a:pt x="7205" y="7434"/>
                  <a:pt x="7065" y="7512"/>
                  <a:pt x="7045" y="7516"/>
                </a:cubicBezTo>
                <a:cubicBezTo>
                  <a:pt x="6978" y="7529"/>
                  <a:pt x="6912" y="7531"/>
                  <a:pt x="6896" y="7466"/>
                </a:cubicBezTo>
              </a:path>
              <a:path w="10767" h="1365">
                <a:moveTo>
                  <a:pt x="7367" y="6945"/>
                </a:moveTo>
                <a:cubicBezTo>
                  <a:pt x="7375" y="7045"/>
                  <a:pt x="7412" y="7101"/>
                  <a:pt x="7441" y="7193"/>
                </a:cubicBezTo>
                <a:cubicBezTo>
                  <a:pt x="7482" y="7323"/>
                  <a:pt x="7535" y="7332"/>
                  <a:pt x="7615" y="7441"/>
                </a:cubicBezTo>
                <a:cubicBezTo>
                  <a:pt x="7678" y="7526"/>
                  <a:pt x="7782" y="7599"/>
                  <a:pt x="7888" y="7615"/>
                </a:cubicBezTo>
                <a:cubicBezTo>
                  <a:pt x="7905" y="7615"/>
                  <a:pt x="7921" y="7615"/>
                  <a:pt x="7938" y="7615"/>
                </a:cubicBezTo>
              </a:path>
              <a:path w="10767" h="1365">
                <a:moveTo>
                  <a:pt x="7689" y="6970"/>
                </a:moveTo>
                <a:cubicBezTo>
                  <a:pt x="7592" y="7117"/>
                  <a:pt x="7496" y="7254"/>
                  <a:pt x="7392" y="7392"/>
                </a:cubicBezTo>
                <a:cubicBezTo>
                  <a:pt x="7337" y="7466"/>
                  <a:pt x="7295" y="7541"/>
                  <a:pt x="7243" y="7615"/>
                </a:cubicBezTo>
                <a:cubicBezTo>
                  <a:pt x="7237" y="7624"/>
                  <a:pt x="7151" y="7707"/>
                  <a:pt x="7218" y="7640"/>
                </a:cubicBezTo>
              </a:path>
              <a:path w="10767" h="1365">
                <a:moveTo>
                  <a:pt x="8285" y="7144"/>
                </a:moveTo>
                <a:cubicBezTo>
                  <a:pt x="8454" y="7144"/>
                  <a:pt x="8647" y="7167"/>
                  <a:pt x="8806" y="7119"/>
                </a:cubicBezTo>
              </a:path>
              <a:path w="10767" h="1365">
                <a:moveTo>
                  <a:pt x="9500" y="6945"/>
                </a:moveTo>
                <a:cubicBezTo>
                  <a:pt x="9455" y="6889"/>
                  <a:pt x="9437" y="6847"/>
                  <a:pt x="9351" y="6871"/>
                </a:cubicBezTo>
                <a:cubicBezTo>
                  <a:pt x="9262" y="6896"/>
                  <a:pt x="9207" y="6930"/>
                  <a:pt x="9153" y="6995"/>
                </a:cubicBezTo>
                <a:cubicBezTo>
                  <a:pt x="9119" y="7036"/>
                  <a:pt x="9108" y="7124"/>
                  <a:pt x="9153" y="7169"/>
                </a:cubicBezTo>
                <a:cubicBezTo>
                  <a:pt x="9215" y="7231"/>
                  <a:pt x="9346" y="7286"/>
                  <a:pt x="9426" y="7317"/>
                </a:cubicBezTo>
                <a:cubicBezTo>
                  <a:pt x="9524" y="7354"/>
                  <a:pt x="9565" y="7381"/>
                  <a:pt x="9525" y="7491"/>
                </a:cubicBezTo>
                <a:cubicBezTo>
                  <a:pt x="9482" y="7607"/>
                  <a:pt x="9391" y="7553"/>
                  <a:pt x="9302" y="7541"/>
                </a:cubicBezTo>
                <a:cubicBezTo>
                  <a:pt x="9239" y="7541"/>
                  <a:pt x="9211" y="7534"/>
                  <a:pt x="9178" y="7491"/>
                </a:cubicBezTo>
              </a:path>
              <a:path w="10767" h="1365">
                <a:moveTo>
                  <a:pt x="9823" y="7119"/>
                </a:moveTo>
                <a:cubicBezTo>
                  <a:pt x="9823" y="7235"/>
                  <a:pt x="9818" y="7331"/>
                  <a:pt x="9847" y="7441"/>
                </a:cubicBezTo>
              </a:path>
              <a:path w="10767" h="1365">
                <a:moveTo>
                  <a:pt x="9872" y="6821"/>
                </a:moveTo>
                <a:cubicBezTo>
                  <a:pt x="9892" y="6781"/>
                  <a:pt x="9901" y="6755"/>
                  <a:pt x="9897" y="6796"/>
                </a:cubicBezTo>
              </a:path>
              <a:path w="10767" h="1365">
                <a:moveTo>
                  <a:pt x="10145" y="7293"/>
                </a:moveTo>
                <a:cubicBezTo>
                  <a:pt x="10151" y="7394"/>
                  <a:pt x="10160" y="7470"/>
                  <a:pt x="10195" y="7565"/>
                </a:cubicBezTo>
                <a:cubicBezTo>
                  <a:pt x="10187" y="7499"/>
                  <a:pt x="10157" y="7437"/>
                  <a:pt x="10170" y="7367"/>
                </a:cubicBezTo>
                <a:cubicBezTo>
                  <a:pt x="10181" y="7305"/>
                  <a:pt x="10191" y="7168"/>
                  <a:pt x="10244" y="7119"/>
                </a:cubicBezTo>
                <a:cubicBezTo>
                  <a:pt x="10282" y="7083"/>
                  <a:pt x="10376" y="6979"/>
                  <a:pt x="10443" y="6995"/>
                </a:cubicBezTo>
                <a:cubicBezTo>
                  <a:pt x="10523" y="7014"/>
                  <a:pt x="10593" y="7120"/>
                  <a:pt x="10616" y="7193"/>
                </a:cubicBezTo>
                <a:cubicBezTo>
                  <a:pt x="10652" y="7305"/>
                  <a:pt x="10641" y="7405"/>
                  <a:pt x="10666" y="7516"/>
                </a:cubicBezTo>
                <a:cubicBezTo>
                  <a:pt x="10677" y="7564"/>
                  <a:pt x="10699" y="7599"/>
                  <a:pt x="10716" y="7565"/>
                </a:cubicBezTo>
              </a:path>
              <a:path w="10767" h="1365">
                <a:moveTo>
                  <a:pt x="10939" y="7069"/>
                </a:moveTo>
                <a:cubicBezTo>
                  <a:pt x="11003" y="7172"/>
                  <a:pt x="11032" y="7298"/>
                  <a:pt x="11112" y="7392"/>
                </a:cubicBezTo>
                <a:cubicBezTo>
                  <a:pt x="11202" y="7498"/>
                  <a:pt x="11299" y="7570"/>
                  <a:pt x="11410" y="7640"/>
                </a:cubicBezTo>
                <a:cubicBezTo>
                  <a:pt x="11435" y="7665"/>
                  <a:pt x="11443" y="7673"/>
                  <a:pt x="11460" y="7640"/>
                </a:cubicBezTo>
              </a:path>
              <a:path w="10767" h="1365">
                <a:moveTo>
                  <a:pt x="11187" y="7119"/>
                </a:moveTo>
                <a:cubicBezTo>
                  <a:pt x="11072" y="7257"/>
                  <a:pt x="10942" y="7401"/>
                  <a:pt x="10864" y="7565"/>
                </a:cubicBezTo>
                <a:cubicBezTo>
                  <a:pt x="10846" y="7603"/>
                  <a:pt x="10739" y="7714"/>
                  <a:pt x="10790" y="7665"/>
                </a:cubicBezTo>
              </a:path>
              <a:path w="10767" h="1365">
                <a:moveTo>
                  <a:pt x="11683" y="7144"/>
                </a:moveTo>
                <a:cubicBezTo>
                  <a:pt x="11799" y="7144"/>
                  <a:pt x="11914" y="7144"/>
                  <a:pt x="12030" y="7144"/>
                </a:cubicBezTo>
              </a:path>
              <a:path w="10767" h="1365">
                <a:moveTo>
                  <a:pt x="11683" y="7342"/>
                </a:moveTo>
                <a:cubicBezTo>
                  <a:pt x="11692" y="7461"/>
                  <a:pt x="11708" y="7511"/>
                  <a:pt x="11857" y="7491"/>
                </a:cubicBezTo>
                <a:cubicBezTo>
                  <a:pt x="11940" y="7480"/>
                  <a:pt x="12025" y="7443"/>
                  <a:pt x="12105" y="7417"/>
                </a:cubicBezTo>
              </a:path>
              <a:path w="10767" h="1365">
                <a:moveTo>
                  <a:pt x="12526" y="6921"/>
                </a:moveTo>
                <a:cubicBezTo>
                  <a:pt x="12484" y="7031"/>
                  <a:pt x="12399" y="7196"/>
                  <a:pt x="12402" y="7317"/>
                </a:cubicBezTo>
                <a:cubicBezTo>
                  <a:pt x="12405" y="7418"/>
                  <a:pt x="12468" y="7555"/>
                  <a:pt x="12551" y="7615"/>
                </a:cubicBezTo>
                <a:cubicBezTo>
                  <a:pt x="12639" y="7679"/>
                  <a:pt x="12783" y="7758"/>
                  <a:pt x="12898" y="7739"/>
                </a:cubicBezTo>
                <a:cubicBezTo>
                  <a:pt x="12998" y="7722"/>
                  <a:pt x="13099" y="7653"/>
                  <a:pt x="13146" y="7565"/>
                </a:cubicBezTo>
                <a:cubicBezTo>
                  <a:pt x="13178" y="7505"/>
                  <a:pt x="13273" y="7362"/>
                  <a:pt x="13271" y="7293"/>
                </a:cubicBezTo>
                <a:cubicBezTo>
                  <a:pt x="13248" y="7201"/>
                  <a:pt x="13242" y="7176"/>
                  <a:pt x="13221" y="7119"/>
                </a:cubicBezTo>
              </a:path>
              <a:path w="10767" h="1365">
                <a:moveTo>
                  <a:pt x="12774" y="6921"/>
                </a:moveTo>
                <a:lnTo>
                  <a:pt x="12774" y="6921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Ink 7"/>
          <p:cNvSpPr/>
          <p:nvPr/>
        </p:nvSpPr>
        <p:spPr>
          <a:xfrm>
            <a:off x="839880" y="2955960"/>
            <a:ext cx="3187440" cy="571320"/>
          </a:xfrm>
          <a:custGeom>
            <a:avLst/>
            <a:gdLst/>
            <a:ahLst/>
            <a:rect l="l" t="t" r="r" b="b"/>
            <a:pathLst>
              <a:path w="8856" h="1589">
                <a:moveTo>
                  <a:pt x="2803" y="8632"/>
                </a:moveTo>
                <a:cubicBezTo>
                  <a:pt x="2811" y="8624"/>
                  <a:pt x="2820" y="8615"/>
                  <a:pt x="2828" y="8607"/>
                </a:cubicBezTo>
                <a:cubicBezTo>
                  <a:pt x="2771" y="8573"/>
                  <a:pt x="2676" y="8569"/>
                  <a:pt x="2604" y="8582"/>
                </a:cubicBezTo>
                <a:cubicBezTo>
                  <a:pt x="2543" y="8593"/>
                  <a:pt x="2404" y="8615"/>
                  <a:pt x="2356" y="8657"/>
                </a:cubicBezTo>
                <a:cubicBezTo>
                  <a:pt x="2348" y="8673"/>
                  <a:pt x="2340" y="8690"/>
                  <a:pt x="2332" y="8706"/>
                </a:cubicBezTo>
                <a:cubicBezTo>
                  <a:pt x="2381" y="8770"/>
                  <a:pt x="2405" y="8793"/>
                  <a:pt x="2480" y="8830"/>
                </a:cubicBezTo>
                <a:cubicBezTo>
                  <a:pt x="2591" y="8885"/>
                  <a:pt x="2683" y="8947"/>
                  <a:pt x="2778" y="9029"/>
                </a:cubicBezTo>
                <a:cubicBezTo>
                  <a:pt x="2835" y="9078"/>
                  <a:pt x="2892" y="9176"/>
                  <a:pt x="2877" y="9252"/>
                </a:cubicBezTo>
                <a:cubicBezTo>
                  <a:pt x="2860" y="9338"/>
                  <a:pt x="2749" y="9347"/>
                  <a:pt x="2679" y="9351"/>
                </a:cubicBezTo>
                <a:cubicBezTo>
                  <a:pt x="2622" y="9354"/>
                  <a:pt x="2529" y="9333"/>
                  <a:pt x="2480" y="9302"/>
                </a:cubicBezTo>
                <a:cubicBezTo>
                  <a:pt x="2420" y="9265"/>
                  <a:pt x="2424" y="9220"/>
                  <a:pt x="2431" y="9178"/>
                </a:cubicBezTo>
              </a:path>
              <a:path w="8856" h="1589">
                <a:moveTo>
                  <a:pt x="3101" y="8756"/>
                </a:moveTo>
                <a:cubicBezTo>
                  <a:pt x="3131" y="8840"/>
                  <a:pt x="3166" y="8912"/>
                  <a:pt x="3150" y="9004"/>
                </a:cubicBezTo>
                <a:cubicBezTo>
                  <a:pt x="3133" y="9100"/>
                  <a:pt x="3125" y="9180"/>
                  <a:pt x="3125" y="9277"/>
                </a:cubicBezTo>
                <a:cubicBezTo>
                  <a:pt x="3125" y="9312"/>
                  <a:pt x="3126" y="9374"/>
                  <a:pt x="3150" y="9327"/>
                </a:cubicBezTo>
              </a:path>
              <a:path w="8856" h="1589">
                <a:moveTo>
                  <a:pt x="3249" y="8508"/>
                </a:moveTo>
                <a:cubicBezTo>
                  <a:pt x="3257" y="8491"/>
                  <a:pt x="3266" y="8475"/>
                  <a:pt x="3274" y="8458"/>
                </a:cubicBezTo>
              </a:path>
              <a:path w="8856" h="1589">
                <a:moveTo>
                  <a:pt x="3398" y="9203"/>
                </a:moveTo>
                <a:cubicBezTo>
                  <a:pt x="3398" y="9219"/>
                  <a:pt x="3398" y="9236"/>
                  <a:pt x="3398" y="9252"/>
                </a:cubicBezTo>
                <a:cubicBezTo>
                  <a:pt x="3426" y="9266"/>
                  <a:pt x="3410" y="9197"/>
                  <a:pt x="3423" y="9128"/>
                </a:cubicBezTo>
                <a:cubicBezTo>
                  <a:pt x="3433" y="9075"/>
                  <a:pt x="3441" y="8997"/>
                  <a:pt x="3448" y="8954"/>
                </a:cubicBezTo>
                <a:cubicBezTo>
                  <a:pt x="3464" y="8847"/>
                  <a:pt x="3466" y="8824"/>
                  <a:pt x="3547" y="8756"/>
                </a:cubicBezTo>
                <a:cubicBezTo>
                  <a:pt x="3629" y="8688"/>
                  <a:pt x="3636" y="8710"/>
                  <a:pt x="3696" y="8781"/>
                </a:cubicBezTo>
                <a:cubicBezTo>
                  <a:pt x="3740" y="8833"/>
                  <a:pt x="3781" y="8912"/>
                  <a:pt x="3795" y="8979"/>
                </a:cubicBezTo>
                <a:cubicBezTo>
                  <a:pt x="3809" y="9048"/>
                  <a:pt x="3816" y="9134"/>
                  <a:pt x="3820" y="9203"/>
                </a:cubicBezTo>
                <a:cubicBezTo>
                  <a:pt x="3820" y="9252"/>
                  <a:pt x="3820" y="9269"/>
                  <a:pt x="3820" y="9302"/>
                </a:cubicBezTo>
              </a:path>
              <a:path w="8856" h="1589">
                <a:moveTo>
                  <a:pt x="3994" y="8830"/>
                </a:moveTo>
                <a:cubicBezTo>
                  <a:pt x="4022" y="8931"/>
                  <a:pt x="4056" y="9040"/>
                  <a:pt x="4118" y="9128"/>
                </a:cubicBezTo>
                <a:cubicBezTo>
                  <a:pt x="4187" y="9226"/>
                  <a:pt x="4253" y="9302"/>
                  <a:pt x="4341" y="9376"/>
                </a:cubicBezTo>
                <a:cubicBezTo>
                  <a:pt x="4408" y="9432"/>
                  <a:pt x="4409" y="9475"/>
                  <a:pt x="4490" y="9426"/>
                </a:cubicBezTo>
              </a:path>
              <a:path w="8856" h="1589">
                <a:moveTo>
                  <a:pt x="4440" y="8781"/>
                </a:moveTo>
                <a:cubicBezTo>
                  <a:pt x="4387" y="8834"/>
                  <a:pt x="4273" y="8923"/>
                  <a:pt x="4242" y="8979"/>
                </a:cubicBezTo>
                <a:cubicBezTo>
                  <a:pt x="4182" y="9088"/>
                  <a:pt x="4101" y="9191"/>
                  <a:pt x="4043" y="9302"/>
                </a:cubicBezTo>
                <a:cubicBezTo>
                  <a:pt x="3998" y="9388"/>
                  <a:pt x="3964" y="9413"/>
                  <a:pt x="3894" y="9475"/>
                </a:cubicBezTo>
                <a:cubicBezTo>
                  <a:pt x="3850" y="9520"/>
                  <a:pt x="3833" y="9544"/>
                  <a:pt x="3845" y="9475"/>
                </a:cubicBezTo>
              </a:path>
              <a:path w="8856" h="1589">
                <a:moveTo>
                  <a:pt x="5035" y="8210"/>
                </a:moveTo>
                <a:cubicBezTo>
                  <a:pt x="4996" y="8291"/>
                  <a:pt x="4961" y="8371"/>
                  <a:pt x="4936" y="8458"/>
                </a:cubicBezTo>
                <a:cubicBezTo>
                  <a:pt x="4899" y="8590"/>
                  <a:pt x="4812" y="8693"/>
                  <a:pt x="4787" y="8830"/>
                </a:cubicBezTo>
                <a:cubicBezTo>
                  <a:pt x="4757" y="8997"/>
                  <a:pt x="4762" y="9159"/>
                  <a:pt x="4762" y="9327"/>
                </a:cubicBezTo>
                <a:cubicBezTo>
                  <a:pt x="4762" y="9425"/>
                  <a:pt x="4783" y="9534"/>
                  <a:pt x="4862" y="9599"/>
                </a:cubicBezTo>
                <a:cubicBezTo>
                  <a:pt x="4932" y="9656"/>
                  <a:pt x="4971" y="9674"/>
                  <a:pt x="5060" y="9674"/>
                </a:cubicBezTo>
              </a:path>
              <a:path w="8856" h="1589">
                <a:moveTo>
                  <a:pt x="5308" y="8806"/>
                </a:moveTo>
                <a:cubicBezTo>
                  <a:pt x="5338" y="8702"/>
                  <a:pt x="5338" y="8657"/>
                  <a:pt x="5432" y="8607"/>
                </a:cubicBezTo>
                <a:cubicBezTo>
                  <a:pt x="5503" y="8569"/>
                  <a:pt x="5572" y="8539"/>
                  <a:pt x="5655" y="8558"/>
                </a:cubicBezTo>
                <a:cubicBezTo>
                  <a:pt x="5752" y="8580"/>
                  <a:pt x="5730" y="8653"/>
                  <a:pt x="5730" y="8731"/>
                </a:cubicBezTo>
                <a:cubicBezTo>
                  <a:pt x="5730" y="8856"/>
                  <a:pt x="5661" y="8901"/>
                  <a:pt x="5606" y="9004"/>
                </a:cubicBezTo>
                <a:cubicBezTo>
                  <a:pt x="5560" y="9089"/>
                  <a:pt x="5515" y="9149"/>
                  <a:pt x="5457" y="9227"/>
                </a:cubicBezTo>
                <a:cubicBezTo>
                  <a:pt x="5407" y="9294"/>
                  <a:pt x="5357" y="9360"/>
                  <a:pt x="5308" y="9426"/>
                </a:cubicBezTo>
                <a:cubicBezTo>
                  <a:pt x="5286" y="9448"/>
                  <a:pt x="5277" y="9453"/>
                  <a:pt x="5283" y="9475"/>
                </a:cubicBezTo>
                <a:cubicBezTo>
                  <a:pt x="5339" y="9541"/>
                  <a:pt x="5409" y="9576"/>
                  <a:pt x="5507" y="9550"/>
                </a:cubicBezTo>
                <a:cubicBezTo>
                  <a:pt x="5562" y="9522"/>
                  <a:pt x="5585" y="9514"/>
                  <a:pt x="5631" y="9525"/>
                </a:cubicBezTo>
              </a:path>
              <a:path w="8856" h="1589">
                <a:moveTo>
                  <a:pt x="6276" y="9054"/>
                </a:moveTo>
                <a:cubicBezTo>
                  <a:pt x="6284" y="9108"/>
                  <a:pt x="6293" y="9124"/>
                  <a:pt x="6300" y="9178"/>
                </a:cubicBezTo>
                <a:cubicBezTo>
                  <a:pt x="6319" y="9141"/>
                  <a:pt x="6308" y="9082"/>
                  <a:pt x="6276" y="9029"/>
                </a:cubicBezTo>
                <a:cubicBezTo>
                  <a:pt x="6231" y="8954"/>
                  <a:pt x="6134" y="9037"/>
                  <a:pt x="6102" y="9079"/>
                </a:cubicBezTo>
                <a:cubicBezTo>
                  <a:pt x="6066" y="9126"/>
                  <a:pt x="6014" y="9220"/>
                  <a:pt x="6003" y="9277"/>
                </a:cubicBezTo>
                <a:cubicBezTo>
                  <a:pt x="5989" y="9347"/>
                  <a:pt x="6007" y="9423"/>
                  <a:pt x="6052" y="9475"/>
                </a:cubicBezTo>
                <a:cubicBezTo>
                  <a:pt x="6107" y="9537"/>
                  <a:pt x="6143" y="9570"/>
                  <a:pt x="6226" y="9575"/>
                </a:cubicBezTo>
                <a:cubicBezTo>
                  <a:pt x="6243" y="9575"/>
                  <a:pt x="6259" y="9575"/>
                  <a:pt x="6276" y="9575"/>
                </a:cubicBezTo>
              </a:path>
              <a:path w="8856" h="1589">
                <a:moveTo>
                  <a:pt x="6623" y="9029"/>
                </a:moveTo>
                <a:cubicBezTo>
                  <a:pt x="6586" y="9111"/>
                  <a:pt x="6571" y="9174"/>
                  <a:pt x="6548" y="9252"/>
                </a:cubicBezTo>
                <a:cubicBezTo>
                  <a:pt x="6534" y="9301"/>
                  <a:pt x="6522" y="9387"/>
                  <a:pt x="6573" y="9426"/>
                </a:cubicBezTo>
                <a:cubicBezTo>
                  <a:pt x="6602" y="9449"/>
                  <a:pt x="6672" y="9541"/>
                  <a:pt x="6697" y="9550"/>
                </a:cubicBezTo>
                <a:cubicBezTo>
                  <a:pt x="6792" y="9584"/>
                  <a:pt x="6845" y="9535"/>
                  <a:pt x="6896" y="9475"/>
                </a:cubicBezTo>
                <a:cubicBezTo>
                  <a:pt x="6934" y="9430"/>
                  <a:pt x="6981" y="9388"/>
                  <a:pt x="6995" y="9327"/>
                </a:cubicBezTo>
                <a:cubicBezTo>
                  <a:pt x="7014" y="9242"/>
                  <a:pt x="6981" y="9176"/>
                  <a:pt x="6945" y="9103"/>
                </a:cubicBezTo>
                <a:cubicBezTo>
                  <a:pt x="6899" y="9010"/>
                  <a:pt x="6882" y="8985"/>
                  <a:pt x="6772" y="8979"/>
                </a:cubicBezTo>
                <a:cubicBezTo>
                  <a:pt x="6711" y="8976"/>
                  <a:pt x="6616" y="9041"/>
                  <a:pt x="6598" y="9103"/>
                </a:cubicBezTo>
                <a:cubicBezTo>
                  <a:pt x="6582" y="9158"/>
                  <a:pt x="6618" y="9190"/>
                  <a:pt x="6648" y="9227"/>
                </a:cubicBezTo>
              </a:path>
              <a:path w="8856" h="1589">
                <a:moveTo>
                  <a:pt x="7268" y="9004"/>
                </a:moveTo>
                <a:cubicBezTo>
                  <a:pt x="7220" y="9009"/>
                  <a:pt x="7096" y="9025"/>
                  <a:pt x="7069" y="9079"/>
                </a:cubicBezTo>
                <a:cubicBezTo>
                  <a:pt x="7039" y="9137"/>
                  <a:pt x="7130" y="9187"/>
                  <a:pt x="7169" y="9203"/>
                </a:cubicBezTo>
                <a:cubicBezTo>
                  <a:pt x="7257" y="9239"/>
                  <a:pt x="7316" y="9290"/>
                  <a:pt x="7392" y="9351"/>
                </a:cubicBezTo>
                <a:cubicBezTo>
                  <a:pt x="7428" y="9380"/>
                  <a:pt x="7472" y="9478"/>
                  <a:pt x="7441" y="9525"/>
                </a:cubicBezTo>
                <a:cubicBezTo>
                  <a:pt x="7396" y="9593"/>
                  <a:pt x="7338" y="9559"/>
                  <a:pt x="7293" y="9550"/>
                </a:cubicBezTo>
                <a:cubicBezTo>
                  <a:pt x="7221" y="9536"/>
                  <a:pt x="7188" y="9525"/>
                  <a:pt x="7218" y="9451"/>
                </a:cubicBezTo>
              </a:path>
              <a:path w="8856" h="1589">
                <a:moveTo>
                  <a:pt x="7615" y="9054"/>
                </a:moveTo>
                <a:cubicBezTo>
                  <a:pt x="7652" y="9192"/>
                  <a:pt x="7691" y="9292"/>
                  <a:pt x="7789" y="9401"/>
                </a:cubicBezTo>
                <a:cubicBezTo>
                  <a:pt x="7864" y="9484"/>
                  <a:pt x="7947" y="9542"/>
                  <a:pt x="8037" y="9599"/>
                </a:cubicBezTo>
                <a:cubicBezTo>
                  <a:pt x="8134" y="9661"/>
                  <a:pt x="8178" y="9661"/>
                  <a:pt x="8260" y="9599"/>
                </a:cubicBezTo>
              </a:path>
              <a:path w="8856" h="1589">
                <a:moveTo>
                  <a:pt x="8012" y="8979"/>
                </a:moveTo>
                <a:cubicBezTo>
                  <a:pt x="7893" y="9122"/>
                  <a:pt x="7838" y="9196"/>
                  <a:pt x="7764" y="9351"/>
                </a:cubicBezTo>
                <a:cubicBezTo>
                  <a:pt x="7726" y="9432"/>
                  <a:pt x="7695" y="9474"/>
                  <a:pt x="7665" y="9550"/>
                </a:cubicBezTo>
                <a:cubicBezTo>
                  <a:pt x="7642" y="9573"/>
                  <a:pt x="7631" y="9581"/>
                  <a:pt x="7665" y="9575"/>
                </a:cubicBezTo>
              </a:path>
              <a:path w="8856" h="1589">
                <a:moveTo>
                  <a:pt x="8111" y="9277"/>
                </a:moveTo>
                <a:cubicBezTo>
                  <a:pt x="8232" y="9277"/>
                  <a:pt x="8338" y="9298"/>
                  <a:pt x="8458" y="9302"/>
                </a:cubicBezTo>
                <a:cubicBezTo>
                  <a:pt x="8524" y="9302"/>
                  <a:pt x="8541" y="9302"/>
                  <a:pt x="8582" y="9302"/>
                </a:cubicBezTo>
              </a:path>
              <a:path w="8856" h="1589">
                <a:moveTo>
                  <a:pt x="8806" y="8657"/>
                </a:moveTo>
                <a:cubicBezTo>
                  <a:pt x="8761" y="8732"/>
                  <a:pt x="8759" y="8837"/>
                  <a:pt x="8756" y="8930"/>
                </a:cubicBezTo>
                <a:cubicBezTo>
                  <a:pt x="8749" y="9130"/>
                  <a:pt x="8753" y="9330"/>
                  <a:pt x="8781" y="9525"/>
                </a:cubicBezTo>
                <a:cubicBezTo>
                  <a:pt x="8786" y="9557"/>
                  <a:pt x="8780" y="9625"/>
                  <a:pt x="8806" y="9575"/>
                </a:cubicBezTo>
              </a:path>
              <a:path w="8856" h="1589">
                <a:moveTo>
                  <a:pt x="8756" y="8235"/>
                </a:moveTo>
                <a:cubicBezTo>
                  <a:pt x="8915" y="8308"/>
                  <a:pt x="8926" y="8394"/>
                  <a:pt x="9004" y="8558"/>
                </a:cubicBezTo>
                <a:cubicBezTo>
                  <a:pt x="9069" y="8694"/>
                  <a:pt x="9120" y="8833"/>
                  <a:pt x="9153" y="8979"/>
                </a:cubicBezTo>
                <a:cubicBezTo>
                  <a:pt x="9183" y="9111"/>
                  <a:pt x="9218" y="9291"/>
                  <a:pt x="9203" y="9426"/>
                </a:cubicBezTo>
                <a:cubicBezTo>
                  <a:pt x="9195" y="9504"/>
                  <a:pt x="9161" y="9653"/>
                  <a:pt x="9128" y="9723"/>
                </a:cubicBezTo>
                <a:cubicBezTo>
                  <a:pt x="9103" y="9777"/>
                  <a:pt x="9065" y="9791"/>
                  <a:pt x="9029" y="9773"/>
                </a:cubicBezTo>
              </a:path>
              <a:path w="8856" h="1589">
                <a:moveTo>
                  <a:pt x="9649" y="9128"/>
                </a:moveTo>
                <a:cubicBezTo>
                  <a:pt x="9748" y="9128"/>
                  <a:pt x="9848" y="9128"/>
                  <a:pt x="9947" y="9128"/>
                </a:cubicBezTo>
              </a:path>
              <a:path w="8856" h="1589">
                <a:moveTo>
                  <a:pt x="9699" y="9376"/>
                </a:moveTo>
                <a:cubicBezTo>
                  <a:pt x="9754" y="9447"/>
                  <a:pt x="9753" y="9451"/>
                  <a:pt x="9847" y="9451"/>
                </a:cubicBezTo>
                <a:cubicBezTo>
                  <a:pt x="9906" y="9451"/>
                  <a:pt x="9932" y="9448"/>
                  <a:pt x="9971" y="9426"/>
                </a:cubicBezTo>
              </a:path>
              <a:path w="8856" h="1589">
                <a:moveTo>
                  <a:pt x="10443" y="8830"/>
                </a:moveTo>
                <a:cubicBezTo>
                  <a:pt x="10409" y="8920"/>
                  <a:pt x="10414" y="9011"/>
                  <a:pt x="10393" y="9103"/>
                </a:cubicBezTo>
                <a:cubicBezTo>
                  <a:pt x="10369" y="9208"/>
                  <a:pt x="10350" y="9299"/>
                  <a:pt x="10393" y="9401"/>
                </a:cubicBezTo>
                <a:cubicBezTo>
                  <a:pt x="10425" y="9476"/>
                  <a:pt x="10443" y="9537"/>
                  <a:pt x="10492" y="9599"/>
                </a:cubicBezTo>
                <a:cubicBezTo>
                  <a:pt x="10529" y="9646"/>
                  <a:pt x="10636" y="9713"/>
                  <a:pt x="10691" y="9723"/>
                </a:cubicBezTo>
                <a:cubicBezTo>
                  <a:pt x="10816" y="9746"/>
                  <a:pt x="10928" y="9689"/>
                  <a:pt x="11013" y="9599"/>
                </a:cubicBezTo>
                <a:cubicBezTo>
                  <a:pt x="11066" y="9543"/>
                  <a:pt x="11141" y="9457"/>
                  <a:pt x="11162" y="9376"/>
                </a:cubicBezTo>
                <a:cubicBezTo>
                  <a:pt x="11184" y="9291"/>
                  <a:pt x="11194" y="9137"/>
                  <a:pt x="11162" y="9054"/>
                </a:cubicBezTo>
                <a:cubicBezTo>
                  <a:pt x="11119" y="8940"/>
                  <a:pt x="11014" y="8868"/>
                  <a:pt x="10914" y="8830"/>
                </a:cubicBezTo>
                <a:cubicBezTo>
                  <a:pt x="10773" y="8777"/>
                  <a:pt x="10659" y="8777"/>
                  <a:pt x="10517" y="88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Ink 8"/>
          <p:cNvSpPr/>
          <p:nvPr/>
        </p:nvSpPr>
        <p:spPr>
          <a:xfrm>
            <a:off x="820800" y="3776760"/>
            <a:ext cx="1162080" cy="358560"/>
          </a:xfrm>
          <a:custGeom>
            <a:avLst/>
            <a:gdLst/>
            <a:ahLst/>
            <a:rect l="l" t="t" r="r" b="b"/>
            <a:pathLst>
              <a:path w="3226" h="994">
                <a:moveTo>
                  <a:pt x="2704" y="10542"/>
                </a:moveTo>
                <a:cubicBezTo>
                  <a:pt x="2644" y="10506"/>
                  <a:pt x="2579" y="10517"/>
                  <a:pt x="2505" y="10517"/>
                </a:cubicBezTo>
                <a:cubicBezTo>
                  <a:pt x="2421" y="10517"/>
                  <a:pt x="2370" y="10564"/>
                  <a:pt x="2307" y="10616"/>
                </a:cubicBezTo>
                <a:cubicBezTo>
                  <a:pt x="2350" y="10676"/>
                  <a:pt x="2401" y="10710"/>
                  <a:pt x="2456" y="10765"/>
                </a:cubicBezTo>
                <a:cubicBezTo>
                  <a:pt x="2517" y="10826"/>
                  <a:pt x="2581" y="10871"/>
                  <a:pt x="2629" y="10939"/>
                </a:cubicBezTo>
                <a:cubicBezTo>
                  <a:pt x="2673" y="11001"/>
                  <a:pt x="2701" y="11065"/>
                  <a:pt x="2704" y="11137"/>
                </a:cubicBezTo>
                <a:cubicBezTo>
                  <a:pt x="2709" y="11238"/>
                  <a:pt x="2627" y="11268"/>
                  <a:pt x="2530" y="11237"/>
                </a:cubicBezTo>
                <a:cubicBezTo>
                  <a:pt x="2481" y="11221"/>
                  <a:pt x="2405" y="11197"/>
                  <a:pt x="2356" y="11162"/>
                </a:cubicBezTo>
                <a:cubicBezTo>
                  <a:pt x="2319" y="11136"/>
                  <a:pt x="2297" y="11099"/>
                  <a:pt x="2282" y="11063"/>
                </a:cubicBezTo>
              </a:path>
              <a:path w="3226" h="994">
                <a:moveTo>
                  <a:pt x="2977" y="10765"/>
                </a:moveTo>
                <a:cubicBezTo>
                  <a:pt x="2999" y="10870"/>
                  <a:pt x="3001" y="10956"/>
                  <a:pt x="3001" y="11063"/>
                </a:cubicBezTo>
                <a:cubicBezTo>
                  <a:pt x="3001" y="11136"/>
                  <a:pt x="3017" y="11191"/>
                  <a:pt x="3026" y="11261"/>
                </a:cubicBezTo>
                <a:cubicBezTo>
                  <a:pt x="3026" y="11212"/>
                  <a:pt x="3026" y="11195"/>
                  <a:pt x="3026" y="11162"/>
                </a:cubicBezTo>
              </a:path>
              <a:path w="3226" h="994">
                <a:moveTo>
                  <a:pt x="3026" y="10517"/>
                </a:moveTo>
                <a:cubicBezTo>
                  <a:pt x="3043" y="10509"/>
                  <a:pt x="3059" y="10500"/>
                  <a:pt x="3076" y="10492"/>
                </a:cubicBezTo>
              </a:path>
              <a:path w="3226" h="994">
                <a:moveTo>
                  <a:pt x="3249" y="11063"/>
                </a:moveTo>
                <a:cubicBezTo>
                  <a:pt x="3249" y="11154"/>
                  <a:pt x="3249" y="11179"/>
                  <a:pt x="3249" y="11237"/>
                </a:cubicBezTo>
                <a:cubicBezTo>
                  <a:pt x="3249" y="11163"/>
                  <a:pt x="3271" y="11109"/>
                  <a:pt x="3274" y="11038"/>
                </a:cubicBezTo>
                <a:cubicBezTo>
                  <a:pt x="3278" y="10921"/>
                  <a:pt x="3300" y="10908"/>
                  <a:pt x="3349" y="10815"/>
                </a:cubicBezTo>
                <a:cubicBezTo>
                  <a:pt x="3386" y="10744"/>
                  <a:pt x="3397" y="10726"/>
                  <a:pt x="3473" y="10716"/>
                </a:cubicBezTo>
                <a:cubicBezTo>
                  <a:pt x="3501" y="10794"/>
                  <a:pt x="3542" y="10862"/>
                  <a:pt x="3572" y="10939"/>
                </a:cubicBezTo>
                <a:cubicBezTo>
                  <a:pt x="3606" y="11025"/>
                  <a:pt x="3621" y="11096"/>
                  <a:pt x="3621" y="11187"/>
                </a:cubicBezTo>
                <a:cubicBezTo>
                  <a:pt x="3621" y="11248"/>
                  <a:pt x="3631" y="11246"/>
                  <a:pt x="3671" y="11286"/>
                </a:cubicBezTo>
              </a:path>
              <a:path w="3226" h="994">
                <a:moveTo>
                  <a:pt x="3795" y="10815"/>
                </a:moveTo>
                <a:cubicBezTo>
                  <a:pt x="3829" y="10916"/>
                  <a:pt x="3848" y="11009"/>
                  <a:pt x="3919" y="11088"/>
                </a:cubicBezTo>
                <a:cubicBezTo>
                  <a:pt x="4004" y="11183"/>
                  <a:pt x="4068" y="11268"/>
                  <a:pt x="4167" y="11361"/>
                </a:cubicBezTo>
                <a:cubicBezTo>
                  <a:pt x="4231" y="11421"/>
                  <a:pt x="4263" y="11431"/>
                  <a:pt x="4341" y="11460"/>
                </a:cubicBezTo>
              </a:path>
              <a:path w="3226" h="994">
                <a:moveTo>
                  <a:pt x="4167" y="10790"/>
                </a:moveTo>
                <a:cubicBezTo>
                  <a:pt x="4085" y="10910"/>
                  <a:pt x="4021" y="11025"/>
                  <a:pt x="3969" y="11162"/>
                </a:cubicBezTo>
                <a:cubicBezTo>
                  <a:pt x="3937" y="11245"/>
                  <a:pt x="3887" y="11278"/>
                  <a:pt x="3845" y="11361"/>
                </a:cubicBezTo>
                <a:cubicBezTo>
                  <a:pt x="3837" y="11377"/>
                  <a:pt x="3828" y="11394"/>
                  <a:pt x="3820" y="11410"/>
                </a:cubicBezTo>
              </a:path>
              <a:path w="3226" h="994">
                <a:moveTo>
                  <a:pt x="4341" y="11063"/>
                </a:moveTo>
                <a:cubicBezTo>
                  <a:pt x="4448" y="11063"/>
                  <a:pt x="4514" y="11063"/>
                  <a:pt x="4614" y="11038"/>
                </a:cubicBezTo>
              </a:path>
              <a:path w="3226" h="994">
                <a:moveTo>
                  <a:pt x="4390" y="11212"/>
                </a:moveTo>
                <a:cubicBezTo>
                  <a:pt x="4445" y="11245"/>
                  <a:pt x="4496" y="11237"/>
                  <a:pt x="4564" y="11237"/>
                </a:cubicBezTo>
                <a:cubicBezTo>
                  <a:pt x="4581" y="11237"/>
                  <a:pt x="4597" y="11237"/>
                  <a:pt x="4614" y="11237"/>
                </a:cubicBezTo>
              </a:path>
              <a:path w="3226" h="994">
                <a:moveTo>
                  <a:pt x="5060" y="10840"/>
                </a:moveTo>
                <a:cubicBezTo>
                  <a:pt x="5023" y="10913"/>
                  <a:pt x="4996" y="10989"/>
                  <a:pt x="4961" y="11063"/>
                </a:cubicBezTo>
                <a:cubicBezTo>
                  <a:pt x="4926" y="11135"/>
                  <a:pt x="4936" y="11207"/>
                  <a:pt x="4936" y="11286"/>
                </a:cubicBezTo>
                <a:cubicBezTo>
                  <a:pt x="4936" y="11358"/>
                  <a:pt x="4946" y="11418"/>
                  <a:pt x="5011" y="11460"/>
                </a:cubicBezTo>
                <a:cubicBezTo>
                  <a:pt x="5095" y="11515"/>
                  <a:pt x="5219" y="11490"/>
                  <a:pt x="5308" y="11460"/>
                </a:cubicBezTo>
                <a:cubicBezTo>
                  <a:pt x="5378" y="11437"/>
                  <a:pt x="5444" y="11322"/>
                  <a:pt x="5482" y="11261"/>
                </a:cubicBezTo>
                <a:cubicBezTo>
                  <a:pt x="5516" y="11207"/>
                  <a:pt x="5529" y="11072"/>
                  <a:pt x="5507" y="11013"/>
                </a:cubicBezTo>
                <a:cubicBezTo>
                  <a:pt x="5487" y="10959"/>
                  <a:pt x="5378" y="10842"/>
                  <a:pt x="5333" y="10815"/>
                </a:cubicBezTo>
                <a:cubicBezTo>
                  <a:pt x="5299" y="10795"/>
                  <a:pt x="5150" y="10765"/>
                  <a:pt x="5110" y="10790"/>
                </a:cubicBezTo>
                <a:cubicBezTo>
                  <a:pt x="5110" y="10798"/>
                  <a:pt x="5110" y="10807"/>
                  <a:pt x="5110" y="108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Ink 9"/>
          <p:cNvSpPr/>
          <p:nvPr/>
        </p:nvSpPr>
        <p:spPr>
          <a:xfrm>
            <a:off x="2446200" y="3795840"/>
            <a:ext cx="1812960" cy="768240"/>
          </a:xfrm>
          <a:custGeom>
            <a:avLst/>
            <a:gdLst/>
            <a:ahLst/>
            <a:rect l="l" t="t" r="r" b="b"/>
            <a:pathLst>
              <a:path w="5037" h="2134">
                <a:moveTo>
                  <a:pt x="6796" y="10691"/>
                </a:moveTo>
                <a:cubicBezTo>
                  <a:pt x="6832" y="10640"/>
                  <a:pt x="6875" y="10559"/>
                  <a:pt x="6945" y="10542"/>
                </a:cubicBezTo>
                <a:cubicBezTo>
                  <a:pt x="7012" y="10526"/>
                  <a:pt x="7136" y="10531"/>
                  <a:pt x="7193" y="10567"/>
                </a:cubicBezTo>
                <a:cubicBezTo>
                  <a:pt x="7286" y="10625"/>
                  <a:pt x="7266" y="10723"/>
                  <a:pt x="7243" y="10815"/>
                </a:cubicBezTo>
                <a:cubicBezTo>
                  <a:pt x="7220" y="10904"/>
                  <a:pt x="7144" y="10944"/>
                  <a:pt x="7094" y="11013"/>
                </a:cubicBezTo>
                <a:cubicBezTo>
                  <a:pt x="7055" y="11067"/>
                  <a:pt x="7033" y="11132"/>
                  <a:pt x="6995" y="11187"/>
                </a:cubicBezTo>
                <a:cubicBezTo>
                  <a:pt x="6946" y="11257"/>
                  <a:pt x="6931" y="11269"/>
                  <a:pt x="6970" y="11361"/>
                </a:cubicBezTo>
                <a:cubicBezTo>
                  <a:pt x="7012" y="11459"/>
                  <a:pt x="7145" y="11475"/>
                  <a:pt x="7243" y="11460"/>
                </a:cubicBezTo>
                <a:cubicBezTo>
                  <a:pt x="7268" y="11452"/>
                  <a:pt x="7292" y="11443"/>
                  <a:pt x="7317" y="11435"/>
                </a:cubicBezTo>
              </a:path>
              <a:path w="5037" h="2134">
                <a:moveTo>
                  <a:pt x="7789" y="10988"/>
                </a:moveTo>
                <a:cubicBezTo>
                  <a:pt x="7798" y="10970"/>
                  <a:pt x="7792" y="10886"/>
                  <a:pt x="7739" y="10889"/>
                </a:cubicBezTo>
                <a:cubicBezTo>
                  <a:pt x="7665" y="10893"/>
                  <a:pt x="7613" y="10965"/>
                  <a:pt x="7565" y="11013"/>
                </a:cubicBezTo>
                <a:cubicBezTo>
                  <a:pt x="7491" y="11087"/>
                  <a:pt x="7447" y="11079"/>
                  <a:pt x="7466" y="11212"/>
                </a:cubicBezTo>
                <a:cubicBezTo>
                  <a:pt x="7477" y="11292"/>
                  <a:pt x="7551" y="11372"/>
                  <a:pt x="7615" y="11410"/>
                </a:cubicBezTo>
                <a:cubicBezTo>
                  <a:pt x="7673" y="11444"/>
                  <a:pt x="7724" y="11435"/>
                  <a:pt x="7789" y="11435"/>
                </a:cubicBezTo>
              </a:path>
              <a:path w="5037" h="2134">
                <a:moveTo>
                  <a:pt x="8111" y="11013"/>
                </a:moveTo>
                <a:cubicBezTo>
                  <a:pt x="8045" y="11128"/>
                  <a:pt x="8028" y="11165"/>
                  <a:pt x="8037" y="11286"/>
                </a:cubicBezTo>
                <a:cubicBezTo>
                  <a:pt x="8048" y="11431"/>
                  <a:pt x="8079" y="11373"/>
                  <a:pt x="8161" y="11460"/>
                </a:cubicBezTo>
                <a:cubicBezTo>
                  <a:pt x="8221" y="11524"/>
                  <a:pt x="8255" y="11556"/>
                  <a:pt x="8359" y="11534"/>
                </a:cubicBezTo>
                <a:cubicBezTo>
                  <a:pt x="8420" y="11521"/>
                  <a:pt x="8514" y="11448"/>
                  <a:pt x="8533" y="11385"/>
                </a:cubicBezTo>
                <a:cubicBezTo>
                  <a:pt x="8553" y="11318"/>
                  <a:pt x="8553" y="11174"/>
                  <a:pt x="8508" y="11112"/>
                </a:cubicBezTo>
                <a:cubicBezTo>
                  <a:pt x="8484" y="11079"/>
                  <a:pt x="8380" y="10992"/>
                  <a:pt x="8334" y="10988"/>
                </a:cubicBezTo>
                <a:cubicBezTo>
                  <a:pt x="8240" y="10979"/>
                  <a:pt x="8124" y="10976"/>
                  <a:pt x="8062" y="11063"/>
                </a:cubicBezTo>
                <a:cubicBezTo>
                  <a:pt x="8054" y="11079"/>
                  <a:pt x="8045" y="11096"/>
                  <a:pt x="8037" y="11112"/>
                </a:cubicBezTo>
                <a:cubicBezTo>
                  <a:pt x="8107" y="11201"/>
                  <a:pt x="8088" y="11199"/>
                  <a:pt x="8210" y="11237"/>
                </a:cubicBezTo>
              </a:path>
              <a:path w="5037" h="2134">
                <a:moveTo>
                  <a:pt x="8731" y="10988"/>
                </a:moveTo>
                <a:cubicBezTo>
                  <a:pt x="8672" y="10930"/>
                  <a:pt x="8661" y="10934"/>
                  <a:pt x="8582" y="10964"/>
                </a:cubicBezTo>
                <a:cubicBezTo>
                  <a:pt x="8615" y="11045"/>
                  <a:pt x="8645" y="11097"/>
                  <a:pt x="8706" y="11162"/>
                </a:cubicBezTo>
                <a:cubicBezTo>
                  <a:pt x="8766" y="11226"/>
                  <a:pt x="8844" y="11279"/>
                  <a:pt x="8880" y="11361"/>
                </a:cubicBezTo>
                <a:cubicBezTo>
                  <a:pt x="8914" y="11438"/>
                  <a:pt x="8935" y="11534"/>
                  <a:pt x="8830" y="11559"/>
                </a:cubicBezTo>
                <a:cubicBezTo>
                  <a:pt x="8752" y="11578"/>
                  <a:pt x="8609" y="11557"/>
                  <a:pt x="8558" y="11485"/>
                </a:cubicBezTo>
                <a:cubicBezTo>
                  <a:pt x="8538" y="11444"/>
                  <a:pt x="8529" y="11438"/>
                  <a:pt x="8533" y="11410"/>
                </a:cubicBezTo>
              </a:path>
              <a:path w="5037" h="2134">
                <a:moveTo>
                  <a:pt x="9004" y="11013"/>
                </a:moveTo>
                <a:cubicBezTo>
                  <a:pt x="9077" y="11122"/>
                  <a:pt x="9117" y="11288"/>
                  <a:pt x="9203" y="11385"/>
                </a:cubicBezTo>
                <a:cubicBezTo>
                  <a:pt x="9267" y="11457"/>
                  <a:pt x="9351" y="11557"/>
                  <a:pt x="9426" y="11609"/>
                </a:cubicBezTo>
                <a:cubicBezTo>
                  <a:pt x="9474" y="11632"/>
                  <a:pt x="9488" y="11640"/>
                  <a:pt x="9525" y="11633"/>
                </a:cubicBezTo>
              </a:path>
              <a:path w="5037" h="2134">
                <a:moveTo>
                  <a:pt x="9376" y="10889"/>
                </a:moveTo>
                <a:cubicBezTo>
                  <a:pt x="9301" y="11012"/>
                  <a:pt x="9203" y="11127"/>
                  <a:pt x="9153" y="11261"/>
                </a:cubicBezTo>
                <a:cubicBezTo>
                  <a:pt x="9122" y="11344"/>
                  <a:pt x="9089" y="11428"/>
                  <a:pt x="9054" y="11509"/>
                </a:cubicBezTo>
                <a:cubicBezTo>
                  <a:pt x="9027" y="11571"/>
                  <a:pt x="9021" y="11569"/>
                  <a:pt x="9079" y="11584"/>
                </a:cubicBezTo>
              </a:path>
              <a:path w="5037" h="2134">
                <a:moveTo>
                  <a:pt x="9599" y="11261"/>
                </a:moveTo>
                <a:cubicBezTo>
                  <a:pt x="9707" y="11261"/>
                  <a:pt x="9814" y="11261"/>
                  <a:pt x="9922" y="11261"/>
                </a:cubicBezTo>
              </a:path>
              <a:path w="5037" h="2134">
                <a:moveTo>
                  <a:pt x="10195" y="10765"/>
                </a:moveTo>
                <a:cubicBezTo>
                  <a:pt x="10173" y="10865"/>
                  <a:pt x="10145" y="10927"/>
                  <a:pt x="10145" y="11038"/>
                </a:cubicBezTo>
                <a:cubicBezTo>
                  <a:pt x="10145" y="11152"/>
                  <a:pt x="10154" y="11251"/>
                  <a:pt x="10170" y="11361"/>
                </a:cubicBezTo>
                <a:cubicBezTo>
                  <a:pt x="10179" y="11426"/>
                  <a:pt x="10151" y="11482"/>
                  <a:pt x="10195" y="11534"/>
                </a:cubicBezTo>
                <a:cubicBezTo>
                  <a:pt x="10211" y="11551"/>
                  <a:pt x="10228" y="11567"/>
                  <a:pt x="10244" y="11584"/>
                </a:cubicBezTo>
              </a:path>
              <a:path w="5037" h="2134">
                <a:moveTo>
                  <a:pt x="10517" y="11187"/>
                </a:moveTo>
                <a:cubicBezTo>
                  <a:pt x="10612" y="11170"/>
                  <a:pt x="10699" y="11148"/>
                  <a:pt x="10790" y="11137"/>
                </a:cubicBezTo>
              </a:path>
              <a:path w="5037" h="2134">
                <a:moveTo>
                  <a:pt x="10592" y="11361"/>
                </a:moveTo>
                <a:cubicBezTo>
                  <a:pt x="10643" y="11423"/>
                  <a:pt x="10676" y="11431"/>
                  <a:pt x="10765" y="11435"/>
                </a:cubicBezTo>
                <a:cubicBezTo>
                  <a:pt x="10819" y="11438"/>
                  <a:pt x="10861" y="11417"/>
                  <a:pt x="10914" y="11410"/>
                </a:cubicBezTo>
              </a:path>
              <a:path w="5037" h="2134">
                <a:moveTo>
                  <a:pt x="11261" y="10914"/>
                </a:moveTo>
                <a:cubicBezTo>
                  <a:pt x="11231" y="10975"/>
                  <a:pt x="11187" y="11027"/>
                  <a:pt x="11162" y="11088"/>
                </a:cubicBezTo>
                <a:cubicBezTo>
                  <a:pt x="11124" y="11180"/>
                  <a:pt x="11089" y="11266"/>
                  <a:pt x="11137" y="11361"/>
                </a:cubicBezTo>
                <a:cubicBezTo>
                  <a:pt x="11205" y="11495"/>
                  <a:pt x="11311" y="11602"/>
                  <a:pt x="11435" y="11683"/>
                </a:cubicBezTo>
                <a:cubicBezTo>
                  <a:pt x="11489" y="11718"/>
                  <a:pt x="11605" y="11696"/>
                  <a:pt x="11658" y="11658"/>
                </a:cubicBezTo>
                <a:cubicBezTo>
                  <a:pt x="11731" y="11605"/>
                  <a:pt x="11790" y="11524"/>
                  <a:pt x="11807" y="11435"/>
                </a:cubicBezTo>
                <a:cubicBezTo>
                  <a:pt x="11826" y="11335"/>
                  <a:pt x="11836" y="11276"/>
                  <a:pt x="11782" y="11187"/>
                </a:cubicBezTo>
                <a:cubicBezTo>
                  <a:pt x="11727" y="11096"/>
                  <a:pt x="11578" y="10983"/>
                  <a:pt x="11460" y="10988"/>
                </a:cubicBezTo>
                <a:cubicBezTo>
                  <a:pt x="11405" y="11016"/>
                  <a:pt x="11382" y="11024"/>
                  <a:pt x="11336" y="11013"/>
                </a:cubicBezTo>
              </a:path>
              <a:path w="5037" h="2134">
                <a:moveTo>
                  <a:pt x="9773" y="12204"/>
                </a:moveTo>
                <a:cubicBezTo>
                  <a:pt x="9773" y="12310"/>
                  <a:pt x="9748" y="12457"/>
                  <a:pt x="9798" y="12551"/>
                </a:cubicBezTo>
                <a:cubicBezTo>
                  <a:pt x="9814" y="12576"/>
                  <a:pt x="9831" y="12601"/>
                  <a:pt x="9847" y="12626"/>
                </a:cubicBezTo>
              </a:path>
              <a:path w="5037" h="2134">
                <a:moveTo>
                  <a:pt x="9699" y="12353"/>
                </a:moveTo>
                <a:cubicBezTo>
                  <a:pt x="9751" y="12379"/>
                  <a:pt x="9857" y="12416"/>
                  <a:pt x="9922" y="12427"/>
                </a:cubicBezTo>
                <a:cubicBezTo>
                  <a:pt x="9947" y="12427"/>
                  <a:pt x="9971" y="12427"/>
                  <a:pt x="9996" y="12427"/>
                </a:cubicBezTo>
              </a:path>
              <a:path w="5037" h="2134">
                <a:moveTo>
                  <a:pt x="10319" y="12229"/>
                </a:moveTo>
                <a:cubicBezTo>
                  <a:pt x="10319" y="12436"/>
                  <a:pt x="10308" y="12450"/>
                  <a:pt x="10393" y="12601"/>
                </a:cubicBezTo>
                <a:cubicBezTo>
                  <a:pt x="10415" y="12644"/>
                  <a:pt x="10419" y="12656"/>
                  <a:pt x="10443" y="12675"/>
                </a:cubicBezTo>
              </a:path>
              <a:path w="5037" h="2134">
                <a:moveTo>
                  <a:pt x="11261" y="12030"/>
                </a:moveTo>
                <a:cubicBezTo>
                  <a:pt x="11261" y="12179"/>
                  <a:pt x="11261" y="12328"/>
                  <a:pt x="11261" y="12477"/>
                </a:cubicBezTo>
              </a:path>
              <a:path w="5037" h="2134">
                <a:moveTo>
                  <a:pt x="11187" y="12204"/>
                </a:moveTo>
                <a:cubicBezTo>
                  <a:pt x="11282" y="12244"/>
                  <a:pt x="11357" y="12291"/>
                  <a:pt x="11460" y="12303"/>
                </a:cubicBezTo>
              </a:path>
              <a:path w="5037" h="2134">
                <a:moveTo>
                  <a:pt x="11782" y="12105"/>
                </a:moveTo>
                <a:cubicBezTo>
                  <a:pt x="11753" y="12214"/>
                  <a:pt x="11712" y="12315"/>
                  <a:pt x="11708" y="12427"/>
                </a:cubicBezTo>
                <a:cubicBezTo>
                  <a:pt x="11708" y="12518"/>
                  <a:pt x="11708" y="12560"/>
                  <a:pt x="11708" y="126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Ink 10"/>
          <p:cNvSpPr/>
          <p:nvPr/>
        </p:nvSpPr>
        <p:spPr>
          <a:xfrm>
            <a:off x="660240" y="4848120"/>
            <a:ext cx="339840" cy="376200"/>
          </a:xfrm>
          <a:custGeom>
            <a:avLst/>
            <a:gdLst/>
            <a:ahLst/>
            <a:rect l="l" t="t" r="r" b="b"/>
            <a:pathLst>
              <a:path w="943" h="1043">
                <a:moveTo>
                  <a:pt x="1860" y="13469"/>
                </a:moveTo>
                <a:cubicBezTo>
                  <a:pt x="1869" y="13535"/>
                  <a:pt x="1884" y="13598"/>
                  <a:pt x="1910" y="13667"/>
                </a:cubicBezTo>
                <a:cubicBezTo>
                  <a:pt x="1945" y="13758"/>
                  <a:pt x="2012" y="13855"/>
                  <a:pt x="2059" y="13940"/>
                </a:cubicBezTo>
                <a:cubicBezTo>
                  <a:pt x="2122" y="14054"/>
                  <a:pt x="2209" y="14156"/>
                  <a:pt x="2282" y="14263"/>
                </a:cubicBezTo>
                <a:cubicBezTo>
                  <a:pt x="2353" y="14367"/>
                  <a:pt x="2403" y="14437"/>
                  <a:pt x="2505" y="14511"/>
                </a:cubicBezTo>
              </a:path>
              <a:path w="943" h="1043">
                <a:moveTo>
                  <a:pt x="2282" y="13667"/>
                </a:moveTo>
                <a:cubicBezTo>
                  <a:pt x="2130" y="13806"/>
                  <a:pt x="2097" y="13837"/>
                  <a:pt x="2009" y="13990"/>
                </a:cubicBezTo>
                <a:cubicBezTo>
                  <a:pt x="1961" y="14074"/>
                  <a:pt x="1877" y="14137"/>
                  <a:pt x="1860" y="14238"/>
                </a:cubicBezTo>
                <a:cubicBezTo>
                  <a:pt x="1848" y="14312"/>
                  <a:pt x="1844" y="14347"/>
                  <a:pt x="1860" y="14412"/>
                </a:cubicBezTo>
              </a:path>
              <a:path w="943" h="1043">
                <a:moveTo>
                  <a:pt x="2505" y="14064"/>
                </a:moveTo>
                <a:cubicBezTo>
                  <a:pt x="2599" y="14064"/>
                  <a:pt x="2649" y="14084"/>
                  <a:pt x="2729" y="14089"/>
                </a:cubicBezTo>
                <a:cubicBezTo>
                  <a:pt x="2745" y="14089"/>
                  <a:pt x="2762" y="14089"/>
                  <a:pt x="2778" y="14089"/>
                </a:cubicBezTo>
              </a:path>
              <a:path w="943" h="1043">
                <a:moveTo>
                  <a:pt x="2604" y="14213"/>
                </a:moveTo>
                <a:cubicBezTo>
                  <a:pt x="2653" y="14262"/>
                  <a:pt x="2694" y="14295"/>
                  <a:pt x="2753" y="14312"/>
                </a:cubicBezTo>
                <a:cubicBezTo>
                  <a:pt x="2761" y="14312"/>
                  <a:pt x="2770" y="14312"/>
                  <a:pt x="2778" y="143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Ink 11"/>
          <p:cNvSpPr/>
          <p:nvPr/>
        </p:nvSpPr>
        <p:spPr>
          <a:xfrm>
            <a:off x="1160640" y="4616280"/>
            <a:ext cx="3438360" cy="857520"/>
          </a:xfrm>
          <a:custGeom>
            <a:avLst/>
            <a:gdLst/>
            <a:ahLst/>
            <a:rect l="l" t="t" r="r" b="b"/>
            <a:pathLst>
              <a:path w="9550" h="2382">
                <a:moveTo>
                  <a:pt x="8582" y="12948"/>
                </a:moveTo>
                <a:cubicBezTo>
                  <a:pt x="8615" y="13062"/>
                  <a:pt x="8656" y="13144"/>
                  <a:pt x="8607" y="12998"/>
                </a:cubicBezTo>
                <a:cubicBezTo>
                  <a:pt x="8593" y="12956"/>
                  <a:pt x="8543" y="12874"/>
                  <a:pt x="8508" y="12849"/>
                </a:cubicBezTo>
                <a:cubicBezTo>
                  <a:pt x="8425" y="12790"/>
                  <a:pt x="8330" y="12844"/>
                  <a:pt x="8260" y="12898"/>
                </a:cubicBezTo>
                <a:cubicBezTo>
                  <a:pt x="8178" y="12961"/>
                  <a:pt x="8165" y="13075"/>
                  <a:pt x="8161" y="13171"/>
                </a:cubicBezTo>
                <a:cubicBezTo>
                  <a:pt x="8157" y="13288"/>
                  <a:pt x="8161" y="13373"/>
                  <a:pt x="8235" y="13469"/>
                </a:cubicBezTo>
                <a:cubicBezTo>
                  <a:pt x="8303" y="13557"/>
                  <a:pt x="8412" y="13580"/>
                  <a:pt x="8508" y="13618"/>
                </a:cubicBezTo>
                <a:cubicBezTo>
                  <a:pt x="8525" y="13626"/>
                  <a:pt x="8541" y="13635"/>
                  <a:pt x="8558" y="13643"/>
                </a:cubicBezTo>
              </a:path>
              <a:path w="9550" h="2382">
                <a:moveTo>
                  <a:pt x="8979" y="13221"/>
                </a:moveTo>
                <a:cubicBezTo>
                  <a:pt x="8957" y="13308"/>
                  <a:pt x="8929" y="13408"/>
                  <a:pt x="8979" y="13494"/>
                </a:cubicBezTo>
                <a:cubicBezTo>
                  <a:pt x="9019" y="13563"/>
                  <a:pt x="9118" y="13693"/>
                  <a:pt x="9203" y="13717"/>
                </a:cubicBezTo>
                <a:cubicBezTo>
                  <a:pt x="9285" y="13740"/>
                  <a:pt x="9331" y="13716"/>
                  <a:pt x="9376" y="13667"/>
                </a:cubicBezTo>
                <a:cubicBezTo>
                  <a:pt x="9429" y="13610"/>
                  <a:pt x="9448" y="13521"/>
                  <a:pt x="9451" y="13444"/>
                </a:cubicBezTo>
                <a:cubicBezTo>
                  <a:pt x="9455" y="13355"/>
                  <a:pt x="9459" y="13270"/>
                  <a:pt x="9401" y="13196"/>
                </a:cubicBezTo>
                <a:cubicBezTo>
                  <a:pt x="9334" y="13109"/>
                  <a:pt x="9278" y="13050"/>
                  <a:pt x="9153" y="13072"/>
                </a:cubicBezTo>
                <a:cubicBezTo>
                  <a:pt x="9110" y="13080"/>
                  <a:pt x="8974" y="13092"/>
                  <a:pt x="8954" y="13146"/>
                </a:cubicBezTo>
                <a:cubicBezTo>
                  <a:pt x="8927" y="13222"/>
                  <a:pt x="8976" y="13303"/>
                  <a:pt x="9054" y="13320"/>
                </a:cubicBezTo>
                <a:cubicBezTo>
                  <a:pt x="9079" y="13320"/>
                  <a:pt x="9103" y="13320"/>
                  <a:pt x="9128" y="13320"/>
                </a:cubicBezTo>
              </a:path>
              <a:path w="9550" h="2382">
                <a:moveTo>
                  <a:pt x="9699" y="13097"/>
                </a:moveTo>
                <a:cubicBezTo>
                  <a:pt x="9646" y="13044"/>
                  <a:pt x="9626" y="13047"/>
                  <a:pt x="9550" y="13047"/>
                </a:cubicBezTo>
                <a:cubicBezTo>
                  <a:pt x="9562" y="13129"/>
                  <a:pt x="9602" y="13150"/>
                  <a:pt x="9649" y="13221"/>
                </a:cubicBezTo>
                <a:cubicBezTo>
                  <a:pt x="9711" y="13313"/>
                  <a:pt x="9799" y="13406"/>
                  <a:pt x="9823" y="13519"/>
                </a:cubicBezTo>
                <a:cubicBezTo>
                  <a:pt x="9839" y="13593"/>
                  <a:pt x="9820" y="13671"/>
                  <a:pt x="9723" y="13667"/>
                </a:cubicBezTo>
                <a:cubicBezTo>
                  <a:pt x="9664" y="13664"/>
                  <a:pt x="9580" y="13588"/>
                  <a:pt x="9550" y="13543"/>
                </a:cubicBezTo>
                <a:cubicBezTo>
                  <a:pt x="9525" y="13494"/>
                  <a:pt x="9517" y="13477"/>
                  <a:pt x="9550" y="13444"/>
                </a:cubicBezTo>
              </a:path>
              <a:path w="9550" h="2382">
                <a:moveTo>
                  <a:pt x="9947" y="13171"/>
                </a:moveTo>
                <a:cubicBezTo>
                  <a:pt x="9956" y="13299"/>
                  <a:pt x="9987" y="13366"/>
                  <a:pt x="10071" y="13469"/>
                </a:cubicBezTo>
                <a:cubicBezTo>
                  <a:pt x="10162" y="13581"/>
                  <a:pt x="10263" y="13668"/>
                  <a:pt x="10368" y="13767"/>
                </a:cubicBezTo>
              </a:path>
              <a:path w="9550" h="2382">
                <a:moveTo>
                  <a:pt x="10418" y="13146"/>
                </a:moveTo>
                <a:cubicBezTo>
                  <a:pt x="10305" y="13220"/>
                  <a:pt x="10195" y="13282"/>
                  <a:pt x="10120" y="13395"/>
                </a:cubicBezTo>
                <a:cubicBezTo>
                  <a:pt x="10059" y="13486"/>
                  <a:pt x="10014" y="13595"/>
                  <a:pt x="9996" y="13692"/>
                </a:cubicBezTo>
                <a:cubicBezTo>
                  <a:pt x="9996" y="13744"/>
                  <a:pt x="9997" y="13762"/>
                  <a:pt x="10021" y="13791"/>
                </a:cubicBezTo>
              </a:path>
              <a:path w="9550" h="2382">
                <a:moveTo>
                  <a:pt x="10443" y="13444"/>
                </a:moveTo>
                <a:cubicBezTo>
                  <a:pt x="10531" y="13420"/>
                  <a:pt x="10599" y="13419"/>
                  <a:pt x="10691" y="13419"/>
                </a:cubicBezTo>
                <a:cubicBezTo>
                  <a:pt x="10742" y="13419"/>
                  <a:pt x="10760" y="13418"/>
                  <a:pt x="10790" y="13395"/>
                </a:cubicBezTo>
              </a:path>
              <a:path w="9550" h="2382">
                <a:moveTo>
                  <a:pt x="10517" y="13519"/>
                </a:moveTo>
                <a:cubicBezTo>
                  <a:pt x="10615" y="13586"/>
                  <a:pt x="10718" y="13676"/>
                  <a:pt x="10840" y="13667"/>
                </a:cubicBezTo>
                <a:cubicBezTo>
                  <a:pt x="10943" y="13659"/>
                  <a:pt x="11010" y="13595"/>
                  <a:pt x="11088" y="13543"/>
                </a:cubicBezTo>
                <a:cubicBezTo>
                  <a:pt x="11104" y="13535"/>
                  <a:pt x="11121" y="13527"/>
                  <a:pt x="11137" y="13519"/>
                </a:cubicBezTo>
              </a:path>
              <a:path w="9550" h="2382">
                <a:moveTo>
                  <a:pt x="11112" y="13816"/>
                </a:moveTo>
                <a:lnTo>
                  <a:pt x="11112" y="13816"/>
                </a:lnTo>
              </a:path>
              <a:path w="9550" h="2382">
                <a:moveTo>
                  <a:pt x="11112" y="13816"/>
                </a:moveTo>
                <a:lnTo>
                  <a:pt x="11112" y="13816"/>
                </a:lnTo>
              </a:path>
              <a:path w="9550" h="2382">
                <a:moveTo>
                  <a:pt x="11088" y="13816"/>
                </a:moveTo>
                <a:cubicBezTo>
                  <a:pt x="11088" y="13824"/>
                  <a:pt x="11088" y="13833"/>
                  <a:pt x="11088" y="13841"/>
                </a:cubicBezTo>
              </a:path>
              <a:path w="9550" h="2382">
                <a:moveTo>
                  <a:pt x="11212" y="13667"/>
                </a:moveTo>
                <a:lnTo>
                  <a:pt x="11212" y="13667"/>
                </a:lnTo>
              </a:path>
              <a:path w="9550" h="2382">
                <a:moveTo>
                  <a:pt x="11336" y="13965"/>
                </a:moveTo>
                <a:lnTo>
                  <a:pt x="11336" y="13965"/>
                </a:lnTo>
              </a:path>
              <a:path w="9550" h="2382">
                <a:moveTo>
                  <a:pt x="11609" y="12998"/>
                </a:moveTo>
                <a:cubicBezTo>
                  <a:pt x="11637" y="13098"/>
                  <a:pt x="11668" y="13199"/>
                  <a:pt x="11708" y="13295"/>
                </a:cubicBezTo>
                <a:cubicBezTo>
                  <a:pt x="11763" y="13428"/>
                  <a:pt x="11770" y="13554"/>
                  <a:pt x="11807" y="13692"/>
                </a:cubicBezTo>
                <a:cubicBezTo>
                  <a:pt x="11823" y="13751"/>
                  <a:pt x="11828" y="13817"/>
                  <a:pt x="11857" y="13866"/>
                </a:cubicBezTo>
              </a:path>
              <a:path w="9550" h="2382">
                <a:moveTo>
                  <a:pt x="12179" y="13047"/>
                </a:moveTo>
                <a:cubicBezTo>
                  <a:pt x="12179" y="13156"/>
                  <a:pt x="12161" y="13219"/>
                  <a:pt x="12129" y="13320"/>
                </a:cubicBezTo>
                <a:cubicBezTo>
                  <a:pt x="12082" y="13467"/>
                  <a:pt x="12042" y="13617"/>
                  <a:pt x="12005" y="13767"/>
                </a:cubicBezTo>
                <a:cubicBezTo>
                  <a:pt x="11976" y="13884"/>
                  <a:pt x="11943" y="14000"/>
                  <a:pt x="11906" y="14114"/>
                </a:cubicBezTo>
                <a:cubicBezTo>
                  <a:pt x="11876" y="14206"/>
                  <a:pt x="11845" y="14299"/>
                  <a:pt x="11807" y="14387"/>
                </a:cubicBezTo>
                <a:cubicBezTo>
                  <a:pt x="11778" y="14453"/>
                  <a:pt x="11778" y="14519"/>
                  <a:pt x="11757" y="14585"/>
                </a:cubicBezTo>
                <a:cubicBezTo>
                  <a:pt x="11749" y="14602"/>
                  <a:pt x="11741" y="14618"/>
                  <a:pt x="11733" y="14635"/>
                </a:cubicBezTo>
              </a:path>
              <a:path w="9550" h="2382">
                <a:moveTo>
                  <a:pt x="12179" y="14213"/>
                </a:moveTo>
                <a:cubicBezTo>
                  <a:pt x="12282" y="14160"/>
                  <a:pt x="12411" y="14048"/>
                  <a:pt x="12526" y="14163"/>
                </a:cubicBezTo>
                <a:cubicBezTo>
                  <a:pt x="12569" y="14206"/>
                  <a:pt x="12589" y="14277"/>
                  <a:pt x="12576" y="14337"/>
                </a:cubicBezTo>
                <a:cubicBezTo>
                  <a:pt x="12543" y="14486"/>
                  <a:pt x="12467" y="14543"/>
                  <a:pt x="12378" y="14660"/>
                </a:cubicBezTo>
                <a:cubicBezTo>
                  <a:pt x="12329" y="14725"/>
                  <a:pt x="12301" y="14767"/>
                  <a:pt x="12229" y="14808"/>
                </a:cubicBezTo>
                <a:cubicBezTo>
                  <a:pt x="12262" y="14745"/>
                  <a:pt x="12300" y="14656"/>
                  <a:pt x="12378" y="14635"/>
                </a:cubicBezTo>
                <a:cubicBezTo>
                  <a:pt x="12438" y="14619"/>
                  <a:pt x="12505" y="14636"/>
                  <a:pt x="12551" y="14660"/>
                </a:cubicBezTo>
                <a:cubicBezTo>
                  <a:pt x="12623" y="14698"/>
                  <a:pt x="12687" y="14774"/>
                  <a:pt x="12750" y="14833"/>
                </a:cubicBezTo>
                <a:cubicBezTo>
                  <a:pt x="12772" y="14856"/>
                  <a:pt x="12780" y="14861"/>
                  <a:pt x="12774" y="14883"/>
                </a:cubicBezTo>
              </a:path>
              <a:path w="9550" h="2382">
                <a:moveTo>
                  <a:pt x="3349" y="13767"/>
                </a:moveTo>
                <a:cubicBezTo>
                  <a:pt x="3269" y="13830"/>
                  <a:pt x="3241" y="13865"/>
                  <a:pt x="3225" y="13965"/>
                </a:cubicBezTo>
                <a:cubicBezTo>
                  <a:pt x="3212" y="14045"/>
                  <a:pt x="3239" y="14112"/>
                  <a:pt x="3249" y="14188"/>
                </a:cubicBezTo>
                <a:cubicBezTo>
                  <a:pt x="3258" y="14252"/>
                  <a:pt x="3275" y="14363"/>
                  <a:pt x="3324" y="14412"/>
                </a:cubicBezTo>
                <a:cubicBezTo>
                  <a:pt x="3341" y="14429"/>
                  <a:pt x="3423" y="14499"/>
                  <a:pt x="3448" y="14511"/>
                </a:cubicBezTo>
                <a:cubicBezTo>
                  <a:pt x="3494" y="14533"/>
                  <a:pt x="3599" y="14564"/>
                  <a:pt x="3621" y="14486"/>
                </a:cubicBezTo>
                <a:cubicBezTo>
                  <a:pt x="3640" y="14417"/>
                  <a:pt x="3667" y="14368"/>
                  <a:pt x="3671" y="14288"/>
                </a:cubicBezTo>
                <a:cubicBezTo>
                  <a:pt x="3675" y="14199"/>
                  <a:pt x="3658" y="14125"/>
                  <a:pt x="3646" y="14039"/>
                </a:cubicBezTo>
                <a:cubicBezTo>
                  <a:pt x="3634" y="13951"/>
                  <a:pt x="3611" y="13873"/>
                  <a:pt x="3572" y="13791"/>
                </a:cubicBezTo>
                <a:cubicBezTo>
                  <a:pt x="3542" y="13728"/>
                  <a:pt x="3492" y="13665"/>
                  <a:pt x="3423" y="13717"/>
                </a:cubicBezTo>
                <a:cubicBezTo>
                  <a:pt x="3348" y="13774"/>
                  <a:pt x="3349" y="13804"/>
                  <a:pt x="3349" y="13891"/>
                </a:cubicBezTo>
                <a:cubicBezTo>
                  <a:pt x="3349" y="13972"/>
                  <a:pt x="3371" y="14040"/>
                  <a:pt x="3398" y="14114"/>
                </a:cubicBezTo>
              </a:path>
              <a:path w="9550" h="2382">
                <a:moveTo>
                  <a:pt x="3994" y="14560"/>
                </a:moveTo>
                <a:cubicBezTo>
                  <a:pt x="3972" y="14647"/>
                  <a:pt x="3969" y="14718"/>
                  <a:pt x="3969" y="14808"/>
                </a:cubicBezTo>
                <a:cubicBezTo>
                  <a:pt x="3969" y="14874"/>
                  <a:pt x="3969" y="14941"/>
                  <a:pt x="3969" y="15007"/>
                </a:cubicBezTo>
              </a:path>
              <a:path w="9550" h="2382">
                <a:moveTo>
                  <a:pt x="4142" y="13940"/>
                </a:moveTo>
                <a:cubicBezTo>
                  <a:pt x="4179" y="13819"/>
                  <a:pt x="4183" y="13798"/>
                  <a:pt x="4316" y="13791"/>
                </a:cubicBezTo>
                <a:cubicBezTo>
                  <a:pt x="4382" y="13788"/>
                  <a:pt x="4437" y="13816"/>
                  <a:pt x="4514" y="13816"/>
                </a:cubicBezTo>
                <a:cubicBezTo>
                  <a:pt x="4539" y="13816"/>
                  <a:pt x="4564" y="13816"/>
                  <a:pt x="4589" y="13816"/>
                </a:cubicBezTo>
              </a:path>
              <a:path w="9550" h="2382">
                <a:moveTo>
                  <a:pt x="4415" y="13841"/>
                </a:moveTo>
                <a:cubicBezTo>
                  <a:pt x="4388" y="13921"/>
                  <a:pt x="4354" y="14009"/>
                  <a:pt x="4341" y="14089"/>
                </a:cubicBezTo>
                <a:cubicBezTo>
                  <a:pt x="4326" y="14177"/>
                  <a:pt x="4362" y="14252"/>
                  <a:pt x="4366" y="14337"/>
                </a:cubicBezTo>
                <a:cubicBezTo>
                  <a:pt x="4366" y="14354"/>
                  <a:pt x="4366" y="14370"/>
                  <a:pt x="4366" y="14387"/>
                </a:cubicBezTo>
              </a:path>
              <a:path w="9550" h="2382">
                <a:moveTo>
                  <a:pt x="4539" y="13841"/>
                </a:moveTo>
                <a:cubicBezTo>
                  <a:pt x="4539" y="13932"/>
                  <a:pt x="4554" y="14002"/>
                  <a:pt x="4564" y="14089"/>
                </a:cubicBezTo>
                <a:cubicBezTo>
                  <a:pt x="4576" y="14188"/>
                  <a:pt x="4598" y="14269"/>
                  <a:pt x="4638" y="14362"/>
                </a:cubicBezTo>
                <a:cubicBezTo>
                  <a:pt x="4662" y="14419"/>
                  <a:pt x="4706" y="14459"/>
                  <a:pt x="4738" y="14511"/>
                </a:cubicBezTo>
              </a:path>
              <a:path w="9550" h="2382">
                <a:moveTo>
                  <a:pt x="4961" y="14486"/>
                </a:moveTo>
                <a:cubicBezTo>
                  <a:pt x="4961" y="14697"/>
                  <a:pt x="4960" y="14899"/>
                  <a:pt x="4936" y="15106"/>
                </a:cubicBezTo>
                <a:cubicBezTo>
                  <a:pt x="4936" y="15123"/>
                  <a:pt x="4936" y="15139"/>
                  <a:pt x="4936" y="15156"/>
                </a:cubicBezTo>
              </a:path>
              <a:path w="9550" h="2382">
                <a:moveTo>
                  <a:pt x="5110" y="13494"/>
                </a:moveTo>
                <a:cubicBezTo>
                  <a:pt x="5201" y="13453"/>
                  <a:pt x="5304" y="13404"/>
                  <a:pt x="5407" y="13419"/>
                </a:cubicBezTo>
                <a:cubicBezTo>
                  <a:pt x="5488" y="13431"/>
                  <a:pt x="5546" y="13444"/>
                  <a:pt x="5631" y="13444"/>
                </a:cubicBezTo>
              </a:path>
              <a:path w="9550" h="2382">
                <a:moveTo>
                  <a:pt x="5333" y="13395"/>
                </a:moveTo>
                <a:cubicBezTo>
                  <a:pt x="5333" y="13498"/>
                  <a:pt x="5312" y="13630"/>
                  <a:pt x="5358" y="13717"/>
                </a:cubicBezTo>
                <a:cubicBezTo>
                  <a:pt x="5378" y="13757"/>
                  <a:pt x="5376" y="13774"/>
                  <a:pt x="5407" y="13767"/>
                </a:cubicBezTo>
              </a:path>
              <a:path w="9550" h="2382">
                <a:moveTo>
                  <a:pt x="5556" y="13469"/>
                </a:moveTo>
                <a:cubicBezTo>
                  <a:pt x="5594" y="13578"/>
                  <a:pt x="5631" y="13687"/>
                  <a:pt x="5680" y="13791"/>
                </a:cubicBezTo>
                <a:cubicBezTo>
                  <a:pt x="5700" y="13832"/>
                  <a:pt x="5709" y="13838"/>
                  <a:pt x="5705" y="13866"/>
                </a:cubicBezTo>
              </a:path>
              <a:path w="9550" h="2382">
                <a:moveTo>
                  <a:pt x="6003" y="13345"/>
                </a:moveTo>
                <a:cubicBezTo>
                  <a:pt x="5969" y="13447"/>
                  <a:pt x="5957" y="13542"/>
                  <a:pt x="5928" y="13643"/>
                </a:cubicBezTo>
                <a:cubicBezTo>
                  <a:pt x="5895" y="13757"/>
                  <a:pt x="5902" y="13875"/>
                  <a:pt x="5879" y="13990"/>
                </a:cubicBezTo>
                <a:cubicBezTo>
                  <a:pt x="5856" y="14107"/>
                  <a:pt x="5802" y="14219"/>
                  <a:pt x="5779" y="14337"/>
                </a:cubicBezTo>
                <a:cubicBezTo>
                  <a:pt x="5758" y="14446"/>
                  <a:pt x="5743" y="14555"/>
                  <a:pt x="5730" y="14660"/>
                </a:cubicBezTo>
              </a:path>
              <a:path w="9550" h="2382">
                <a:moveTo>
                  <a:pt x="5978" y="14263"/>
                </a:moveTo>
                <a:cubicBezTo>
                  <a:pt x="6045" y="14224"/>
                  <a:pt x="6139" y="14155"/>
                  <a:pt x="6226" y="14188"/>
                </a:cubicBezTo>
                <a:cubicBezTo>
                  <a:pt x="6234" y="14196"/>
                  <a:pt x="6243" y="14205"/>
                  <a:pt x="6251" y="14213"/>
                </a:cubicBezTo>
                <a:cubicBezTo>
                  <a:pt x="6240" y="14304"/>
                  <a:pt x="6216" y="14304"/>
                  <a:pt x="6152" y="14362"/>
                </a:cubicBezTo>
                <a:cubicBezTo>
                  <a:pt x="6127" y="14387"/>
                  <a:pt x="6119" y="14395"/>
                  <a:pt x="6102" y="14412"/>
                </a:cubicBezTo>
                <a:cubicBezTo>
                  <a:pt x="6144" y="14412"/>
                  <a:pt x="6261" y="14392"/>
                  <a:pt x="6276" y="14461"/>
                </a:cubicBezTo>
                <a:cubicBezTo>
                  <a:pt x="6298" y="14567"/>
                  <a:pt x="6273" y="14561"/>
                  <a:pt x="6251" y="14660"/>
                </a:cubicBezTo>
                <a:cubicBezTo>
                  <a:pt x="6239" y="14713"/>
                  <a:pt x="6164" y="14857"/>
                  <a:pt x="6077" y="14808"/>
                </a:cubicBezTo>
                <a:cubicBezTo>
                  <a:pt x="6053" y="14760"/>
                  <a:pt x="6044" y="14746"/>
                  <a:pt x="6052" y="14709"/>
                </a:cubicBezTo>
              </a:path>
              <a:path w="9550" h="2382">
                <a:moveTo>
                  <a:pt x="6424" y="14982"/>
                </a:moveTo>
                <a:cubicBezTo>
                  <a:pt x="6402" y="15062"/>
                  <a:pt x="6375" y="15124"/>
                  <a:pt x="6375" y="15205"/>
                </a:cubicBezTo>
              </a:path>
              <a:path w="9550" h="2382">
                <a:moveTo>
                  <a:pt x="6672" y="13593"/>
                </a:moveTo>
                <a:cubicBezTo>
                  <a:pt x="6740" y="13538"/>
                  <a:pt x="6771" y="13541"/>
                  <a:pt x="6846" y="13593"/>
                </a:cubicBezTo>
                <a:cubicBezTo>
                  <a:pt x="6900" y="13630"/>
                  <a:pt x="6898" y="13643"/>
                  <a:pt x="6970" y="13643"/>
                </a:cubicBezTo>
              </a:path>
              <a:path w="9550" h="2382">
                <a:moveTo>
                  <a:pt x="6648" y="13519"/>
                </a:moveTo>
                <a:cubicBezTo>
                  <a:pt x="6610" y="13571"/>
                  <a:pt x="6560" y="13607"/>
                  <a:pt x="6548" y="13667"/>
                </a:cubicBezTo>
                <a:cubicBezTo>
                  <a:pt x="6535" y="13733"/>
                  <a:pt x="6584" y="13822"/>
                  <a:pt x="6648" y="13841"/>
                </a:cubicBezTo>
                <a:cubicBezTo>
                  <a:pt x="6725" y="13864"/>
                  <a:pt x="6805" y="13813"/>
                  <a:pt x="6871" y="13866"/>
                </a:cubicBezTo>
                <a:cubicBezTo>
                  <a:pt x="6938" y="13920"/>
                  <a:pt x="6881" y="14003"/>
                  <a:pt x="6871" y="14064"/>
                </a:cubicBezTo>
                <a:cubicBezTo>
                  <a:pt x="6855" y="14161"/>
                  <a:pt x="6845" y="14126"/>
                  <a:pt x="6772" y="14163"/>
                </a:cubicBezTo>
                <a:cubicBezTo>
                  <a:pt x="6726" y="14186"/>
                  <a:pt x="6711" y="14170"/>
                  <a:pt x="6697" y="14114"/>
                </a:cubicBezTo>
              </a:path>
              <a:path w="9550" h="2382">
                <a:moveTo>
                  <a:pt x="7119" y="13717"/>
                </a:moveTo>
                <a:cubicBezTo>
                  <a:pt x="7237" y="13712"/>
                  <a:pt x="7317" y="13740"/>
                  <a:pt x="7367" y="13643"/>
                </a:cubicBezTo>
              </a:path>
              <a:path w="9550" h="2382">
                <a:moveTo>
                  <a:pt x="7268" y="13568"/>
                </a:moveTo>
                <a:cubicBezTo>
                  <a:pt x="7232" y="13639"/>
                  <a:pt x="7202" y="13712"/>
                  <a:pt x="7193" y="13791"/>
                </a:cubicBezTo>
                <a:cubicBezTo>
                  <a:pt x="7181" y="13894"/>
                  <a:pt x="7176" y="14054"/>
                  <a:pt x="7218" y="14139"/>
                </a:cubicBezTo>
              </a:path>
              <a:path w="9550" h="2382">
                <a:moveTo>
                  <a:pt x="7392" y="13667"/>
                </a:moveTo>
                <a:cubicBezTo>
                  <a:pt x="7392" y="13766"/>
                  <a:pt x="7406" y="13846"/>
                  <a:pt x="7417" y="13940"/>
                </a:cubicBezTo>
                <a:cubicBezTo>
                  <a:pt x="7426" y="14018"/>
                  <a:pt x="7432" y="14087"/>
                  <a:pt x="7441" y="14163"/>
                </a:cubicBezTo>
              </a:path>
              <a:path w="9550" h="2382">
                <a:moveTo>
                  <a:pt x="7640" y="13742"/>
                </a:moveTo>
                <a:cubicBezTo>
                  <a:pt x="7617" y="13849"/>
                  <a:pt x="7577" y="13956"/>
                  <a:pt x="7565" y="14064"/>
                </a:cubicBezTo>
                <a:cubicBezTo>
                  <a:pt x="7552" y="14187"/>
                  <a:pt x="7524" y="14291"/>
                  <a:pt x="7491" y="14412"/>
                </a:cubicBezTo>
                <a:cubicBezTo>
                  <a:pt x="7458" y="14534"/>
                  <a:pt x="7472" y="14664"/>
                  <a:pt x="7441" y="14784"/>
                </a:cubicBezTo>
                <a:cubicBezTo>
                  <a:pt x="7426" y="14842"/>
                  <a:pt x="7417" y="14870"/>
                  <a:pt x="7417" y="14932"/>
                </a:cubicBezTo>
              </a:path>
              <a:path w="9550" h="2382">
                <a:moveTo>
                  <a:pt x="7640" y="14610"/>
                </a:moveTo>
                <a:cubicBezTo>
                  <a:pt x="7685" y="14576"/>
                  <a:pt x="7750" y="14522"/>
                  <a:pt x="7813" y="14536"/>
                </a:cubicBezTo>
                <a:cubicBezTo>
                  <a:pt x="7940" y="14565"/>
                  <a:pt x="7912" y="14604"/>
                  <a:pt x="7863" y="14684"/>
                </a:cubicBezTo>
                <a:cubicBezTo>
                  <a:pt x="7837" y="14726"/>
                  <a:pt x="7823" y="14749"/>
                  <a:pt x="7789" y="14784"/>
                </a:cubicBezTo>
                <a:cubicBezTo>
                  <a:pt x="7832" y="14810"/>
                  <a:pt x="7929" y="14808"/>
                  <a:pt x="7962" y="14833"/>
                </a:cubicBezTo>
                <a:cubicBezTo>
                  <a:pt x="8027" y="14881"/>
                  <a:pt x="8013" y="14974"/>
                  <a:pt x="7987" y="15032"/>
                </a:cubicBezTo>
                <a:cubicBezTo>
                  <a:pt x="7954" y="15105"/>
                  <a:pt x="7914" y="15151"/>
                  <a:pt x="7838" y="15156"/>
                </a:cubicBezTo>
                <a:cubicBezTo>
                  <a:pt x="7789" y="15156"/>
                  <a:pt x="7772" y="15156"/>
                  <a:pt x="7739" y="151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19" name="Ink 3"/>
          <p:cNvSpPr/>
          <p:nvPr/>
        </p:nvSpPr>
        <p:spPr>
          <a:xfrm>
            <a:off x="490680" y="1035000"/>
            <a:ext cx="482400" cy="484200"/>
          </a:xfrm>
          <a:custGeom>
            <a:avLst/>
            <a:gdLst/>
            <a:ahLst/>
            <a:rect l="l" t="t" r="r" b="b"/>
            <a:pathLst>
              <a:path w="1341" h="1341">
                <a:moveTo>
                  <a:pt x="1389" y="3572"/>
                </a:moveTo>
                <a:cubicBezTo>
                  <a:pt x="1399" y="3480"/>
                  <a:pt x="1427" y="3387"/>
                  <a:pt x="1463" y="3299"/>
                </a:cubicBezTo>
                <a:cubicBezTo>
                  <a:pt x="1490" y="3233"/>
                  <a:pt x="1538" y="3251"/>
                  <a:pt x="1588" y="3200"/>
                </a:cubicBezTo>
                <a:cubicBezTo>
                  <a:pt x="1638" y="3149"/>
                  <a:pt x="1687" y="3189"/>
                  <a:pt x="1736" y="3225"/>
                </a:cubicBezTo>
                <a:cubicBezTo>
                  <a:pt x="1811" y="3281"/>
                  <a:pt x="1832" y="3389"/>
                  <a:pt x="1836" y="3473"/>
                </a:cubicBezTo>
                <a:cubicBezTo>
                  <a:pt x="1840" y="3564"/>
                  <a:pt x="1831" y="3659"/>
                  <a:pt x="1811" y="3746"/>
                </a:cubicBezTo>
                <a:cubicBezTo>
                  <a:pt x="1791" y="3832"/>
                  <a:pt x="1716" y="3902"/>
                  <a:pt x="1662" y="3969"/>
                </a:cubicBezTo>
                <a:cubicBezTo>
                  <a:pt x="1621" y="4019"/>
                  <a:pt x="1578" y="4055"/>
                  <a:pt x="1513" y="4068"/>
                </a:cubicBezTo>
                <a:cubicBezTo>
                  <a:pt x="1450" y="4081"/>
                  <a:pt x="1380" y="4028"/>
                  <a:pt x="1364" y="3969"/>
                </a:cubicBezTo>
                <a:cubicBezTo>
                  <a:pt x="1348" y="3910"/>
                  <a:pt x="1364" y="3841"/>
                  <a:pt x="1389" y="3795"/>
                </a:cubicBezTo>
                <a:cubicBezTo>
                  <a:pt x="1416" y="3745"/>
                  <a:pt x="1444" y="3680"/>
                  <a:pt x="1513" y="3696"/>
                </a:cubicBezTo>
                <a:cubicBezTo>
                  <a:pt x="1583" y="3712"/>
                  <a:pt x="1595" y="3774"/>
                  <a:pt x="1637" y="3820"/>
                </a:cubicBezTo>
                <a:cubicBezTo>
                  <a:pt x="1689" y="3878"/>
                  <a:pt x="1721" y="3968"/>
                  <a:pt x="1736" y="4043"/>
                </a:cubicBezTo>
                <a:cubicBezTo>
                  <a:pt x="1754" y="4136"/>
                  <a:pt x="1741" y="4047"/>
                  <a:pt x="1761" y="3994"/>
                </a:cubicBezTo>
              </a:path>
              <a:path w="1341" h="1341">
                <a:moveTo>
                  <a:pt x="2084" y="3200"/>
                </a:moveTo>
                <a:cubicBezTo>
                  <a:pt x="2124" y="3282"/>
                  <a:pt x="2147" y="3402"/>
                  <a:pt x="2158" y="3497"/>
                </a:cubicBezTo>
                <a:cubicBezTo>
                  <a:pt x="2177" y="3663"/>
                  <a:pt x="2154" y="3840"/>
                  <a:pt x="2183" y="3994"/>
                </a:cubicBezTo>
                <a:cubicBezTo>
                  <a:pt x="2183" y="4035"/>
                  <a:pt x="2183" y="4059"/>
                  <a:pt x="2183" y="4018"/>
                </a:cubicBezTo>
              </a:path>
              <a:path w="1341" h="1341">
                <a:moveTo>
                  <a:pt x="2183" y="2877"/>
                </a:moveTo>
                <a:cubicBezTo>
                  <a:pt x="2248" y="2910"/>
                  <a:pt x="2312" y="2938"/>
                  <a:pt x="2356" y="3001"/>
                </a:cubicBezTo>
                <a:cubicBezTo>
                  <a:pt x="2421" y="3093"/>
                  <a:pt x="2476" y="3201"/>
                  <a:pt x="2530" y="3299"/>
                </a:cubicBezTo>
                <a:cubicBezTo>
                  <a:pt x="2587" y="3403"/>
                  <a:pt x="2656" y="3531"/>
                  <a:pt x="2679" y="3646"/>
                </a:cubicBezTo>
                <a:cubicBezTo>
                  <a:pt x="2706" y="3781"/>
                  <a:pt x="2696" y="3832"/>
                  <a:pt x="2629" y="3944"/>
                </a:cubicBezTo>
                <a:cubicBezTo>
                  <a:pt x="2585" y="4018"/>
                  <a:pt x="2563" y="4103"/>
                  <a:pt x="2505" y="4167"/>
                </a:cubicBezTo>
                <a:cubicBezTo>
                  <a:pt x="2470" y="4205"/>
                  <a:pt x="2424" y="4195"/>
                  <a:pt x="2381" y="42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Ink 4"/>
          <p:cNvSpPr/>
          <p:nvPr/>
        </p:nvSpPr>
        <p:spPr>
          <a:xfrm>
            <a:off x="1384200" y="1133640"/>
            <a:ext cx="973080" cy="322200"/>
          </a:xfrm>
          <a:custGeom>
            <a:avLst/>
            <a:gdLst/>
            <a:ahLst/>
            <a:rect l="l" t="t" r="r" b="b"/>
            <a:pathLst>
              <a:path w="2704" h="894">
                <a:moveTo>
                  <a:pt x="4390" y="3448"/>
                </a:moveTo>
                <a:cubicBezTo>
                  <a:pt x="4390" y="3366"/>
                  <a:pt x="4407" y="3329"/>
                  <a:pt x="4316" y="3324"/>
                </a:cubicBezTo>
                <a:cubicBezTo>
                  <a:pt x="4248" y="3320"/>
                  <a:pt x="4155" y="3347"/>
                  <a:pt x="4093" y="3373"/>
                </a:cubicBezTo>
                <a:cubicBezTo>
                  <a:pt x="4028" y="3400"/>
                  <a:pt x="3947" y="3430"/>
                  <a:pt x="3894" y="3473"/>
                </a:cubicBezTo>
                <a:cubicBezTo>
                  <a:pt x="3870" y="3497"/>
                  <a:pt x="3861" y="3506"/>
                  <a:pt x="3845" y="3522"/>
                </a:cubicBezTo>
                <a:cubicBezTo>
                  <a:pt x="3918" y="3564"/>
                  <a:pt x="4010" y="3590"/>
                  <a:pt x="4093" y="3621"/>
                </a:cubicBezTo>
                <a:cubicBezTo>
                  <a:pt x="4195" y="3659"/>
                  <a:pt x="4264" y="3719"/>
                  <a:pt x="4341" y="3795"/>
                </a:cubicBezTo>
                <a:cubicBezTo>
                  <a:pt x="4349" y="3803"/>
                  <a:pt x="4358" y="3812"/>
                  <a:pt x="4366" y="3820"/>
                </a:cubicBezTo>
                <a:cubicBezTo>
                  <a:pt x="4327" y="3849"/>
                  <a:pt x="4305" y="3916"/>
                  <a:pt x="4242" y="3944"/>
                </a:cubicBezTo>
                <a:cubicBezTo>
                  <a:pt x="4165" y="3979"/>
                  <a:pt x="4055" y="4015"/>
                  <a:pt x="3969" y="3994"/>
                </a:cubicBezTo>
                <a:cubicBezTo>
                  <a:pt x="3921" y="3970"/>
                  <a:pt x="3904" y="3964"/>
                  <a:pt x="3919" y="3919"/>
                </a:cubicBezTo>
              </a:path>
              <a:path w="2704" h="894">
                <a:moveTo>
                  <a:pt x="4638" y="3572"/>
                </a:moveTo>
                <a:cubicBezTo>
                  <a:pt x="4638" y="3620"/>
                  <a:pt x="4676" y="4030"/>
                  <a:pt x="4614" y="3944"/>
                </a:cubicBezTo>
              </a:path>
              <a:path w="2704" h="894">
                <a:moveTo>
                  <a:pt x="4638" y="3225"/>
                </a:moveTo>
                <a:cubicBezTo>
                  <a:pt x="4660" y="3181"/>
                  <a:pt x="4663" y="3169"/>
                  <a:pt x="4688" y="3150"/>
                </a:cubicBezTo>
              </a:path>
              <a:path w="2704" h="894">
                <a:moveTo>
                  <a:pt x="4862" y="3820"/>
                </a:moveTo>
                <a:cubicBezTo>
                  <a:pt x="4868" y="3898"/>
                  <a:pt x="4878" y="3946"/>
                  <a:pt x="4887" y="4018"/>
                </a:cubicBezTo>
                <a:cubicBezTo>
                  <a:pt x="4900" y="3979"/>
                  <a:pt x="4903" y="3877"/>
                  <a:pt x="4887" y="3820"/>
                </a:cubicBezTo>
                <a:cubicBezTo>
                  <a:pt x="4859" y="3718"/>
                  <a:pt x="4868" y="3673"/>
                  <a:pt x="4911" y="3572"/>
                </a:cubicBezTo>
                <a:cubicBezTo>
                  <a:pt x="4921" y="3549"/>
                  <a:pt x="4973" y="3420"/>
                  <a:pt x="5011" y="3423"/>
                </a:cubicBezTo>
                <a:cubicBezTo>
                  <a:pt x="5111" y="3430"/>
                  <a:pt x="5150" y="3483"/>
                  <a:pt x="5184" y="3572"/>
                </a:cubicBezTo>
                <a:cubicBezTo>
                  <a:pt x="5218" y="3661"/>
                  <a:pt x="5208" y="3754"/>
                  <a:pt x="5234" y="3845"/>
                </a:cubicBezTo>
                <a:cubicBezTo>
                  <a:pt x="5252" y="3906"/>
                  <a:pt x="5259" y="3933"/>
                  <a:pt x="5259" y="3994"/>
                </a:cubicBezTo>
              </a:path>
              <a:path w="2704" h="894">
                <a:moveTo>
                  <a:pt x="5556" y="3473"/>
                </a:moveTo>
                <a:cubicBezTo>
                  <a:pt x="5587" y="3564"/>
                  <a:pt x="5581" y="3648"/>
                  <a:pt x="5581" y="3746"/>
                </a:cubicBezTo>
                <a:cubicBezTo>
                  <a:pt x="5581" y="3822"/>
                  <a:pt x="5571" y="3899"/>
                  <a:pt x="5606" y="3969"/>
                </a:cubicBezTo>
                <a:cubicBezTo>
                  <a:pt x="5634" y="4024"/>
                  <a:pt x="5697" y="4055"/>
                  <a:pt x="5755" y="4043"/>
                </a:cubicBezTo>
                <a:cubicBezTo>
                  <a:pt x="5883" y="4017"/>
                  <a:pt x="5893" y="3942"/>
                  <a:pt x="5953" y="3845"/>
                </a:cubicBezTo>
                <a:cubicBezTo>
                  <a:pt x="6004" y="3763"/>
                  <a:pt x="5980" y="3707"/>
                  <a:pt x="6003" y="3621"/>
                </a:cubicBezTo>
                <a:cubicBezTo>
                  <a:pt x="6011" y="3591"/>
                  <a:pt x="6003" y="3405"/>
                  <a:pt x="6003" y="3522"/>
                </a:cubicBezTo>
                <a:cubicBezTo>
                  <a:pt x="6003" y="3649"/>
                  <a:pt x="5977" y="3768"/>
                  <a:pt x="6052" y="3870"/>
                </a:cubicBezTo>
                <a:cubicBezTo>
                  <a:pt x="6109" y="3947"/>
                  <a:pt x="6103" y="3955"/>
                  <a:pt x="6176" y="3944"/>
                </a:cubicBezTo>
              </a:path>
              <a:path w="2704" h="894">
                <a:moveTo>
                  <a:pt x="6300" y="3547"/>
                </a:moveTo>
                <a:cubicBezTo>
                  <a:pt x="6384" y="3547"/>
                  <a:pt x="6447" y="3551"/>
                  <a:pt x="6524" y="3522"/>
                </a:cubicBezTo>
              </a:path>
              <a:path w="2704" h="894">
                <a:moveTo>
                  <a:pt x="6325" y="3770"/>
                </a:moveTo>
                <a:cubicBezTo>
                  <a:pt x="6398" y="3844"/>
                  <a:pt x="6412" y="3822"/>
                  <a:pt x="6499" y="3770"/>
                </a:cubicBezTo>
                <a:cubicBezTo>
                  <a:pt x="6515" y="3762"/>
                  <a:pt x="6532" y="3754"/>
                  <a:pt x="6548" y="37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Ink 5"/>
          <p:cNvSpPr/>
          <p:nvPr/>
        </p:nvSpPr>
        <p:spPr>
          <a:xfrm>
            <a:off x="2544840" y="1027080"/>
            <a:ext cx="366480" cy="446040"/>
          </a:xfrm>
          <a:custGeom>
            <a:avLst/>
            <a:gdLst/>
            <a:ahLst/>
            <a:rect l="l" t="t" r="r" b="b"/>
            <a:pathLst>
              <a:path w="1018" h="1241">
                <a:moveTo>
                  <a:pt x="7094" y="3026"/>
                </a:moveTo>
                <a:cubicBezTo>
                  <a:pt x="7233" y="2947"/>
                  <a:pt x="7252" y="2927"/>
                  <a:pt x="7342" y="2902"/>
                </a:cubicBezTo>
                <a:cubicBezTo>
                  <a:pt x="7372" y="2961"/>
                  <a:pt x="7378" y="3045"/>
                  <a:pt x="7317" y="3101"/>
                </a:cubicBezTo>
                <a:cubicBezTo>
                  <a:pt x="7270" y="3145"/>
                  <a:pt x="7197" y="3163"/>
                  <a:pt x="7144" y="3200"/>
                </a:cubicBezTo>
                <a:cubicBezTo>
                  <a:pt x="7136" y="3208"/>
                  <a:pt x="7127" y="3217"/>
                  <a:pt x="7119" y="3225"/>
                </a:cubicBezTo>
                <a:cubicBezTo>
                  <a:pt x="7220" y="3225"/>
                  <a:pt x="7266" y="3210"/>
                  <a:pt x="7342" y="3274"/>
                </a:cubicBezTo>
                <a:cubicBezTo>
                  <a:pt x="7393" y="3317"/>
                  <a:pt x="7389" y="3337"/>
                  <a:pt x="7367" y="3398"/>
                </a:cubicBezTo>
                <a:cubicBezTo>
                  <a:pt x="7344" y="3463"/>
                  <a:pt x="7259" y="3509"/>
                  <a:pt x="7193" y="3522"/>
                </a:cubicBezTo>
                <a:cubicBezTo>
                  <a:pt x="7150" y="3531"/>
                  <a:pt x="7035" y="3572"/>
                  <a:pt x="7094" y="3497"/>
                </a:cubicBezTo>
                <a:cubicBezTo>
                  <a:pt x="7102" y="3489"/>
                  <a:pt x="7111" y="3481"/>
                  <a:pt x="7119" y="3473"/>
                </a:cubicBezTo>
              </a:path>
              <a:path w="1018" h="1241">
                <a:moveTo>
                  <a:pt x="7714" y="2853"/>
                </a:moveTo>
                <a:cubicBezTo>
                  <a:pt x="7669" y="2988"/>
                  <a:pt x="7648" y="3133"/>
                  <a:pt x="7615" y="3274"/>
                </a:cubicBezTo>
                <a:cubicBezTo>
                  <a:pt x="7585" y="3403"/>
                  <a:pt x="7509" y="3513"/>
                  <a:pt x="7491" y="3646"/>
                </a:cubicBezTo>
                <a:cubicBezTo>
                  <a:pt x="7480" y="3731"/>
                  <a:pt x="7455" y="3813"/>
                  <a:pt x="7441" y="3894"/>
                </a:cubicBezTo>
                <a:cubicBezTo>
                  <a:pt x="7441" y="3944"/>
                  <a:pt x="7441" y="3961"/>
                  <a:pt x="7441" y="3994"/>
                </a:cubicBezTo>
              </a:path>
              <a:path w="1018" h="1241">
                <a:moveTo>
                  <a:pt x="7640" y="3646"/>
                </a:moveTo>
                <a:cubicBezTo>
                  <a:pt x="7736" y="3625"/>
                  <a:pt x="7785" y="3619"/>
                  <a:pt x="7863" y="3572"/>
                </a:cubicBezTo>
                <a:cubicBezTo>
                  <a:pt x="7910" y="3544"/>
                  <a:pt x="7963" y="3522"/>
                  <a:pt x="8012" y="3497"/>
                </a:cubicBezTo>
              </a:path>
              <a:path w="1018" h="1241">
                <a:moveTo>
                  <a:pt x="7813" y="3522"/>
                </a:moveTo>
                <a:cubicBezTo>
                  <a:pt x="7739" y="3619"/>
                  <a:pt x="7669" y="3658"/>
                  <a:pt x="7789" y="3696"/>
                </a:cubicBezTo>
                <a:cubicBezTo>
                  <a:pt x="7871" y="3722"/>
                  <a:pt x="7965" y="3745"/>
                  <a:pt x="8037" y="3795"/>
                </a:cubicBezTo>
                <a:cubicBezTo>
                  <a:pt x="8096" y="3836"/>
                  <a:pt x="8103" y="3887"/>
                  <a:pt x="8062" y="3944"/>
                </a:cubicBezTo>
                <a:cubicBezTo>
                  <a:pt x="8012" y="4013"/>
                  <a:pt x="7989" y="4000"/>
                  <a:pt x="7913" y="4018"/>
                </a:cubicBezTo>
                <a:cubicBezTo>
                  <a:pt x="7835" y="4037"/>
                  <a:pt x="7765" y="4080"/>
                  <a:pt x="7689" y="4093"/>
                </a:cubicBezTo>
                <a:cubicBezTo>
                  <a:pt x="7673" y="4093"/>
                  <a:pt x="7656" y="4093"/>
                  <a:pt x="7640" y="40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Ink 6"/>
          <p:cNvSpPr/>
          <p:nvPr/>
        </p:nvSpPr>
        <p:spPr>
          <a:xfrm>
            <a:off x="3687840" y="1071720"/>
            <a:ext cx="19080" cy="374400"/>
          </a:xfrm>
          <a:custGeom>
            <a:avLst/>
            <a:gdLst/>
            <a:ahLst/>
            <a:rect l="l" t="t" r="r" b="b"/>
            <a:pathLst>
              <a:path w="51" h="1042">
                <a:moveTo>
                  <a:pt x="10269" y="2977"/>
                </a:moveTo>
                <a:cubicBezTo>
                  <a:pt x="10232" y="3088"/>
                  <a:pt x="10249" y="3207"/>
                  <a:pt x="10269" y="3324"/>
                </a:cubicBezTo>
                <a:cubicBezTo>
                  <a:pt x="10293" y="3463"/>
                  <a:pt x="10284" y="3560"/>
                  <a:pt x="10269" y="3696"/>
                </a:cubicBezTo>
                <a:cubicBezTo>
                  <a:pt x="10258" y="3800"/>
                  <a:pt x="10269" y="3913"/>
                  <a:pt x="10269" y="40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Ink 7"/>
          <p:cNvSpPr/>
          <p:nvPr/>
        </p:nvSpPr>
        <p:spPr>
          <a:xfrm>
            <a:off x="3848040" y="1027080"/>
            <a:ext cx="1009800" cy="482760"/>
          </a:xfrm>
          <a:custGeom>
            <a:avLst/>
            <a:gdLst/>
            <a:ahLst/>
            <a:rect l="l" t="t" r="r" b="b"/>
            <a:pathLst>
              <a:path w="2804" h="1340">
                <a:moveTo>
                  <a:pt x="10914" y="2952"/>
                </a:moveTo>
                <a:cubicBezTo>
                  <a:pt x="10848" y="2919"/>
                  <a:pt x="10828" y="3005"/>
                  <a:pt x="10765" y="3051"/>
                </a:cubicBezTo>
                <a:cubicBezTo>
                  <a:pt x="10710" y="3091"/>
                  <a:pt x="10691" y="3123"/>
                  <a:pt x="10716" y="3175"/>
                </a:cubicBezTo>
                <a:cubicBezTo>
                  <a:pt x="10745" y="3235"/>
                  <a:pt x="10769" y="3278"/>
                  <a:pt x="10815" y="3324"/>
                </a:cubicBezTo>
                <a:cubicBezTo>
                  <a:pt x="10863" y="3372"/>
                  <a:pt x="10884" y="3418"/>
                  <a:pt x="10840" y="3473"/>
                </a:cubicBezTo>
                <a:cubicBezTo>
                  <a:pt x="10832" y="3481"/>
                  <a:pt x="10823" y="3489"/>
                  <a:pt x="10815" y="3497"/>
                </a:cubicBezTo>
                <a:cubicBezTo>
                  <a:pt x="10755" y="3439"/>
                  <a:pt x="10745" y="3428"/>
                  <a:pt x="10765" y="3349"/>
                </a:cubicBezTo>
              </a:path>
              <a:path w="2804" h="1340">
                <a:moveTo>
                  <a:pt x="11112" y="2853"/>
                </a:moveTo>
                <a:cubicBezTo>
                  <a:pt x="11090" y="2974"/>
                  <a:pt x="11074" y="3103"/>
                  <a:pt x="11063" y="3225"/>
                </a:cubicBezTo>
                <a:cubicBezTo>
                  <a:pt x="11057" y="3297"/>
                  <a:pt x="11063" y="3375"/>
                  <a:pt x="11063" y="3448"/>
                </a:cubicBezTo>
              </a:path>
              <a:path w="2804" h="1340">
                <a:moveTo>
                  <a:pt x="11013" y="3200"/>
                </a:moveTo>
                <a:cubicBezTo>
                  <a:pt x="11079" y="3191"/>
                  <a:pt x="11144" y="3156"/>
                  <a:pt x="11212" y="3150"/>
                </a:cubicBezTo>
                <a:cubicBezTo>
                  <a:pt x="11253" y="3150"/>
                  <a:pt x="11295" y="3150"/>
                  <a:pt x="11336" y="3150"/>
                </a:cubicBezTo>
              </a:path>
              <a:path w="2804" h="1340">
                <a:moveTo>
                  <a:pt x="11807" y="3324"/>
                </a:moveTo>
                <a:cubicBezTo>
                  <a:pt x="11755" y="3428"/>
                  <a:pt x="11688" y="3436"/>
                  <a:pt x="11609" y="3522"/>
                </a:cubicBezTo>
                <a:cubicBezTo>
                  <a:pt x="11575" y="3559"/>
                  <a:pt x="11486" y="3687"/>
                  <a:pt x="11509" y="3746"/>
                </a:cubicBezTo>
                <a:cubicBezTo>
                  <a:pt x="11552" y="3809"/>
                  <a:pt x="11555" y="3834"/>
                  <a:pt x="11609" y="3820"/>
                </a:cubicBezTo>
                <a:cubicBezTo>
                  <a:pt x="11673" y="3733"/>
                  <a:pt x="11709" y="3668"/>
                  <a:pt x="11733" y="3572"/>
                </a:cubicBezTo>
                <a:cubicBezTo>
                  <a:pt x="11757" y="3499"/>
                  <a:pt x="11765" y="3475"/>
                  <a:pt x="11757" y="3423"/>
                </a:cubicBezTo>
                <a:cubicBezTo>
                  <a:pt x="11746" y="3522"/>
                  <a:pt x="11717" y="3623"/>
                  <a:pt x="11708" y="3721"/>
                </a:cubicBezTo>
                <a:cubicBezTo>
                  <a:pt x="11701" y="3800"/>
                  <a:pt x="11662" y="3914"/>
                  <a:pt x="11683" y="3994"/>
                </a:cubicBezTo>
                <a:cubicBezTo>
                  <a:pt x="11701" y="4060"/>
                  <a:pt x="11708" y="4260"/>
                  <a:pt x="11708" y="4192"/>
                </a:cubicBezTo>
                <a:cubicBezTo>
                  <a:pt x="11708" y="4175"/>
                  <a:pt x="11708" y="4159"/>
                  <a:pt x="11708" y="4142"/>
                </a:cubicBezTo>
              </a:path>
              <a:path w="2804" h="1340">
                <a:moveTo>
                  <a:pt x="12005" y="3448"/>
                </a:moveTo>
                <a:cubicBezTo>
                  <a:pt x="11999" y="3564"/>
                  <a:pt x="11973" y="3661"/>
                  <a:pt x="11956" y="3770"/>
                </a:cubicBezTo>
                <a:cubicBezTo>
                  <a:pt x="11948" y="3823"/>
                  <a:pt x="11953" y="3833"/>
                  <a:pt x="11981" y="3870"/>
                </a:cubicBezTo>
                <a:cubicBezTo>
                  <a:pt x="12079" y="3816"/>
                  <a:pt x="12131" y="3820"/>
                  <a:pt x="12154" y="3696"/>
                </a:cubicBezTo>
                <a:cubicBezTo>
                  <a:pt x="12165" y="3639"/>
                  <a:pt x="12172" y="3580"/>
                  <a:pt x="12179" y="3522"/>
                </a:cubicBezTo>
                <a:cubicBezTo>
                  <a:pt x="12179" y="3617"/>
                  <a:pt x="12157" y="3743"/>
                  <a:pt x="12204" y="3820"/>
                </a:cubicBezTo>
                <a:cubicBezTo>
                  <a:pt x="12233" y="3868"/>
                  <a:pt x="12330" y="3845"/>
                  <a:pt x="12378" y="3845"/>
                </a:cubicBezTo>
              </a:path>
              <a:path w="2804" h="1340">
                <a:moveTo>
                  <a:pt x="12601" y="3448"/>
                </a:moveTo>
                <a:cubicBezTo>
                  <a:pt x="12505" y="3529"/>
                  <a:pt x="12460" y="3584"/>
                  <a:pt x="12402" y="3696"/>
                </a:cubicBezTo>
                <a:cubicBezTo>
                  <a:pt x="12362" y="3774"/>
                  <a:pt x="12373" y="3784"/>
                  <a:pt x="12427" y="3820"/>
                </a:cubicBezTo>
                <a:cubicBezTo>
                  <a:pt x="12472" y="3850"/>
                  <a:pt x="12507" y="3849"/>
                  <a:pt x="12551" y="3820"/>
                </a:cubicBezTo>
                <a:cubicBezTo>
                  <a:pt x="12601" y="3787"/>
                  <a:pt x="12579" y="3694"/>
                  <a:pt x="12601" y="3646"/>
                </a:cubicBezTo>
                <a:cubicBezTo>
                  <a:pt x="12609" y="3638"/>
                  <a:pt x="12618" y="3629"/>
                  <a:pt x="12626" y="3621"/>
                </a:cubicBezTo>
                <a:cubicBezTo>
                  <a:pt x="12608" y="3704"/>
                  <a:pt x="12569" y="3779"/>
                  <a:pt x="12650" y="3820"/>
                </a:cubicBezTo>
                <a:cubicBezTo>
                  <a:pt x="12710" y="3850"/>
                  <a:pt x="12750" y="3891"/>
                  <a:pt x="12824" y="3870"/>
                </a:cubicBezTo>
                <a:cubicBezTo>
                  <a:pt x="12871" y="3857"/>
                  <a:pt x="12910" y="3843"/>
                  <a:pt x="12948" y="3820"/>
                </a:cubicBezTo>
              </a:path>
              <a:path w="2804" h="1340">
                <a:moveTo>
                  <a:pt x="13097" y="3646"/>
                </a:moveTo>
                <a:cubicBezTo>
                  <a:pt x="13118" y="3562"/>
                  <a:pt x="13133" y="3543"/>
                  <a:pt x="13097" y="3497"/>
                </a:cubicBezTo>
                <a:cubicBezTo>
                  <a:pt x="12979" y="3540"/>
                  <a:pt x="12951" y="3558"/>
                  <a:pt x="12898" y="3671"/>
                </a:cubicBezTo>
                <a:cubicBezTo>
                  <a:pt x="12867" y="3738"/>
                  <a:pt x="12824" y="3781"/>
                  <a:pt x="12874" y="3845"/>
                </a:cubicBezTo>
                <a:cubicBezTo>
                  <a:pt x="12908" y="3889"/>
                  <a:pt x="13004" y="3865"/>
                  <a:pt x="13047" y="3845"/>
                </a:cubicBezTo>
                <a:cubicBezTo>
                  <a:pt x="13121" y="3811"/>
                  <a:pt x="13137" y="3706"/>
                  <a:pt x="13171" y="3646"/>
                </a:cubicBezTo>
                <a:cubicBezTo>
                  <a:pt x="13214" y="3568"/>
                  <a:pt x="13287" y="3470"/>
                  <a:pt x="13271" y="3373"/>
                </a:cubicBezTo>
                <a:cubicBezTo>
                  <a:pt x="13260" y="3306"/>
                  <a:pt x="13238" y="3291"/>
                  <a:pt x="13196" y="3249"/>
                </a:cubicBezTo>
                <a:cubicBezTo>
                  <a:pt x="13161" y="3318"/>
                  <a:pt x="13149" y="3412"/>
                  <a:pt x="13146" y="3497"/>
                </a:cubicBezTo>
                <a:cubicBezTo>
                  <a:pt x="13142" y="3594"/>
                  <a:pt x="13145" y="3662"/>
                  <a:pt x="13196" y="3746"/>
                </a:cubicBezTo>
                <a:cubicBezTo>
                  <a:pt x="13243" y="3823"/>
                  <a:pt x="13292" y="3877"/>
                  <a:pt x="13370" y="3919"/>
                </a:cubicBezTo>
                <a:cubicBezTo>
                  <a:pt x="13429" y="3951"/>
                  <a:pt x="13431" y="3960"/>
                  <a:pt x="13494" y="39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Ink 8"/>
          <p:cNvSpPr/>
          <p:nvPr/>
        </p:nvSpPr>
        <p:spPr>
          <a:xfrm>
            <a:off x="571680" y="2286000"/>
            <a:ext cx="1349280" cy="349200"/>
          </a:xfrm>
          <a:custGeom>
            <a:avLst/>
            <a:gdLst/>
            <a:ahLst/>
            <a:rect l="l" t="t" r="r" b="b"/>
            <a:pathLst>
              <a:path w="3746" h="968">
                <a:moveTo>
                  <a:pt x="2133" y="6623"/>
                </a:moveTo>
                <a:cubicBezTo>
                  <a:pt x="2066" y="6569"/>
                  <a:pt x="2020" y="6573"/>
                  <a:pt x="1935" y="6573"/>
                </a:cubicBezTo>
                <a:cubicBezTo>
                  <a:pt x="1852" y="6573"/>
                  <a:pt x="1754" y="6606"/>
                  <a:pt x="1687" y="6648"/>
                </a:cubicBezTo>
                <a:cubicBezTo>
                  <a:pt x="1629" y="6684"/>
                  <a:pt x="1538" y="6747"/>
                  <a:pt x="1612" y="6821"/>
                </a:cubicBezTo>
                <a:cubicBezTo>
                  <a:pt x="1674" y="6883"/>
                  <a:pt x="1808" y="6912"/>
                  <a:pt x="1885" y="6945"/>
                </a:cubicBezTo>
                <a:cubicBezTo>
                  <a:pt x="1968" y="6980"/>
                  <a:pt x="2038" y="7038"/>
                  <a:pt x="2108" y="7094"/>
                </a:cubicBezTo>
                <a:cubicBezTo>
                  <a:pt x="2140" y="7120"/>
                  <a:pt x="2159" y="7223"/>
                  <a:pt x="2108" y="7243"/>
                </a:cubicBezTo>
                <a:cubicBezTo>
                  <a:pt x="2037" y="7271"/>
                  <a:pt x="1914" y="7280"/>
                  <a:pt x="1836" y="7268"/>
                </a:cubicBezTo>
                <a:cubicBezTo>
                  <a:pt x="1747" y="7254"/>
                  <a:pt x="1697" y="7251"/>
                  <a:pt x="1637" y="7193"/>
                </a:cubicBezTo>
                <a:cubicBezTo>
                  <a:pt x="1608" y="7165"/>
                  <a:pt x="1600" y="7152"/>
                  <a:pt x="1612" y="7119"/>
                </a:cubicBezTo>
              </a:path>
              <a:path w="3746" h="968">
                <a:moveTo>
                  <a:pt x="2356" y="6722"/>
                </a:moveTo>
                <a:cubicBezTo>
                  <a:pt x="2380" y="6828"/>
                  <a:pt x="2382" y="6944"/>
                  <a:pt x="2406" y="7045"/>
                </a:cubicBezTo>
                <a:cubicBezTo>
                  <a:pt x="2420" y="7105"/>
                  <a:pt x="2466" y="7164"/>
                  <a:pt x="2480" y="7218"/>
                </a:cubicBezTo>
                <a:cubicBezTo>
                  <a:pt x="2503" y="7307"/>
                  <a:pt x="2497" y="7303"/>
                  <a:pt x="2480" y="7218"/>
                </a:cubicBezTo>
              </a:path>
              <a:path w="3746" h="968">
                <a:moveTo>
                  <a:pt x="2381" y="6474"/>
                </a:moveTo>
                <a:cubicBezTo>
                  <a:pt x="2381" y="6429"/>
                  <a:pt x="2377" y="6416"/>
                  <a:pt x="2406" y="6400"/>
                </a:cubicBezTo>
              </a:path>
              <a:path w="3746" h="968">
                <a:moveTo>
                  <a:pt x="2679" y="7045"/>
                </a:moveTo>
                <a:cubicBezTo>
                  <a:pt x="2697" y="7127"/>
                  <a:pt x="2704" y="7377"/>
                  <a:pt x="2704" y="7293"/>
                </a:cubicBezTo>
                <a:cubicBezTo>
                  <a:pt x="2704" y="7184"/>
                  <a:pt x="2695" y="7101"/>
                  <a:pt x="2704" y="6995"/>
                </a:cubicBezTo>
                <a:cubicBezTo>
                  <a:pt x="2711" y="6904"/>
                  <a:pt x="2700" y="6833"/>
                  <a:pt x="2729" y="6747"/>
                </a:cubicBezTo>
                <a:cubicBezTo>
                  <a:pt x="2761" y="6653"/>
                  <a:pt x="2785" y="6564"/>
                  <a:pt x="2902" y="6623"/>
                </a:cubicBezTo>
                <a:cubicBezTo>
                  <a:pt x="2928" y="6636"/>
                  <a:pt x="3008" y="6746"/>
                  <a:pt x="3026" y="6772"/>
                </a:cubicBezTo>
                <a:cubicBezTo>
                  <a:pt x="3071" y="6835"/>
                  <a:pt x="3090" y="6945"/>
                  <a:pt x="3101" y="7020"/>
                </a:cubicBezTo>
                <a:cubicBezTo>
                  <a:pt x="3112" y="7096"/>
                  <a:pt x="3073" y="7232"/>
                  <a:pt x="3125" y="7268"/>
                </a:cubicBezTo>
              </a:path>
              <a:path w="3746" h="968">
                <a:moveTo>
                  <a:pt x="3448" y="6573"/>
                </a:moveTo>
                <a:cubicBezTo>
                  <a:pt x="3455" y="6508"/>
                  <a:pt x="3457" y="6450"/>
                  <a:pt x="3497" y="6400"/>
                </a:cubicBezTo>
                <a:cubicBezTo>
                  <a:pt x="3547" y="6338"/>
                  <a:pt x="3639" y="6333"/>
                  <a:pt x="3696" y="6375"/>
                </a:cubicBezTo>
                <a:cubicBezTo>
                  <a:pt x="3759" y="6421"/>
                  <a:pt x="3766" y="6447"/>
                  <a:pt x="3770" y="6524"/>
                </a:cubicBezTo>
                <a:cubicBezTo>
                  <a:pt x="3773" y="6588"/>
                  <a:pt x="3747" y="6664"/>
                  <a:pt x="3721" y="6722"/>
                </a:cubicBezTo>
                <a:cubicBezTo>
                  <a:pt x="3696" y="6778"/>
                  <a:pt x="3658" y="6903"/>
                  <a:pt x="3621" y="6945"/>
                </a:cubicBezTo>
                <a:cubicBezTo>
                  <a:pt x="3548" y="7029"/>
                  <a:pt x="3476" y="7064"/>
                  <a:pt x="3448" y="7193"/>
                </a:cubicBezTo>
                <a:cubicBezTo>
                  <a:pt x="3440" y="7232"/>
                  <a:pt x="3479" y="7305"/>
                  <a:pt x="3522" y="7317"/>
                </a:cubicBezTo>
                <a:cubicBezTo>
                  <a:pt x="3597" y="7338"/>
                  <a:pt x="3725" y="7319"/>
                  <a:pt x="3795" y="7293"/>
                </a:cubicBezTo>
                <a:cubicBezTo>
                  <a:pt x="3812" y="7285"/>
                  <a:pt x="3828" y="7276"/>
                  <a:pt x="3845" y="7268"/>
                </a:cubicBezTo>
              </a:path>
              <a:path w="3746" h="968">
                <a:moveTo>
                  <a:pt x="4142" y="6772"/>
                </a:moveTo>
                <a:cubicBezTo>
                  <a:pt x="4132" y="6840"/>
                  <a:pt x="4118" y="6893"/>
                  <a:pt x="4118" y="6970"/>
                </a:cubicBezTo>
                <a:cubicBezTo>
                  <a:pt x="4118" y="7052"/>
                  <a:pt x="4136" y="7108"/>
                  <a:pt x="4192" y="7169"/>
                </a:cubicBezTo>
                <a:cubicBezTo>
                  <a:pt x="4232" y="7213"/>
                  <a:pt x="4241" y="7286"/>
                  <a:pt x="4316" y="7268"/>
                </a:cubicBezTo>
                <a:cubicBezTo>
                  <a:pt x="4367" y="7256"/>
                  <a:pt x="4436" y="7189"/>
                  <a:pt x="4465" y="7144"/>
                </a:cubicBezTo>
                <a:cubicBezTo>
                  <a:pt x="4495" y="7097"/>
                  <a:pt x="4530" y="7016"/>
                  <a:pt x="4539" y="6970"/>
                </a:cubicBezTo>
                <a:cubicBezTo>
                  <a:pt x="4548" y="6928"/>
                  <a:pt x="4475" y="6761"/>
                  <a:pt x="4514" y="6871"/>
                </a:cubicBezTo>
                <a:cubicBezTo>
                  <a:pt x="4542" y="6949"/>
                  <a:pt x="4553" y="7047"/>
                  <a:pt x="4589" y="7119"/>
                </a:cubicBezTo>
                <a:cubicBezTo>
                  <a:pt x="4619" y="7179"/>
                  <a:pt x="4663" y="7245"/>
                  <a:pt x="4713" y="7293"/>
                </a:cubicBezTo>
                <a:cubicBezTo>
                  <a:pt x="4779" y="7358"/>
                  <a:pt x="4804" y="7290"/>
                  <a:pt x="4862" y="7243"/>
                </a:cubicBezTo>
              </a:path>
              <a:path w="3746" h="968">
                <a:moveTo>
                  <a:pt x="5011" y="6796"/>
                </a:moveTo>
                <a:cubicBezTo>
                  <a:pt x="5085" y="6791"/>
                  <a:pt x="5187" y="6792"/>
                  <a:pt x="5259" y="6772"/>
                </a:cubicBezTo>
                <a:cubicBezTo>
                  <a:pt x="5275" y="6764"/>
                  <a:pt x="5292" y="6755"/>
                  <a:pt x="5308" y="6747"/>
                </a:cubicBezTo>
              </a:path>
              <a:path w="3746" h="968">
                <a:moveTo>
                  <a:pt x="4986" y="6945"/>
                </a:moveTo>
                <a:cubicBezTo>
                  <a:pt x="5038" y="6967"/>
                  <a:pt x="5167" y="7009"/>
                  <a:pt x="5234" y="6995"/>
                </a:cubicBezTo>
                <a:cubicBezTo>
                  <a:pt x="5282" y="6971"/>
                  <a:pt x="5296" y="6962"/>
                  <a:pt x="5333" y="69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Ink 9"/>
          <p:cNvSpPr/>
          <p:nvPr/>
        </p:nvSpPr>
        <p:spPr>
          <a:xfrm>
            <a:off x="2133720" y="2027160"/>
            <a:ext cx="438120" cy="679680"/>
          </a:xfrm>
          <a:custGeom>
            <a:avLst/>
            <a:gdLst/>
            <a:ahLst/>
            <a:rect l="l" t="t" r="r" b="b"/>
            <a:pathLst>
              <a:path w="1217" h="1886">
                <a:moveTo>
                  <a:pt x="6003" y="5879"/>
                </a:moveTo>
                <a:cubicBezTo>
                  <a:pt x="5995" y="5895"/>
                  <a:pt x="5986" y="5912"/>
                  <a:pt x="5978" y="5928"/>
                </a:cubicBezTo>
                <a:cubicBezTo>
                  <a:pt x="5978" y="5849"/>
                  <a:pt x="5977" y="5794"/>
                  <a:pt x="6028" y="5730"/>
                </a:cubicBezTo>
                <a:cubicBezTo>
                  <a:pt x="6074" y="5673"/>
                  <a:pt x="6111" y="5664"/>
                  <a:pt x="6176" y="5705"/>
                </a:cubicBezTo>
                <a:cubicBezTo>
                  <a:pt x="6258" y="5756"/>
                  <a:pt x="6263" y="5921"/>
                  <a:pt x="6251" y="6003"/>
                </a:cubicBezTo>
                <a:cubicBezTo>
                  <a:pt x="6240" y="6074"/>
                  <a:pt x="6185" y="6166"/>
                  <a:pt x="6152" y="6226"/>
                </a:cubicBezTo>
                <a:cubicBezTo>
                  <a:pt x="6108" y="6305"/>
                  <a:pt x="6086" y="6354"/>
                  <a:pt x="6003" y="6400"/>
                </a:cubicBezTo>
                <a:cubicBezTo>
                  <a:pt x="5986" y="6408"/>
                  <a:pt x="5970" y="6416"/>
                  <a:pt x="5953" y="6424"/>
                </a:cubicBezTo>
                <a:cubicBezTo>
                  <a:pt x="5923" y="6376"/>
                  <a:pt x="5913" y="6289"/>
                  <a:pt x="5928" y="6226"/>
                </a:cubicBezTo>
                <a:cubicBezTo>
                  <a:pt x="5939" y="6180"/>
                  <a:pt x="5956" y="6139"/>
                  <a:pt x="5978" y="6102"/>
                </a:cubicBezTo>
                <a:cubicBezTo>
                  <a:pt x="6077" y="6112"/>
                  <a:pt x="6090" y="6125"/>
                  <a:pt x="6152" y="6201"/>
                </a:cubicBezTo>
                <a:cubicBezTo>
                  <a:pt x="6197" y="6256"/>
                  <a:pt x="6233" y="6298"/>
                  <a:pt x="6276" y="6350"/>
                </a:cubicBezTo>
                <a:cubicBezTo>
                  <a:pt x="6300" y="6375"/>
                  <a:pt x="6308" y="6383"/>
                  <a:pt x="6325" y="6350"/>
                </a:cubicBezTo>
              </a:path>
              <a:path w="1217" h="1886">
                <a:moveTo>
                  <a:pt x="6697" y="5631"/>
                </a:moveTo>
                <a:cubicBezTo>
                  <a:pt x="6678" y="5802"/>
                  <a:pt x="6690" y="5894"/>
                  <a:pt x="6697" y="6052"/>
                </a:cubicBezTo>
                <a:cubicBezTo>
                  <a:pt x="6701" y="6134"/>
                  <a:pt x="6709" y="6200"/>
                  <a:pt x="6722" y="6276"/>
                </a:cubicBezTo>
                <a:cubicBezTo>
                  <a:pt x="6733" y="6342"/>
                  <a:pt x="6742" y="6409"/>
                  <a:pt x="6747" y="6474"/>
                </a:cubicBezTo>
                <a:cubicBezTo>
                  <a:pt x="6747" y="6482"/>
                  <a:pt x="6747" y="6491"/>
                  <a:pt x="6747" y="6499"/>
                </a:cubicBezTo>
              </a:path>
              <a:path w="1217" h="1886">
                <a:moveTo>
                  <a:pt x="6052" y="6672"/>
                </a:moveTo>
                <a:cubicBezTo>
                  <a:pt x="6148" y="6672"/>
                  <a:pt x="6232" y="6652"/>
                  <a:pt x="6325" y="6648"/>
                </a:cubicBezTo>
                <a:cubicBezTo>
                  <a:pt x="6438" y="6643"/>
                  <a:pt x="6538" y="6634"/>
                  <a:pt x="6648" y="6623"/>
                </a:cubicBezTo>
                <a:cubicBezTo>
                  <a:pt x="6735" y="6614"/>
                  <a:pt x="6724" y="6615"/>
                  <a:pt x="6796" y="6573"/>
                </a:cubicBezTo>
              </a:path>
              <a:path w="1217" h="1886">
                <a:moveTo>
                  <a:pt x="6176" y="7045"/>
                </a:moveTo>
                <a:cubicBezTo>
                  <a:pt x="6115" y="7043"/>
                  <a:pt x="6153" y="6992"/>
                  <a:pt x="6201" y="6945"/>
                </a:cubicBezTo>
                <a:cubicBezTo>
                  <a:pt x="6234" y="6912"/>
                  <a:pt x="6267" y="6880"/>
                  <a:pt x="6300" y="6846"/>
                </a:cubicBezTo>
                <a:cubicBezTo>
                  <a:pt x="6353" y="6899"/>
                  <a:pt x="6403" y="6931"/>
                  <a:pt x="6400" y="7020"/>
                </a:cubicBezTo>
                <a:cubicBezTo>
                  <a:pt x="6397" y="7091"/>
                  <a:pt x="6345" y="7225"/>
                  <a:pt x="6325" y="7293"/>
                </a:cubicBezTo>
                <a:cubicBezTo>
                  <a:pt x="6308" y="7351"/>
                  <a:pt x="6219" y="7419"/>
                  <a:pt x="6176" y="7466"/>
                </a:cubicBezTo>
                <a:cubicBezTo>
                  <a:pt x="6152" y="7491"/>
                  <a:pt x="6144" y="7500"/>
                  <a:pt x="6127" y="7516"/>
                </a:cubicBezTo>
                <a:cubicBezTo>
                  <a:pt x="6084" y="7444"/>
                  <a:pt x="6105" y="7375"/>
                  <a:pt x="6176" y="7317"/>
                </a:cubicBezTo>
                <a:cubicBezTo>
                  <a:pt x="6233" y="7270"/>
                  <a:pt x="6316" y="7291"/>
                  <a:pt x="6375" y="7317"/>
                </a:cubicBezTo>
                <a:cubicBezTo>
                  <a:pt x="6453" y="7352"/>
                  <a:pt x="6491" y="7395"/>
                  <a:pt x="6548" y="7441"/>
                </a:cubicBezTo>
                <a:cubicBezTo>
                  <a:pt x="6593" y="7477"/>
                  <a:pt x="6644" y="7466"/>
                  <a:pt x="6697" y="7466"/>
                </a:cubicBezTo>
              </a:path>
              <a:path w="1217" h="1886">
                <a:moveTo>
                  <a:pt x="6747" y="6995"/>
                </a:moveTo>
                <a:cubicBezTo>
                  <a:pt x="6832" y="6948"/>
                  <a:pt x="6914" y="6929"/>
                  <a:pt x="6995" y="6871"/>
                </a:cubicBezTo>
              </a:path>
              <a:path w="1217" h="1886">
                <a:moveTo>
                  <a:pt x="6871" y="6921"/>
                </a:moveTo>
                <a:cubicBezTo>
                  <a:pt x="6782" y="6996"/>
                  <a:pt x="6724" y="7037"/>
                  <a:pt x="6697" y="7144"/>
                </a:cubicBezTo>
                <a:cubicBezTo>
                  <a:pt x="6787" y="7144"/>
                  <a:pt x="6861" y="7141"/>
                  <a:pt x="6945" y="7169"/>
                </a:cubicBezTo>
                <a:cubicBezTo>
                  <a:pt x="7023" y="7196"/>
                  <a:pt x="7119" y="7253"/>
                  <a:pt x="7144" y="7342"/>
                </a:cubicBezTo>
                <a:cubicBezTo>
                  <a:pt x="7173" y="7444"/>
                  <a:pt x="7069" y="7478"/>
                  <a:pt x="6995" y="7491"/>
                </a:cubicBezTo>
                <a:cubicBezTo>
                  <a:pt x="6943" y="7500"/>
                  <a:pt x="6873" y="7491"/>
                  <a:pt x="6821" y="74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Ink 10"/>
          <p:cNvSpPr/>
          <p:nvPr/>
        </p:nvSpPr>
        <p:spPr>
          <a:xfrm>
            <a:off x="2330280" y="2035080"/>
            <a:ext cx="90720" cy="135000"/>
          </a:xfrm>
          <a:custGeom>
            <a:avLst/>
            <a:gdLst/>
            <a:ahLst/>
            <a:rect l="l" t="t" r="r" b="b"/>
            <a:pathLst>
              <a:path w="249" h="374">
                <a:moveTo>
                  <a:pt x="6499" y="5655"/>
                </a:moveTo>
                <a:cubicBezTo>
                  <a:pt x="6490" y="5785"/>
                  <a:pt x="6448" y="5891"/>
                  <a:pt x="6524" y="6003"/>
                </a:cubicBezTo>
                <a:cubicBezTo>
                  <a:pt x="6566" y="6065"/>
                  <a:pt x="6669" y="6023"/>
                  <a:pt x="6722" y="60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Ink 11"/>
          <p:cNvSpPr/>
          <p:nvPr/>
        </p:nvSpPr>
        <p:spPr>
          <a:xfrm>
            <a:off x="615960" y="2901960"/>
            <a:ext cx="1992240" cy="687240"/>
          </a:xfrm>
          <a:custGeom>
            <a:avLst/>
            <a:gdLst/>
            <a:ahLst/>
            <a:rect l="l" t="t" r="r" b="b"/>
            <a:pathLst>
              <a:path w="5532" h="1910">
                <a:moveTo>
                  <a:pt x="2133" y="9004"/>
                </a:moveTo>
                <a:cubicBezTo>
                  <a:pt x="2133" y="9131"/>
                  <a:pt x="2122" y="8892"/>
                  <a:pt x="2108" y="8855"/>
                </a:cubicBezTo>
                <a:cubicBezTo>
                  <a:pt x="2095" y="8823"/>
                  <a:pt x="2018" y="8731"/>
                  <a:pt x="1984" y="8731"/>
                </a:cubicBezTo>
                <a:cubicBezTo>
                  <a:pt x="1913" y="8731"/>
                  <a:pt x="1859" y="8782"/>
                  <a:pt x="1811" y="8830"/>
                </a:cubicBezTo>
                <a:cubicBezTo>
                  <a:pt x="1757" y="8884"/>
                  <a:pt x="1753" y="8937"/>
                  <a:pt x="1736" y="9004"/>
                </a:cubicBezTo>
                <a:cubicBezTo>
                  <a:pt x="1714" y="9091"/>
                  <a:pt x="1700" y="9185"/>
                  <a:pt x="1712" y="9277"/>
                </a:cubicBezTo>
                <a:cubicBezTo>
                  <a:pt x="1730" y="9411"/>
                  <a:pt x="1748" y="9458"/>
                  <a:pt x="1860" y="9525"/>
                </a:cubicBezTo>
                <a:cubicBezTo>
                  <a:pt x="1919" y="9560"/>
                  <a:pt x="1961" y="9591"/>
                  <a:pt x="2034" y="9575"/>
                </a:cubicBezTo>
                <a:cubicBezTo>
                  <a:pt x="2094" y="9555"/>
                  <a:pt x="2109" y="9556"/>
                  <a:pt x="2133" y="9525"/>
                </a:cubicBezTo>
              </a:path>
              <a:path w="5532" h="1910">
                <a:moveTo>
                  <a:pt x="2431" y="9004"/>
                </a:moveTo>
                <a:cubicBezTo>
                  <a:pt x="2431" y="9094"/>
                  <a:pt x="2409" y="9165"/>
                  <a:pt x="2406" y="9252"/>
                </a:cubicBezTo>
                <a:cubicBezTo>
                  <a:pt x="2402" y="9364"/>
                  <a:pt x="2461" y="9383"/>
                  <a:pt x="2505" y="9475"/>
                </a:cubicBezTo>
                <a:cubicBezTo>
                  <a:pt x="2552" y="9574"/>
                  <a:pt x="2594" y="9561"/>
                  <a:pt x="2679" y="9550"/>
                </a:cubicBezTo>
                <a:cubicBezTo>
                  <a:pt x="2764" y="9539"/>
                  <a:pt x="2761" y="9501"/>
                  <a:pt x="2803" y="9426"/>
                </a:cubicBezTo>
                <a:cubicBezTo>
                  <a:pt x="2835" y="9370"/>
                  <a:pt x="2843" y="9266"/>
                  <a:pt x="2828" y="9203"/>
                </a:cubicBezTo>
                <a:cubicBezTo>
                  <a:pt x="2814" y="9146"/>
                  <a:pt x="2740" y="9048"/>
                  <a:pt x="2704" y="9004"/>
                </a:cubicBezTo>
                <a:cubicBezTo>
                  <a:pt x="2660" y="8950"/>
                  <a:pt x="2534" y="8976"/>
                  <a:pt x="2480" y="9004"/>
                </a:cubicBezTo>
                <a:cubicBezTo>
                  <a:pt x="2424" y="9032"/>
                  <a:pt x="2371" y="9088"/>
                  <a:pt x="2356" y="9153"/>
                </a:cubicBezTo>
                <a:cubicBezTo>
                  <a:pt x="2356" y="9170"/>
                  <a:pt x="2356" y="9186"/>
                  <a:pt x="2356" y="9203"/>
                </a:cubicBezTo>
              </a:path>
              <a:path w="5532" h="1910">
                <a:moveTo>
                  <a:pt x="3150" y="8954"/>
                </a:moveTo>
                <a:cubicBezTo>
                  <a:pt x="3091" y="8984"/>
                  <a:pt x="3047" y="9008"/>
                  <a:pt x="3001" y="9054"/>
                </a:cubicBezTo>
                <a:cubicBezTo>
                  <a:pt x="3054" y="9145"/>
                  <a:pt x="3122" y="9198"/>
                  <a:pt x="3200" y="9277"/>
                </a:cubicBezTo>
                <a:cubicBezTo>
                  <a:pt x="3250" y="9328"/>
                  <a:pt x="3326" y="9393"/>
                  <a:pt x="3299" y="9475"/>
                </a:cubicBezTo>
                <a:cubicBezTo>
                  <a:pt x="3274" y="9551"/>
                  <a:pt x="3196" y="9571"/>
                  <a:pt x="3125" y="9575"/>
                </a:cubicBezTo>
                <a:cubicBezTo>
                  <a:pt x="3086" y="9577"/>
                  <a:pt x="2929" y="9586"/>
                  <a:pt x="2927" y="9525"/>
                </a:cubicBezTo>
                <a:cubicBezTo>
                  <a:pt x="2935" y="9484"/>
                  <a:pt x="2944" y="9442"/>
                  <a:pt x="2952" y="9401"/>
                </a:cubicBezTo>
              </a:path>
              <a:path w="5532" h="1910">
                <a:moveTo>
                  <a:pt x="3572" y="8806"/>
                </a:moveTo>
                <a:cubicBezTo>
                  <a:pt x="3635" y="8762"/>
                  <a:pt x="3673" y="8710"/>
                  <a:pt x="3746" y="8706"/>
                </a:cubicBezTo>
                <a:cubicBezTo>
                  <a:pt x="3791" y="8703"/>
                  <a:pt x="3879" y="8727"/>
                  <a:pt x="3894" y="8781"/>
                </a:cubicBezTo>
                <a:cubicBezTo>
                  <a:pt x="3908" y="8829"/>
                  <a:pt x="3890" y="8938"/>
                  <a:pt x="3870" y="8979"/>
                </a:cubicBezTo>
                <a:cubicBezTo>
                  <a:pt x="3826" y="9071"/>
                  <a:pt x="3754" y="9132"/>
                  <a:pt x="3696" y="9203"/>
                </a:cubicBezTo>
                <a:cubicBezTo>
                  <a:pt x="3674" y="9230"/>
                  <a:pt x="3629" y="9345"/>
                  <a:pt x="3621" y="9376"/>
                </a:cubicBezTo>
                <a:cubicBezTo>
                  <a:pt x="3609" y="9420"/>
                  <a:pt x="3655" y="9557"/>
                  <a:pt x="3696" y="9575"/>
                </a:cubicBezTo>
                <a:cubicBezTo>
                  <a:pt x="3763" y="9575"/>
                  <a:pt x="3797" y="9571"/>
                  <a:pt x="3845" y="9550"/>
                </a:cubicBezTo>
              </a:path>
              <a:path w="5532" h="1910">
                <a:moveTo>
                  <a:pt x="4242" y="9153"/>
                </a:moveTo>
                <a:cubicBezTo>
                  <a:pt x="4232" y="9232"/>
                  <a:pt x="4217" y="9292"/>
                  <a:pt x="4217" y="9376"/>
                </a:cubicBezTo>
                <a:cubicBezTo>
                  <a:pt x="4217" y="9442"/>
                  <a:pt x="4206" y="9528"/>
                  <a:pt x="4266" y="9575"/>
                </a:cubicBezTo>
                <a:cubicBezTo>
                  <a:pt x="4342" y="9634"/>
                  <a:pt x="4434" y="9586"/>
                  <a:pt x="4514" y="9575"/>
                </a:cubicBezTo>
                <a:cubicBezTo>
                  <a:pt x="4585" y="9565"/>
                  <a:pt x="4600" y="9514"/>
                  <a:pt x="4638" y="9451"/>
                </a:cubicBezTo>
                <a:cubicBezTo>
                  <a:pt x="4675" y="9388"/>
                  <a:pt x="4688" y="9348"/>
                  <a:pt x="4688" y="9277"/>
                </a:cubicBezTo>
                <a:cubicBezTo>
                  <a:pt x="4688" y="9227"/>
                  <a:pt x="4688" y="9211"/>
                  <a:pt x="4688" y="9178"/>
                </a:cubicBezTo>
                <a:cubicBezTo>
                  <a:pt x="4667" y="9262"/>
                  <a:pt x="4638" y="9346"/>
                  <a:pt x="4688" y="9426"/>
                </a:cubicBezTo>
                <a:cubicBezTo>
                  <a:pt x="4698" y="9442"/>
                  <a:pt x="4799" y="9547"/>
                  <a:pt x="4812" y="9550"/>
                </a:cubicBezTo>
                <a:cubicBezTo>
                  <a:pt x="4837" y="9550"/>
                  <a:pt x="4862" y="9550"/>
                  <a:pt x="4887" y="9550"/>
                </a:cubicBezTo>
              </a:path>
              <a:path w="5532" h="1910">
                <a:moveTo>
                  <a:pt x="5060" y="9103"/>
                </a:moveTo>
                <a:cubicBezTo>
                  <a:pt x="5179" y="9067"/>
                  <a:pt x="5282" y="9029"/>
                  <a:pt x="5407" y="9029"/>
                </a:cubicBezTo>
              </a:path>
              <a:path w="5532" h="1910">
                <a:moveTo>
                  <a:pt x="5159" y="9227"/>
                </a:moveTo>
                <a:cubicBezTo>
                  <a:pt x="5266" y="9271"/>
                  <a:pt x="5341" y="9294"/>
                  <a:pt x="5457" y="9302"/>
                </a:cubicBezTo>
              </a:path>
              <a:path w="5532" h="1910">
                <a:moveTo>
                  <a:pt x="5854" y="8111"/>
                </a:moveTo>
                <a:cubicBezTo>
                  <a:pt x="5943" y="8088"/>
                  <a:pt x="6035" y="8067"/>
                  <a:pt x="6127" y="8062"/>
                </a:cubicBezTo>
                <a:cubicBezTo>
                  <a:pt x="6250" y="8056"/>
                  <a:pt x="6376" y="8062"/>
                  <a:pt x="6499" y="8062"/>
                </a:cubicBezTo>
                <a:cubicBezTo>
                  <a:pt x="6491" y="8116"/>
                  <a:pt x="6483" y="8167"/>
                  <a:pt x="6449" y="8210"/>
                </a:cubicBezTo>
                <a:cubicBezTo>
                  <a:pt x="6389" y="8284"/>
                  <a:pt x="6371" y="8352"/>
                  <a:pt x="6350" y="8458"/>
                </a:cubicBezTo>
                <a:cubicBezTo>
                  <a:pt x="6326" y="8579"/>
                  <a:pt x="6350" y="8731"/>
                  <a:pt x="6350" y="8855"/>
                </a:cubicBezTo>
              </a:path>
              <a:path w="5532" h="1910">
                <a:moveTo>
                  <a:pt x="6077" y="9004"/>
                </a:moveTo>
                <a:cubicBezTo>
                  <a:pt x="6164" y="8996"/>
                  <a:pt x="6235" y="8979"/>
                  <a:pt x="6325" y="8979"/>
                </a:cubicBezTo>
                <a:cubicBezTo>
                  <a:pt x="6446" y="8979"/>
                  <a:pt x="6558" y="8972"/>
                  <a:pt x="6672" y="8954"/>
                </a:cubicBezTo>
                <a:cubicBezTo>
                  <a:pt x="6724" y="8954"/>
                  <a:pt x="6742" y="8953"/>
                  <a:pt x="6772" y="8930"/>
                </a:cubicBezTo>
              </a:path>
              <a:path w="5532" h="1910">
                <a:moveTo>
                  <a:pt x="6226" y="9227"/>
                </a:moveTo>
                <a:cubicBezTo>
                  <a:pt x="6218" y="9252"/>
                  <a:pt x="6209" y="9277"/>
                  <a:pt x="6201" y="9302"/>
                </a:cubicBezTo>
                <a:cubicBezTo>
                  <a:pt x="6248" y="9275"/>
                  <a:pt x="6286" y="9192"/>
                  <a:pt x="6325" y="9178"/>
                </a:cubicBezTo>
                <a:cubicBezTo>
                  <a:pt x="6349" y="9169"/>
                  <a:pt x="6487" y="9149"/>
                  <a:pt x="6499" y="9178"/>
                </a:cubicBezTo>
                <a:cubicBezTo>
                  <a:pt x="6552" y="9305"/>
                  <a:pt x="6514" y="9402"/>
                  <a:pt x="6499" y="9525"/>
                </a:cubicBezTo>
                <a:cubicBezTo>
                  <a:pt x="6489" y="9605"/>
                  <a:pt x="6474" y="9704"/>
                  <a:pt x="6424" y="9773"/>
                </a:cubicBezTo>
                <a:cubicBezTo>
                  <a:pt x="6391" y="9818"/>
                  <a:pt x="6345" y="9915"/>
                  <a:pt x="6300" y="9947"/>
                </a:cubicBezTo>
                <a:cubicBezTo>
                  <a:pt x="6214" y="10008"/>
                  <a:pt x="6203" y="9908"/>
                  <a:pt x="6201" y="9847"/>
                </a:cubicBezTo>
                <a:cubicBezTo>
                  <a:pt x="6198" y="9780"/>
                  <a:pt x="6215" y="9682"/>
                  <a:pt x="6251" y="9624"/>
                </a:cubicBezTo>
                <a:cubicBezTo>
                  <a:pt x="6294" y="9554"/>
                  <a:pt x="6319" y="9526"/>
                  <a:pt x="6400" y="9575"/>
                </a:cubicBezTo>
                <a:cubicBezTo>
                  <a:pt x="6445" y="9602"/>
                  <a:pt x="6486" y="9636"/>
                  <a:pt x="6524" y="9674"/>
                </a:cubicBezTo>
                <a:cubicBezTo>
                  <a:pt x="6583" y="9735"/>
                  <a:pt x="6642" y="9723"/>
                  <a:pt x="6722" y="9723"/>
                </a:cubicBezTo>
              </a:path>
              <a:path w="5532" h="1910">
                <a:moveTo>
                  <a:pt x="6871" y="9302"/>
                </a:moveTo>
                <a:cubicBezTo>
                  <a:pt x="6930" y="9251"/>
                  <a:pt x="7002" y="9232"/>
                  <a:pt x="7094" y="9227"/>
                </a:cubicBezTo>
                <a:cubicBezTo>
                  <a:pt x="7144" y="9227"/>
                  <a:pt x="7160" y="9227"/>
                  <a:pt x="7193" y="9227"/>
                </a:cubicBezTo>
              </a:path>
              <a:path w="5532" h="1910">
                <a:moveTo>
                  <a:pt x="6921" y="9302"/>
                </a:moveTo>
                <a:cubicBezTo>
                  <a:pt x="6865" y="9357"/>
                  <a:pt x="6827" y="9375"/>
                  <a:pt x="6821" y="9451"/>
                </a:cubicBezTo>
                <a:cubicBezTo>
                  <a:pt x="6821" y="9486"/>
                  <a:pt x="6826" y="9503"/>
                  <a:pt x="6846" y="9525"/>
                </a:cubicBezTo>
                <a:cubicBezTo>
                  <a:pt x="6907" y="9479"/>
                  <a:pt x="6943" y="9455"/>
                  <a:pt x="7020" y="9451"/>
                </a:cubicBezTo>
                <a:cubicBezTo>
                  <a:pt x="7104" y="9446"/>
                  <a:pt x="7131" y="9467"/>
                  <a:pt x="7193" y="9525"/>
                </a:cubicBezTo>
                <a:cubicBezTo>
                  <a:pt x="7260" y="9588"/>
                  <a:pt x="7243" y="9663"/>
                  <a:pt x="7243" y="9748"/>
                </a:cubicBezTo>
                <a:cubicBezTo>
                  <a:pt x="7243" y="9837"/>
                  <a:pt x="7250" y="9874"/>
                  <a:pt x="7169" y="9922"/>
                </a:cubicBezTo>
                <a:cubicBezTo>
                  <a:pt x="7089" y="9969"/>
                  <a:pt x="7036" y="9971"/>
                  <a:pt x="6945" y="9971"/>
                </a:cubicBezTo>
                <a:cubicBezTo>
                  <a:pt x="6886" y="9971"/>
                  <a:pt x="6860" y="9968"/>
                  <a:pt x="6821" y="99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Ink 12"/>
          <p:cNvSpPr/>
          <p:nvPr/>
        </p:nvSpPr>
        <p:spPr>
          <a:xfrm>
            <a:off x="608040" y="3857760"/>
            <a:ext cx="1785960" cy="733320"/>
          </a:xfrm>
          <a:custGeom>
            <a:avLst/>
            <a:gdLst/>
            <a:ahLst/>
            <a:rect l="l" t="t" r="r" b="b"/>
            <a:pathLst>
              <a:path w="4962" h="2035">
                <a:moveTo>
                  <a:pt x="1960" y="10716"/>
                </a:moveTo>
                <a:cubicBezTo>
                  <a:pt x="1960" y="10814"/>
                  <a:pt x="1939" y="10893"/>
                  <a:pt x="1935" y="10988"/>
                </a:cubicBezTo>
                <a:cubicBezTo>
                  <a:pt x="1927" y="11189"/>
                  <a:pt x="1931" y="11385"/>
                  <a:pt x="1910" y="11584"/>
                </a:cubicBezTo>
                <a:cubicBezTo>
                  <a:pt x="1897" y="11713"/>
                  <a:pt x="1910" y="11851"/>
                  <a:pt x="1910" y="11981"/>
                </a:cubicBezTo>
              </a:path>
              <a:path w="4962" h="2035">
                <a:moveTo>
                  <a:pt x="1736" y="11509"/>
                </a:moveTo>
                <a:cubicBezTo>
                  <a:pt x="1705" y="11423"/>
                  <a:pt x="1692" y="11415"/>
                  <a:pt x="1712" y="11336"/>
                </a:cubicBezTo>
                <a:cubicBezTo>
                  <a:pt x="1800" y="11336"/>
                  <a:pt x="1875" y="11349"/>
                  <a:pt x="1960" y="11361"/>
                </a:cubicBezTo>
                <a:cubicBezTo>
                  <a:pt x="2082" y="11378"/>
                  <a:pt x="2210" y="11405"/>
                  <a:pt x="2332" y="11410"/>
                </a:cubicBezTo>
                <a:cubicBezTo>
                  <a:pt x="2411" y="11413"/>
                  <a:pt x="2436" y="11425"/>
                  <a:pt x="2505" y="11460"/>
                </a:cubicBezTo>
                <a:cubicBezTo>
                  <a:pt x="2426" y="11539"/>
                  <a:pt x="2336" y="11611"/>
                  <a:pt x="2282" y="11708"/>
                </a:cubicBezTo>
                <a:cubicBezTo>
                  <a:pt x="2241" y="11781"/>
                  <a:pt x="2260" y="11838"/>
                  <a:pt x="2307" y="11906"/>
                </a:cubicBezTo>
                <a:cubicBezTo>
                  <a:pt x="2337" y="11949"/>
                  <a:pt x="2426" y="11946"/>
                  <a:pt x="2456" y="11906"/>
                </a:cubicBezTo>
                <a:cubicBezTo>
                  <a:pt x="2496" y="11854"/>
                  <a:pt x="2565" y="11774"/>
                  <a:pt x="2580" y="11708"/>
                </a:cubicBezTo>
                <a:cubicBezTo>
                  <a:pt x="2595" y="11643"/>
                  <a:pt x="2581" y="11560"/>
                  <a:pt x="2555" y="11509"/>
                </a:cubicBezTo>
                <a:cubicBezTo>
                  <a:pt x="2524" y="11571"/>
                  <a:pt x="2530" y="11634"/>
                  <a:pt x="2530" y="11708"/>
                </a:cubicBezTo>
                <a:cubicBezTo>
                  <a:pt x="2530" y="11817"/>
                  <a:pt x="2574" y="11869"/>
                  <a:pt x="2629" y="11956"/>
                </a:cubicBezTo>
                <a:cubicBezTo>
                  <a:pt x="2656" y="11999"/>
                  <a:pt x="2685" y="12078"/>
                  <a:pt x="2753" y="12055"/>
                </a:cubicBezTo>
                <a:cubicBezTo>
                  <a:pt x="2761" y="12047"/>
                  <a:pt x="2770" y="12038"/>
                  <a:pt x="2778" y="12030"/>
                </a:cubicBezTo>
              </a:path>
              <a:path w="4962" h="2035">
                <a:moveTo>
                  <a:pt x="2828" y="11708"/>
                </a:moveTo>
                <a:cubicBezTo>
                  <a:pt x="2768" y="11628"/>
                  <a:pt x="2762" y="11780"/>
                  <a:pt x="2778" y="11857"/>
                </a:cubicBezTo>
                <a:cubicBezTo>
                  <a:pt x="2787" y="11901"/>
                  <a:pt x="2807" y="11946"/>
                  <a:pt x="2828" y="11981"/>
                </a:cubicBezTo>
                <a:cubicBezTo>
                  <a:pt x="2828" y="11892"/>
                  <a:pt x="2848" y="11819"/>
                  <a:pt x="2853" y="11733"/>
                </a:cubicBezTo>
                <a:cubicBezTo>
                  <a:pt x="2856" y="11681"/>
                  <a:pt x="2879" y="11618"/>
                  <a:pt x="2927" y="11584"/>
                </a:cubicBezTo>
                <a:cubicBezTo>
                  <a:pt x="3012" y="11524"/>
                  <a:pt x="3051" y="11572"/>
                  <a:pt x="3101" y="11633"/>
                </a:cubicBezTo>
                <a:cubicBezTo>
                  <a:pt x="3168" y="11714"/>
                  <a:pt x="3213" y="11825"/>
                  <a:pt x="3225" y="11931"/>
                </a:cubicBezTo>
                <a:cubicBezTo>
                  <a:pt x="3235" y="12016"/>
                  <a:pt x="3213" y="12077"/>
                  <a:pt x="3200" y="12154"/>
                </a:cubicBezTo>
                <a:cubicBezTo>
                  <a:pt x="3200" y="12196"/>
                  <a:pt x="3200" y="12221"/>
                  <a:pt x="3200" y="12179"/>
                </a:cubicBezTo>
              </a:path>
              <a:path w="4962" h="2035">
                <a:moveTo>
                  <a:pt x="3448" y="11311"/>
                </a:moveTo>
                <a:cubicBezTo>
                  <a:pt x="3579" y="11202"/>
                  <a:pt x="3585" y="11217"/>
                  <a:pt x="3746" y="11237"/>
                </a:cubicBezTo>
                <a:cubicBezTo>
                  <a:pt x="3828" y="11247"/>
                  <a:pt x="3840" y="11275"/>
                  <a:pt x="3845" y="11361"/>
                </a:cubicBezTo>
                <a:cubicBezTo>
                  <a:pt x="3850" y="11452"/>
                  <a:pt x="3797" y="11540"/>
                  <a:pt x="3746" y="11609"/>
                </a:cubicBezTo>
                <a:cubicBezTo>
                  <a:pt x="3662" y="11724"/>
                  <a:pt x="3627" y="11792"/>
                  <a:pt x="3621" y="11931"/>
                </a:cubicBezTo>
                <a:cubicBezTo>
                  <a:pt x="3616" y="12055"/>
                  <a:pt x="3682" y="12039"/>
                  <a:pt x="3770" y="12030"/>
                </a:cubicBezTo>
                <a:cubicBezTo>
                  <a:pt x="3787" y="12030"/>
                  <a:pt x="3803" y="12030"/>
                  <a:pt x="3820" y="12030"/>
                </a:cubicBezTo>
              </a:path>
              <a:path w="4962" h="2035">
                <a:moveTo>
                  <a:pt x="4167" y="11782"/>
                </a:moveTo>
                <a:cubicBezTo>
                  <a:pt x="4159" y="11901"/>
                  <a:pt x="4140" y="11950"/>
                  <a:pt x="4192" y="12055"/>
                </a:cubicBezTo>
                <a:cubicBezTo>
                  <a:pt x="4215" y="12102"/>
                  <a:pt x="4278" y="12184"/>
                  <a:pt x="4341" y="12179"/>
                </a:cubicBezTo>
                <a:cubicBezTo>
                  <a:pt x="4400" y="12174"/>
                  <a:pt x="4431" y="12085"/>
                  <a:pt x="4465" y="12055"/>
                </a:cubicBezTo>
                <a:cubicBezTo>
                  <a:pt x="4555" y="11977"/>
                  <a:pt x="4556" y="11933"/>
                  <a:pt x="4564" y="11807"/>
                </a:cubicBezTo>
                <a:cubicBezTo>
                  <a:pt x="4625" y="11777"/>
                  <a:pt x="4534" y="11896"/>
                  <a:pt x="4539" y="11956"/>
                </a:cubicBezTo>
                <a:cubicBezTo>
                  <a:pt x="4541" y="11984"/>
                  <a:pt x="4602" y="12120"/>
                  <a:pt x="4638" y="12129"/>
                </a:cubicBezTo>
                <a:cubicBezTo>
                  <a:pt x="4696" y="12129"/>
                  <a:pt x="4705" y="12129"/>
                  <a:pt x="4738" y="12129"/>
                </a:cubicBezTo>
              </a:path>
              <a:path w="4962" h="2035">
                <a:moveTo>
                  <a:pt x="4936" y="11683"/>
                </a:moveTo>
                <a:cubicBezTo>
                  <a:pt x="5035" y="11665"/>
                  <a:pt x="5111" y="11658"/>
                  <a:pt x="5209" y="11658"/>
                </a:cubicBezTo>
                <a:cubicBezTo>
                  <a:pt x="5217" y="11658"/>
                  <a:pt x="5226" y="11658"/>
                  <a:pt x="5234" y="11658"/>
                </a:cubicBezTo>
              </a:path>
              <a:path w="4962" h="2035">
                <a:moveTo>
                  <a:pt x="4961" y="11832"/>
                </a:moveTo>
                <a:cubicBezTo>
                  <a:pt x="5059" y="11871"/>
                  <a:pt x="5083" y="11881"/>
                  <a:pt x="5184" y="11881"/>
                </a:cubicBezTo>
              </a:path>
              <a:path w="4962" h="2035">
                <a:moveTo>
                  <a:pt x="5705" y="11013"/>
                </a:moveTo>
                <a:cubicBezTo>
                  <a:pt x="5755" y="10963"/>
                  <a:pt x="5775" y="10966"/>
                  <a:pt x="5829" y="10939"/>
                </a:cubicBezTo>
                <a:cubicBezTo>
                  <a:pt x="5897" y="10905"/>
                  <a:pt x="5940" y="10905"/>
                  <a:pt x="5978" y="10988"/>
                </a:cubicBezTo>
                <a:cubicBezTo>
                  <a:pt x="6018" y="11077"/>
                  <a:pt x="5989" y="11200"/>
                  <a:pt x="5953" y="11286"/>
                </a:cubicBezTo>
                <a:cubicBezTo>
                  <a:pt x="5928" y="11346"/>
                  <a:pt x="5901" y="11418"/>
                  <a:pt x="5829" y="11435"/>
                </a:cubicBezTo>
                <a:cubicBezTo>
                  <a:pt x="5783" y="11446"/>
                  <a:pt x="5675" y="11441"/>
                  <a:pt x="5655" y="11385"/>
                </a:cubicBezTo>
                <a:cubicBezTo>
                  <a:pt x="5636" y="11333"/>
                  <a:pt x="5677" y="11296"/>
                  <a:pt x="5705" y="11261"/>
                </a:cubicBezTo>
                <a:cubicBezTo>
                  <a:pt x="5753" y="11285"/>
                  <a:pt x="5843" y="11320"/>
                  <a:pt x="5879" y="11361"/>
                </a:cubicBezTo>
                <a:cubicBezTo>
                  <a:pt x="5931" y="11421"/>
                  <a:pt x="6030" y="11467"/>
                  <a:pt x="6077" y="11435"/>
                </a:cubicBezTo>
              </a:path>
              <a:path w="4962" h="2035">
                <a:moveTo>
                  <a:pt x="6201" y="10988"/>
                </a:moveTo>
                <a:cubicBezTo>
                  <a:pt x="6192" y="11069"/>
                  <a:pt x="6154" y="11136"/>
                  <a:pt x="6201" y="11212"/>
                </a:cubicBezTo>
                <a:cubicBezTo>
                  <a:pt x="6244" y="11282"/>
                  <a:pt x="6318" y="11329"/>
                  <a:pt x="6400" y="11311"/>
                </a:cubicBezTo>
                <a:cubicBezTo>
                  <a:pt x="6429" y="11281"/>
                  <a:pt x="6440" y="11267"/>
                  <a:pt x="6449" y="11237"/>
                </a:cubicBezTo>
              </a:path>
              <a:path w="4962" h="2035">
                <a:moveTo>
                  <a:pt x="6474" y="10964"/>
                </a:moveTo>
                <a:cubicBezTo>
                  <a:pt x="6446" y="11038"/>
                  <a:pt x="6431" y="11133"/>
                  <a:pt x="6424" y="11212"/>
                </a:cubicBezTo>
                <a:cubicBezTo>
                  <a:pt x="6415" y="11302"/>
                  <a:pt x="6449" y="11370"/>
                  <a:pt x="6449" y="11460"/>
                </a:cubicBezTo>
                <a:cubicBezTo>
                  <a:pt x="6449" y="11485"/>
                  <a:pt x="6449" y="11509"/>
                  <a:pt x="6449" y="11534"/>
                </a:cubicBezTo>
              </a:path>
              <a:path w="4962" h="2035">
                <a:moveTo>
                  <a:pt x="5854" y="11633"/>
                </a:moveTo>
                <a:cubicBezTo>
                  <a:pt x="5982" y="11668"/>
                  <a:pt x="6120" y="11671"/>
                  <a:pt x="6251" y="11683"/>
                </a:cubicBezTo>
                <a:cubicBezTo>
                  <a:pt x="6352" y="11692"/>
                  <a:pt x="6446" y="11708"/>
                  <a:pt x="6548" y="11708"/>
                </a:cubicBezTo>
                <a:cubicBezTo>
                  <a:pt x="6606" y="11708"/>
                  <a:pt x="6615" y="11708"/>
                  <a:pt x="6648" y="11708"/>
                </a:cubicBezTo>
              </a:path>
              <a:path w="4962" h="2035">
                <a:moveTo>
                  <a:pt x="6102" y="11906"/>
                </a:moveTo>
                <a:cubicBezTo>
                  <a:pt x="6211" y="11929"/>
                  <a:pt x="6272" y="11956"/>
                  <a:pt x="6375" y="11956"/>
                </a:cubicBezTo>
                <a:cubicBezTo>
                  <a:pt x="6424" y="11956"/>
                  <a:pt x="6441" y="11956"/>
                  <a:pt x="6474" y="11956"/>
                </a:cubicBezTo>
                <a:cubicBezTo>
                  <a:pt x="6474" y="12050"/>
                  <a:pt x="6440" y="12114"/>
                  <a:pt x="6424" y="12204"/>
                </a:cubicBezTo>
                <a:cubicBezTo>
                  <a:pt x="6406" y="12303"/>
                  <a:pt x="6400" y="12400"/>
                  <a:pt x="6400" y="12502"/>
                </a:cubicBezTo>
                <a:cubicBezTo>
                  <a:pt x="6400" y="12589"/>
                  <a:pt x="6424" y="12662"/>
                  <a:pt x="6424" y="127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Ink 13"/>
          <p:cNvSpPr/>
          <p:nvPr/>
        </p:nvSpPr>
        <p:spPr>
          <a:xfrm>
            <a:off x="5867280" y="2813040"/>
            <a:ext cx="187560" cy="152280"/>
          </a:xfrm>
          <a:custGeom>
            <a:avLst/>
            <a:gdLst/>
            <a:ahLst/>
            <a:rect l="l" t="t" r="r" b="b"/>
            <a:pathLst>
              <a:path w="522" h="423">
                <a:moveTo>
                  <a:pt x="16297" y="7913"/>
                </a:moveTo>
                <a:cubicBezTo>
                  <a:pt x="16311" y="7982"/>
                  <a:pt x="16317" y="8099"/>
                  <a:pt x="16346" y="8161"/>
                </a:cubicBezTo>
                <a:cubicBezTo>
                  <a:pt x="16364" y="8199"/>
                  <a:pt x="16428" y="8249"/>
                  <a:pt x="16470" y="8235"/>
                </a:cubicBezTo>
                <a:cubicBezTo>
                  <a:pt x="16509" y="8222"/>
                  <a:pt x="16539" y="8113"/>
                  <a:pt x="16545" y="8086"/>
                </a:cubicBezTo>
                <a:cubicBezTo>
                  <a:pt x="16559" y="8018"/>
                  <a:pt x="16570" y="7960"/>
                  <a:pt x="16570" y="7888"/>
                </a:cubicBezTo>
                <a:cubicBezTo>
                  <a:pt x="16570" y="7843"/>
                  <a:pt x="16573" y="7830"/>
                  <a:pt x="16545" y="7813"/>
                </a:cubicBezTo>
                <a:cubicBezTo>
                  <a:pt x="16505" y="7880"/>
                  <a:pt x="16526" y="7942"/>
                  <a:pt x="16570" y="8012"/>
                </a:cubicBezTo>
                <a:cubicBezTo>
                  <a:pt x="16594" y="8050"/>
                  <a:pt x="16656" y="8094"/>
                  <a:pt x="16694" y="8111"/>
                </a:cubicBezTo>
                <a:cubicBezTo>
                  <a:pt x="16759" y="8133"/>
                  <a:pt x="16774" y="8141"/>
                  <a:pt x="16818" y="81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Ink 14"/>
          <p:cNvSpPr/>
          <p:nvPr/>
        </p:nvSpPr>
        <p:spPr>
          <a:xfrm>
            <a:off x="7466040" y="2054160"/>
            <a:ext cx="177840" cy="250920"/>
          </a:xfrm>
          <a:custGeom>
            <a:avLst/>
            <a:gdLst/>
            <a:ahLst/>
            <a:rect l="l" t="t" r="r" b="b"/>
            <a:pathLst>
              <a:path w="497" h="696">
                <a:moveTo>
                  <a:pt x="20737" y="5779"/>
                </a:moveTo>
                <a:cubicBezTo>
                  <a:pt x="20822" y="5734"/>
                  <a:pt x="20907" y="5683"/>
                  <a:pt x="21010" y="5705"/>
                </a:cubicBezTo>
                <a:cubicBezTo>
                  <a:pt x="21141" y="5734"/>
                  <a:pt x="21103" y="5797"/>
                  <a:pt x="21059" y="5879"/>
                </a:cubicBezTo>
                <a:cubicBezTo>
                  <a:pt x="21025" y="5943"/>
                  <a:pt x="21049" y="6007"/>
                  <a:pt x="20960" y="6028"/>
                </a:cubicBezTo>
                <a:cubicBezTo>
                  <a:pt x="20841" y="6056"/>
                  <a:pt x="21048" y="6017"/>
                  <a:pt x="21084" y="6028"/>
                </a:cubicBezTo>
                <a:cubicBezTo>
                  <a:pt x="21144" y="6046"/>
                  <a:pt x="21189" y="6119"/>
                  <a:pt x="21208" y="6176"/>
                </a:cubicBezTo>
                <a:cubicBezTo>
                  <a:pt x="21225" y="6229"/>
                  <a:pt x="21260" y="6361"/>
                  <a:pt x="21183" y="6400"/>
                </a:cubicBezTo>
                <a:cubicBezTo>
                  <a:pt x="21105" y="6440"/>
                  <a:pt x="20912" y="6392"/>
                  <a:pt x="20836" y="6375"/>
                </a:cubicBezTo>
                <a:cubicBezTo>
                  <a:pt x="20803" y="6367"/>
                  <a:pt x="20770" y="6358"/>
                  <a:pt x="20737" y="63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Ink 15"/>
          <p:cNvSpPr/>
          <p:nvPr/>
        </p:nvSpPr>
        <p:spPr>
          <a:xfrm>
            <a:off x="7367760" y="2803680"/>
            <a:ext cx="187200" cy="233280"/>
          </a:xfrm>
          <a:custGeom>
            <a:avLst/>
            <a:gdLst/>
            <a:ahLst/>
            <a:rect l="l" t="t" r="r" b="b"/>
            <a:pathLst>
              <a:path w="522" h="646">
                <a:moveTo>
                  <a:pt x="20985" y="7813"/>
                </a:moveTo>
                <a:cubicBezTo>
                  <a:pt x="20955" y="7798"/>
                  <a:pt x="20837" y="7802"/>
                  <a:pt x="20786" y="7813"/>
                </a:cubicBezTo>
                <a:cubicBezTo>
                  <a:pt x="20716" y="7828"/>
                  <a:pt x="20657" y="7859"/>
                  <a:pt x="20588" y="7863"/>
                </a:cubicBezTo>
                <a:cubicBezTo>
                  <a:pt x="20528" y="7867"/>
                  <a:pt x="20444" y="7879"/>
                  <a:pt x="20464" y="7962"/>
                </a:cubicBezTo>
                <a:cubicBezTo>
                  <a:pt x="20494" y="8087"/>
                  <a:pt x="20495" y="8228"/>
                  <a:pt x="20513" y="8359"/>
                </a:cubicBezTo>
                <a:cubicBezTo>
                  <a:pt x="20513" y="8404"/>
                  <a:pt x="20510" y="8417"/>
                  <a:pt x="20538" y="84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Ink 16"/>
          <p:cNvSpPr/>
          <p:nvPr/>
        </p:nvSpPr>
        <p:spPr>
          <a:xfrm>
            <a:off x="6572160" y="3178080"/>
            <a:ext cx="152640" cy="277920"/>
          </a:xfrm>
          <a:custGeom>
            <a:avLst/>
            <a:gdLst/>
            <a:ahLst/>
            <a:rect l="l" t="t" r="r" b="b"/>
            <a:pathLst>
              <a:path w="423" h="770">
                <a:moveTo>
                  <a:pt x="18256" y="8880"/>
                </a:moveTo>
                <a:cubicBezTo>
                  <a:pt x="18256" y="8981"/>
                  <a:pt x="18223" y="9172"/>
                  <a:pt x="18281" y="9252"/>
                </a:cubicBezTo>
                <a:cubicBezTo>
                  <a:pt x="18324" y="9311"/>
                  <a:pt x="18363" y="9302"/>
                  <a:pt x="18430" y="9302"/>
                </a:cubicBezTo>
                <a:cubicBezTo>
                  <a:pt x="18569" y="9302"/>
                  <a:pt x="18599" y="9210"/>
                  <a:pt x="18678" y="9103"/>
                </a:cubicBezTo>
              </a:path>
              <a:path w="423" h="770">
                <a:moveTo>
                  <a:pt x="18653" y="8830"/>
                </a:moveTo>
                <a:cubicBezTo>
                  <a:pt x="18621" y="8917"/>
                  <a:pt x="18642" y="8988"/>
                  <a:pt x="18628" y="9079"/>
                </a:cubicBezTo>
                <a:cubicBezTo>
                  <a:pt x="18611" y="9190"/>
                  <a:pt x="18604" y="9287"/>
                  <a:pt x="18604" y="9401"/>
                </a:cubicBezTo>
                <a:cubicBezTo>
                  <a:pt x="18604" y="9467"/>
                  <a:pt x="18604" y="9533"/>
                  <a:pt x="18604" y="95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Ink 17"/>
          <p:cNvSpPr/>
          <p:nvPr/>
        </p:nvSpPr>
        <p:spPr>
          <a:xfrm>
            <a:off x="6224760" y="2027160"/>
            <a:ext cx="160200" cy="223920"/>
          </a:xfrm>
          <a:custGeom>
            <a:avLst/>
            <a:gdLst/>
            <a:ahLst/>
            <a:rect l="l" t="t" r="r" b="b"/>
            <a:pathLst>
              <a:path w="447" h="621">
                <a:moveTo>
                  <a:pt x="17413" y="5680"/>
                </a:moveTo>
                <a:cubicBezTo>
                  <a:pt x="17486" y="5724"/>
                  <a:pt x="17536" y="5694"/>
                  <a:pt x="17611" y="5655"/>
                </a:cubicBezTo>
                <a:cubicBezTo>
                  <a:pt x="17628" y="5647"/>
                  <a:pt x="17644" y="5639"/>
                  <a:pt x="17661" y="5631"/>
                </a:cubicBezTo>
              </a:path>
              <a:path w="447" h="621">
                <a:moveTo>
                  <a:pt x="17438" y="5631"/>
                </a:moveTo>
                <a:cubicBezTo>
                  <a:pt x="17393" y="5692"/>
                  <a:pt x="17283" y="5792"/>
                  <a:pt x="17289" y="5879"/>
                </a:cubicBezTo>
                <a:cubicBezTo>
                  <a:pt x="17294" y="5952"/>
                  <a:pt x="17406" y="5924"/>
                  <a:pt x="17438" y="5904"/>
                </a:cubicBezTo>
                <a:cubicBezTo>
                  <a:pt x="17500" y="5866"/>
                  <a:pt x="17571" y="5880"/>
                  <a:pt x="17636" y="5928"/>
                </a:cubicBezTo>
                <a:cubicBezTo>
                  <a:pt x="17674" y="5956"/>
                  <a:pt x="17753" y="6022"/>
                  <a:pt x="17735" y="6077"/>
                </a:cubicBezTo>
                <a:cubicBezTo>
                  <a:pt x="17714" y="6140"/>
                  <a:pt x="17632" y="6160"/>
                  <a:pt x="17587" y="6176"/>
                </a:cubicBezTo>
                <a:cubicBezTo>
                  <a:pt x="17512" y="6203"/>
                  <a:pt x="17439" y="6217"/>
                  <a:pt x="17363" y="62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Ink 18"/>
          <p:cNvSpPr/>
          <p:nvPr/>
        </p:nvSpPr>
        <p:spPr>
          <a:xfrm>
            <a:off x="5653080" y="1187280"/>
            <a:ext cx="1963800" cy="1866960"/>
          </a:xfrm>
          <a:custGeom>
            <a:avLst/>
            <a:gdLst/>
            <a:ahLst/>
            <a:rect l="l" t="t" r="r" b="b"/>
            <a:pathLst>
              <a:path w="5458" h="5185">
                <a:moveTo>
                  <a:pt x="15701" y="8186"/>
                </a:moveTo>
                <a:cubicBezTo>
                  <a:pt x="15814" y="8054"/>
                  <a:pt x="15916" y="7969"/>
                  <a:pt x="16049" y="7863"/>
                </a:cubicBezTo>
                <a:cubicBezTo>
                  <a:pt x="16153" y="7780"/>
                  <a:pt x="16268" y="7686"/>
                  <a:pt x="16371" y="7590"/>
                </a:cubicBezTo>
                <a:cubicBezTo>
                  <a:pt x="16507" y="7462"/>
                  <a:pt x="16660" y="7343"/>
                  <a:pt x="16793" y="7218"/>
                </a:cubicBezTo>
                <a:cubicBezTo>
                  <a:pt x="17072" y="6956"/>
                  <a:pt x="17350" y="6676"/>
                  <a:pt x="17611" y="6400"/>
                </a:cubicBezTo>
                <a:cubicBezTo>
                  <a:pt x="17791" y="6210"/>
                  <a:pt x="17989" y="6027"/>
                  <a:pt x="18157" y="5829"/>
                </a:cubicBezTo>
                <a:cubicBezTo>
                  <a:pt x="18365" y="5584"/>
                  <a:pt x="18564" y="5325"/>
                  <a:pt x="18777" y="5085"/>
                </a:cubicBezTo>
                <a:cubicBezTo>
                  <a:pt x="18998" y="4836"/>
                  <a:pt x="19245" y="4607"/>
                  <a:pt x="19472" y="4366"/>
                </a:cubicBezTo>
                <a:cubicBezTo>
                  <a:pt x="19661" y="4165"/>
                  <a:pt x="19841" y="3956"/>
                  <a:pt x="20042" y="3770"/>
                </a:cubicBezTo>
                <a:cubicBezTo>
                  <a:pt x="20163" y="3658"/>
                  <a:pt x="20281" y="3554"/>
                  <a:pt x="20389" y="3448"/>
                </a:cubicBezTo>
                <a:cubicBezTo>
                  <a:pt x="20440" y="3398"/>
                  <a:pt x="20479" y="3346"/>
                  <a:pt x="20538" y="3299"/>
                </a:cubicBezTo>
                <a:cubicBezTo>
                  <a:pt x="20543" y="3353"/>
                  <a:pt x="20562" y="3428"/>
                  <a:pt x="20563" y="3497"/>
                </a:cubicBezTo>
                <a:cubicBezTo>
                  <a:pt x="20574" y="4137"/>
                  <a:pt x="20582" y="4771"/>
                  <a:pt x="20613" y="5407"/>
                </a:cubicBezTo>
                <a:cubicBezTo>
                  <a:pt x="20624" y="5640"/>
                  <a:pt x="20633" y="5871"/>
                  <a:pt x="20662" y="6102"/>
                </a:cubicBezTo>
                <a:cubicBezTo>
                  <a:pt x="20691" y="6331"/>
                  <a:pt x="20768" y="6547"/>
                  <a:pt x="20811" y="6772"/>
                </a:cubicBezTo>
                <a:cubicBezTo>
                  <a:pt x="20860" y="7025"/>
                  <a:pt x="20903" y="7267"/>
                  <a:pt x="20960" y="7516"/>
                </a:cubicBezTo>
                <a:cubicBezTo>
                  <a:pt x="20999" y="7688"/>
                  <a:pt x="21011" y="7870"/>
                  <a:pt x="21059" y="8037"/>
                </a:cubicBezTo>
                <a:cubicBezTo>
                  <a:pt x="21081" y="8113"/>
                  <a:pt x="21170" y="8255"/>
                  <a:pt x="21158" y="8334"/>
                </a:cubicBezTo>
                <a:cubicBezTo>
                  <a:pt x="21143" y="8434"/>
                  <a:pt x="21090" y="8427"/>
                  <a:pt x="21010" y="8458"/>
                </a:cubicBezTo>
                <a:cubicBezTo>
                  <a:pt x="20916" y="8495"/>
                  <a:pt x="20787" y="8482"/>
                  <a:pt x="20687" y="8483"/>
                </a:cubicBezTo>
                <a:cubicBezTo>
                  <a:pt x="20485" y="8486"/>
                  <a:pt x="20292" y="8464"/>
                  <a:pt x="20092" y="8458"/>
                </a:cubicBezTo>
                <a:cubicBezTo>
                  <a:pt x="19833" y="8450"/>
                  <a:pt x="19582" y="8421"/>
                  <a:pt x="19323" y="8409"/>
                </a:cubicBezTo>
                <a:cubicBezTo>
                  <a:pt x="19025" y="8395"/>
                  <a:pt x="18726" y="8373"/>
                  <a:pt x="18430" y="8359"/>
                </a:cubicBezTo>
                <a:cubicBezTo>
                  <a:pt x="18142" y="8345"/>
                  <a:pt x="17850" y="8319"/>
                  <a:pt x="17562" y="8310"/>
                </a:cubicBezTo>
                <a:cubicBezTo>
                  <a:pt x="16987" y="8292"/>
                  <a:pt x="16219" y="8310"/>
                  <a:pt x="15726" y="83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36" name="Ink 3"/>
          <p:cNvSpPr/>
          <p:nvPr/>
        </p:nvSpPr>
        <p:spPr>
          <a:xfrm>
            <a:off x="250920" y="1339920"/>
            <a:ext cx="347400" cy="428400"/>
          </a:xfrm>
          <a:custGeom>
            <a:avLst/>
            <a:gdLst/>
            <a:ahLst/>
            <a:rect l="l" t="t" r="r" b="b"/>
            <a:pathLst>
              <a:path w="968" h="1191">
                <a:moveTo>
                  <a:pt x="843" y="4242"/>
                </a:moveTo>
                <a:cubicBezTo>
                  <a:pt x="815" y="4154"/>
                  <a:pt x="806" y="4082"/>
                  <a:pt x="843" y="3994"/>
                </a:cubicBezTo>
                <a:cubicBezTo>
                  <a:pt x="878" y="3909"/>
                  <a:pt x="898" y="3875"/>
                  <a:pt x="992" y="3870"/>
                </a:cubicBezTo>
                <a:cubicBezTo>
                  <a:pt x="1057" y="3867"/>
                  <a:pt x="1076" y="3953"/>
                  <a:pt x="1067" y="4018"/>
                </a:cubicBezTo>
                <a:cubicBezTo>
                  <a:pt x="1045" y="4185"/>
                  <a:pt x="944" y="4271"/>
                  <a:pt x="868" y="4415"/>
                </a:cubicBezTo>
                <a:cubicBezTo>
                  <a:pt x="819" y="4508"/>
                  <a:pt x="805" y="4519"/>
                  <a:pt x="744" y="4589"/>
                </a:cubicBezTo>
                <a:cubicBezTo>
                  <a:pt x="719" y="4638"/>
                  <a:pt x="711" y="4655"/>
                  <a:pt x="695" y="4688"/>
                </a:cubicBezTo>
                <a:cubicBezTo>
                  <a:pt x="761" y="4643"/>
                  <a:pt x="823" y="4637"/>
                  <a:pt x="893" y="4614"/>
                </a:cubicBezTo>
                <a:cubicBezTo>
                  <a:pt x="964" y="4590"/>
                  <a:pt x="1008" y="4551"/>
                  <a:pt x="1067" y="4514"/>
                </a:cubicBezTo>
                <a:cubicBezTo>
                  <a:pt x="1083" y="4506"/>
                  <a:pt x="1100" y="4498"/>
                  <a:pt x="1116" y="4490"/>
                </a:cubicBezTo>
              </a:path>
              <a:path w="968" h="1191">
                <a:moveTo>
                  <a:pt x="1067" y="3994"/>
                </a:moveTo>
                <a:cubicBezTo>
                  <a:pt x="1175" y="3919"/>
                  <a:pt x="1161" y="3905"/>
                  <a:pt x="1290" y="3944"/>
                </a:cubicBezTo>
                <a:cubicBezTo>
                  <a:pt x="1308" y="4017"/>
                  <a:pt x="1299" y="4067"/>
                  <a:pt x="1265" y="4142"/>
                </a:cubicBezTo>
                <a:cubicBezTo>
                  <a:pt x="1232" y="4216"/>
                  <a:pt x="1202" y="4185"/>
                  <a:pt x="1215" y="4242"/>
                </a:cubicBezTo>
                <a:cubicBezTo>
                  <a:pt x="1289" y="4222"/>
                  <a:pt x="1375" y="4197"/>
                  <a:pt x="1439" y="4266"/>
                </a:cubicBezTo>
                <a:cubicBezTo>
                  <a:pt x="1480" y="4310"/>
                  <a:pt x="1475" y="4445"/>
                  <a:pt x="1439" y="4490"/>
                </a:cubicBezTo>
                <a:cubicBezTo>
                  <a:pt x="1397" y="4541"/>
                  <a:pt x="1300" y="4561"/>
                  <a:pt x="1240" y="4564"/>
                </a:cubicBezTo>
                <a:cubicBezTo>
                  <a:pt x="1196" y="4564"/>
                  <a:pt x="1182" y="4567"/>
                  <a:pt x="1166" y="4539"/>
                </a:cubicBezTo>
              </a:path>
              <a:path w="968" h="1191">
                <a:moveTo>
                  <a:pt x="1215" y="3721"/>
                </a:moveTo>
                <a:cubicBezTo>
                  <a:pt x="1391" y="3799"/>
                  <a:pt x="1402" y="3830"/>
                  <a:pt x="1513" y="3969"/>
                </a:cubicBezTo>
                <a:cubicBezTo>
                  <a:pt x="1590" y="4065"/>
                  <a:pt x="1643" y="4187"/>
                  <a:pt x="1662" y="4316"/>
                </a:cubicBezTo>
                <a:cubicBezTo>
                  <a:pt x="1674" y="4398"/>
                  <a:pt x="1643" y="4538"/>
                  <a:pt x="1612" y="4614"/>
                </a:cubicBezTo>
                <a:cubicBezTo>
                  <a:pt x="1550" y="4767"/>
                  <a:pt x="1423" y="4822"/>
                  <a:pt x="1290" y="49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Ink 4"/>
          <p:cNvSpPr/>
          <p:nvPr/>
        </p:nvSpPr>
        <p:spPr>
          <a:xfrm>
            <a:off x="901800" y="1303200"/>
            <a:ext cx="1071360" cy="411480"/>
          </a:xfrm>
          <a:custGeom>
            <a:avLst/>
            <a:gdLst/>
            <a:ahLst/>
            <a:rect l="l" t="t" r="r" b="b"/>
            <a:pathLst>
              <a:path w="2978" h="1142">
                <a:moveTo>
                  <a:pt x="2753" y="3621"/>
                </a:moveTo>
                <a:cubicBezTo>
                  <a:pt x="2782" y="3698"/>
                  <a:pt x="2778" y="3761"/>
                  <a:pt x="2778" y="3845"/>
                </a:cubicBezTo>
                <a:cubicBezTo>
                  <a:pt x="2778" y="4094"/>
                  <a:pt x="2745" y="4371"/>
                  <a:pt x="2803" y="4614"/>
                </a:cubicBezTo>
                <a:cubicBezTo>
                  <a:pt x="2811" y="4649"/>
                  <a:pt x="2826" y="4789"/>
                  <a:pt x="2853" y="4738"/>
                </a:cubicBezTo>
              </a:path>
              <a:path w="2978" h="1142">
                <a:moveTo>
                  <a:pt x="2505" y="4192"/>
                </a:moveTo>
                <a:cubicBezTo>
                  <a:pt x="2587" y="4192"/>
                  <a:pt x="2652" y="4170"/>
                  <a:pt x="2729" y="4167"/>
                </a:cubicBezTo>
                <a:cubicBezTo>
                  <a:pt x="2835" y="4162"/>
                  <a:pt x="2945" y="4167"/>
                  <a:pt x="3051" y="4167"/>
                </a:cubicBezTo>
              </a:path>
              <a:path w="2978" h="1142">
                <a:moveTo>
                  <a:pt x="3373" y="4192"/>
                </a:moveTo>
                <a:cubicBezTo>
                  <a:pt x="3473" y="4223"/>
                  <a:pt x="3463" y="4208"/>
                  <a:pt x="3522" y="4266"/>
                </a:cubicBezTo>
                <a:cubicBezTo>
                  <a:pt x="3494" y="4238"/>
                  <a:pt x="3431" y="4189"/>
                  <a:pt x="3398" y="4192"/>
                </a:cubicBezTo>
                <a:cubicBezTo>
                  <a:pt x="3305" y="4201"/>
                  <a:pt x="3251" y="4285"/>
                  <a:pt x="3225" y="4366"/>
                </a:cubicBezTo>
                <a:cubicBezTo>
                  <a:pt x="3196" y="4456"/>
                  <a:pt x="3146" y="4591"/>
                  <a:pt x="3175" y="4688"/>
                </a:cubicBezTo>
                <a:cubicBezTo>
                  <a:pt x="3185" y="4721"/>
                  <a:pt x="3282" y="4765"/>
                  <a:pt x="3299" y="4762"/>
                </a:cubicBezTo>
                <a:cubicBezTo>
                  <a:pt x="3364" y="4750"/>
                  <a:pt x="3440" y="4695"/>
                  <a:pt x="3473" y="4638"/>
                </a:cubicBezTo>
                <a:cubicBezTo>
                  <a:pt x="3519" y="4559"/>
                  <a:pt x="3522" y="4478"/>
                  <a:pt x="3522" y="4390"/>
                </a:cubicBezTo>
                <a:cubicBezTo>
                  <a:pt x="3522" y="4349"/>
                  <a:pt x="3522" y="4341"/>
                  <a:pt x="3522" y="4316"/>
                </a:cubicBezTo>
              </a:path>
              <a:path w="2978" h="1142">
                <a:moveTo>
                  <a:pt x="3497" y="4366"/>
                </a:moveTo>
                <a:cubicBezTo>
                  <a:pt x="3497" y="4448"/>
                  <a:pt x="3485" y="4584"/>
                  <a:pt x="3522" y="4663"/>
                </a:cubicBezTo>
                <a:cubicBezTo>
                  <a:pt x="3562" y="4748"/>
                  <a:pt x="3646" y="4697"/>
                  <a:pt x="3696" y="4663"/>
                </a:cubicBezTo>
              </a:path>
              <a:path w="2978" h="1142">
                <a:moveTo>
                  <a:pt x="3721" y="4390"/>
                </a:moveTo>
                <a:cubicBezTo>
                  <a:pt x="3734" y="4465"/>
                  <a:pt x="3719" y="4615"/>
                  <a:pt x="3746" y="4688"/>
                </a:cubicBezTo>
                <a:cubicBezTo>
                  <a:pt x="3754" y="4696"/>
                  <a:pt x="3762" y="4705"/>
                  <a:pt x="3770" y="4713"/>
                </a:cubicBezTo>
                <a:cubicBezTo>
                  <a:pt x="3770" y="4610"/>
                  <a:pt x="3759" y="4513"/>
                  <a:pt x="3795" y="4415"/>
                </a:cubicBezTo>
                <a:cubicBezTo>
                  <a:pt x="3821" y="4345"/>
                  <a:pt x="3873" y="4274"/>
                  <a:pt x="3919" y="4217"/>
                </a:cubicBezTo>
              </a:path>
              <a:path w="2978" h="1142">
                <a:moveTo>
                  <a:pt x="4018" y="4242"/>
                </a:moveTo>
                <a:cubicBezTo>
                  <a:pt x="4065" y="4334"/>
                  <a:pt x="4072" y="4431"/>
                  <a:pt x="4118" y="4514"/>
                </a:cubicBezTo>
                <a:cubicBezTo>
                  <a:pt x="4153" y="4575"/>
                  <a:pt x="4182" y="4668"/>
                  <a:pt x="4242" y="4638"/>
                </a:cubicBezTo>
              </a:path>
              <a:path w="2978" h="1142">
                <a:moveTo>
                  <a:pt x="4564" y="4217"/>
                </a:moveTo>
                <a:cubicBezTo>
                  <a:pt x="4582" y="4311"/>
                  <a:pt x="4558" y="4453"/>
                  <a:pt x="4589" y="4539"/>
                </a:cubicBezTo>
                <a:cubicBezTo>
                  <a:pt x="4602" y="4575"/>
                  <a:pt x="4644" y="4626"/>
                  <a:pt x="4663" y="4663"/>
                </a:cubicBezTo>
                <a:cubicBezTo>
                  <a:pt x="4719" y="4635"/>
                  <a:pt x="4794" y="4605"/>
                  <a:pt x="4812" y="4539"/>
                </a:cubicBezTo>
                <a:cubicBezTo>
                  <a:pt x="4830" y="4474"/>
                  <a:pt x="4837" y="4411"/>
                  <a:pt x="4837" y="4341"/>
                </a:cubicBezTo>
                <a:cubicBezTo>
                  <a:pt x="4837" y="4258"/>
                  <a:pt x="4837" y="4242"/>
                  <a:pt x="4837" y="4192"/>
                </a:cubicBezTo>
              </a:path>
              <a:path w="2978" h="1142">
                <a:moveTo>
                  <a:pt x="4837" y="4390"/>
                </a:moveTo>
                <a:cubicBezTo>
                  <a:pt x="4846" y="4464"/>
                  <a:pt x="4820" y="4713"/>
                  <a:pt x="4961" y="4713"/>
                </a:cubicBezTo>
                <a:cubicBezTo>
                  <a:pt x="4969" y="4705"/>
                  <a:pt x="4978" y="4696"/>
                  <a:pt x="4986" y="4688"/>
                </a:cubicBezTo>
              </a:path>
              <a:path w="2978" h="1142">
                <a:moveTo>
                  <a:pt x="5209" y="4266"/>
                </a:moveTo>
                <a:cubicBezTo>
                  <a:pt x="5303" y="4292"/>
                  <a:pt x="5327" y="4290"/>
                  <a:pt x="5407" y="4266"/>
                </a:cubicBezTo>
                <a:cubicBezTo>
                  <a:pt x="5415" y="4266"/>
                  <a:pt x="5424" y="4266"/>
                  <a:pt x="5432" y="4266"/>
                </a:cubicBezTo>
              </a:path>
              <a:path w="2978" h="1142">
                <a:moveTo>
                  <a:pt x="5234" y="4465"/>
                </a:moveTo>
                <a:cubicBezTo>
                  <a:pt x="5299" y="4504"/>
                  <a:pt x="5336" y="4490"/>
                  <a:pt x="5407" y="4465"/>
                </a:cubicBezTo>
                <a:cubicBezTo>
                  <a:pt x="5432" y="4457"/>
                  <a:pt x="5457" y="4448"/>
                  <a:pt x="5482" y="44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Ink 5"/>
          <p:cNvSpPr/>
          <p:nvPr/>
        </p:nvSpPr>
        <p:spPr>
          <a:xfrm>
            <a:off x="2160720" y="1366920"/>
            <a:ext cx="260280" cy="295200"/>
          </a:xfrm>
          <a:custGeom>
            <a:avLst/>
            <a:gdLst/>
            <a:ahLst/>
            <a:rect l="l" t="t" r="r" b="b"/>
            <a:pathLst>
              <a:path w="720" h="820">
                <a:moveTo>
                  <a:pt x="6003" y="3795"/>
                </a:moveTo>
                <a:cubicBezTo>
                  <a:pt x="6003" y="3857"/>
                  <a:pt x="5975" y="3978"/>
                  <a:pt x="6028" y="4018"/>
                </a:cubicBezTo>
                <a:cubicBezTo>
                  <a:pt x="6036" y="4018"/>
                  <a:pt x="6044" y="4018"/>
                  <a:pt x="6052" y="4018"/>
                </a:cubicBezTo>
              </a:path>
              <a:path w="720" h="820">
                <a:moveTo>
                  <a:pt x="6276" y="3919"/>
                </a:moveTo>
                <a:cubicBezTo>
                  <a:pt x="6217" y="4078"/>
                  <a:pt x="6169" y="4229"/>
                  <a:pt x="6127" y="4390"/>
                </a:cubicBezTo>
                <a:cubicBezTo>
                  <a:pt x="6107" y="4466"/>
                  <a:pt x="6104" y="4530"/>
                  <a:pt x="6052" y="4589"/>
                </a:cubicBezTo>
                <a:cubicBezTo>
                  <a:pt x="6030" y="4611"/>
                  <a:pt x="6019" y="4620"/>
                  <a:pt x="6052" y="4614"/>
                </a:cubicBezTo>
              </a:path>
              <a:path w="720" h="820">
                <a:moveTo>
                  <a:pt x="6325" y="4167"/>
                </a:moveTo>
                <a:cubicBezTo>
                  <a:pt x="6421" y="4141"/>
                  <a:pt x="6446" y="4129"/>
                  <a:pt x="6524" y="4192"/>
                </a:cubicBezTo>
                <a:cubicBezTo>
                  <a:pt x="6500" y="4257"/>
                  <a:pt x="6498" y="4313"/>
                  <a:pt x="6449" y="4366"/>
                </a:cubicBezTo>
                <a:cubicBezTo>
                  <a:pt x="6394" y="4426"/>
                  <a:pt x="6380" y="4454"/>
                  <a:pt x="6350" y="4514"/>
                </a:cubicBezTo>
                <a:cubicBezTo>
                  <a:pt x="6303" y="4608"/>
                  <a:pt x="6350" y="4611"/>
                  <a:pt x="6449" y="4614"/>
                </a:cubicBezTo>
                <a:cubicBezTo>
                  <a:pt x="6546" y="4617"/>
                  <a:pt x="6609" y="4609"/>
                  <a:pt x="6697" y="4589"/>
                </a:cubicBezTo>
                <a:cubicBezTo>
                  <a:pt x="6705" y="4589"/>
                  <a:pt x="6714" y="4589"/>
                  <a:pt x="6722" y="45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Ink 6"/>
          <p:cNvSpPr/>
          <p:nvPr/>
        </p:nvSpPr>
        <p:spPr>
          <a:xfrm>
            <a:off x="3152880" y="1214280"/>
            <a:ext cx="1116000" cy="517680"/>
          </a:xfrm>
          <a:custGeom>
            <a:avLst/>
            <a:gdLst/>
            <a:ahLst/>
            <a:rect l="l" t="t" r="r" b="b"/>
            <a:pathLst>
              <a:path w="3102" h="1440">
                <a:moveTo>
                  <a:pt x="8756" y="3845"/>
                </a:moveTo>
                <a:cubicBezTo>
                  <a:pt x="8834" y="3766"/>
                  <a:pt x="8864" y="3797"/>
                  <a:pt x="8954" y="3746"/>
                </a:cubicBezTo>
                <a:cubicBezTo>
                  <a:pt x="9029" y="3703"/>
                  <a:pt x="9071" y="3705"/>
                  <a:pt x="9079" y="3795"/>
                </a:cubicBezTo>
                <a:cubicBezTo>
                  <a:pt x="9086" y="3876"/>
                  <a:pt x="9046" y="3928"/>
                  <a:pt x="9004" y="3994"/>
                </a:cubicBezTo>
                <a:cubicBezTo>
                  <a:pt x="8951" y="4078"/>
                  <a:pt x="8932" y="4166"/>
                  <a:pt x="8830" y="4192"/>
                </a:cubicBezTo>
                <a:cubicBezTo>
                  <a:pt x="8814" y="4192"/>
                  <a:pt x="8797" y="4192"/>
                  <a:pt x="8781" y="4192"/>
                </a:cubicBezTo>
                <a:cubicBezTo>
                  <a:pt x="8829" y="4168"/>
                  <a:pt x="8917" y="4150"/>
                  <a:pt x="8979" y="4167"/>
                </a:cubicBezTo>
                <a:cubicBezTo>
                  <a:pt x="9066" y="4191"/>
                  <a:pt x="9098" y="4231"/>
                  <a:pt x="9103" y="4316"/>
                </a:cubicBezTo>
                <a:cubicBezTo>
                  <a:pt x="9108" y="4406"/>
                  <a:pt x="9077" y="4470"/>
                  <a:pt x="9029" y="4539"/>
                </a:cubicBezTo>
                <a:cubicBezTo>
                  <a:pt x="8999" y="4582"/>
                  <a:pt x="8940" y="4727"/>
                  <a:pt x="8855" y="4663"/>
                </a:cubicBezTo>
                <a:cubicBezTo>
                  <a:pt x="8830" y="4614"/>
                  <a:pt x="8822" y="4597"/>
                  <a:pt x="8806" y="4564"/>
                </a:cubicBezTo>
              </a:path>
              <a:path w="3102" h="1440">
                <a:moveTo>
                  <a:pt x="9178" y="3845"/>
                </a:moveTo>
                <a:cubicBezTo>
                  <a:pt x="9210" y="3923"/>
                  <a:pt x="9240" y="3993"/>
                  <a:pt x="9277" y="4068"/>
                </a:cubicBezTo>
                <a:cubicBezTo>
                  <a:pt x="9312" y="3999"/>
                  <a:pt x="9311" y="3900"/>
                  <a:pt x="9327" y="3820"/>
                </a:cubicBezTo>
                <a:cubicBezTo>
                  <a:pt x="9352" y="3693"/>
                  <a:pt x="9412" y="3673"/>
                  <a:pt x="9500" y="3597"/>
                </a:cubicBezTo>
                <a:cubicBezTo>
                  <a:pt x="9571" y="3536"/>
                  <a:pt x="9613" y="3525"/>
                  <a:pt x="9699" y="3547"/>
                </a:cubicBezTo>
                <a:cubicBezTo>
                  <a:pt x="9689" y="3657"/>
                  <a:pt x="9639" y="3726"/>
                  <a:pt x="9575" y="3820"/>
                </a:cubicBezTo>
                <a:cubicBezTo>
                  <a:pt x="9524" y="3895"/>
                  <a:pt x="9505" y="3938"/>
                  <a:pt x="9525" y="4018"/>
                </a:cubicBezTo>
                <a:cubicBezTo>
                  <a:pt x="9594" y="4041"/>
                  <a:pt x="9683" y="4025"/>
                  <a:pt x="9723" y="3944"/>
                </a:cubicBezTo>
                <a:cubicBezTo>
                  <a:pt x="9764" y="3862"/>
                  <a:pt x="9787" y="3761"/>
                  <a:pt x="9798" y="3671"/>
                </a:cubicBezTo>
                <a:cubicBezTo>
                  <a:pt x="9809" y="3584"/>
                  <a:pt x="9815" y="3443"/>
                  <a:pt x="9773" y="3373"/>
                </a:cubicBezTo>
                <a:cubicBezTo>
                  <a:pt x="9773" y="3476"/>
                  <a:pt x="9757" y="3572"/>
                  <a:pt x="9748" y="3671"/>
                </a:cubicBezTo>
                <a:cubicBezTo>
                  <a:pt x="9739" y="3771"/>
                  <a:pt x="9728" y="3870"/>
                  <a:pt x="9723" y="3969"/>
                </a:cubicBezTo>
                <a:cubicBezTo>
                  <a:pt x="9723" y="3985"/>
                  <a:pt x="9723" y="4002"/>
                  <a:pt x="9723" y="4018"/>
                </a:cubicBezTo>
              </a:path>
              <a:path w="3102" h="1440">
                <a:moveTo>
                  <a:pt x="10220" y="4018"/>
                </a:moveTo>
                <a:cubicBezTo>
                  <a:pt x="10084" y="4067"/>
                  <a:pt x="9987" y="4127"/>
                  <a:pt x="9922" y="4266"/>
                </a:cubicBezTo>
                <a:cubicBezTo>
                  <a:pt x="9887" y="4342"/>
                  <a:pt x="9880" y="4441"/>
                  <a:pt x="9922" y="4514"/>
                </a:cubicBezTo>
                <a:cubicBezTo>
                  <a:pt x="9966" y="4590"/>
                  <a:pt x="10089" y="4535"/>
                  <a:pt x="10120" y="4490"/>
                </a:cubicBezTo>
                <a:cubicBezTo>
                  <a:pt x="10182" y="4399"/>
                  <a:pt x="10195" y="4322"/>
                  <a:pt x="10195" y="4217"/>
                </a:cubicBezTo>
                <a:cubicBezTo>
                  <a:pt x="10195" y="4080"/>
                  <a:pt x="10172" y="4367"/>
                  <a:pt x="10170" y="4390"/>
                </a:cubicBezTo>
                <a:cubicBezTo>
                  <a:pt x="10162" y="4499"/>
                  <a:pt x="10151" y="4607"/>
                  <a:pt x="10145" y="4713"/>
                </a:cubicBezTo>
                <a:cubicBezTo>
                  <a:pt x="10142" y="4772"/>
                  <a:pt x="10151" y="4790"/>
                  <a:pt x="10195" y="4812"/>
                </a:cubicBezTo>
              </a:path>
              <a:path w="3102" h="1440">
                <a:moveTo>
                  <a:pt x="10418" y="4167"/>
                </a:moveTo>
                <a:cubicBezTo>
                  <a:pt x="10446" y="4242"/>
                  <a:pt x="10465" y="4308"/>
                  <a:pt x="10468" y="4390"/>
                </a:cubicBezTo>
                <a:cubicBezTo>
                  <a:pt x="10468" y="4475"/>
                  <a:pt x="10461" y="4495"/>
                  <a:pt x="10492" y="4539"/>
                </a:cubicBezTo>
                <a:cubicBezTo>
                  <a:pt x="10528" y="4553"/>
                  <a:pt x="10606" y="4560"/>
                  <a:pt x="10641" y="4514"/>
                </a:cubicBezTo>
                <a:cubicBezTo>
                  <a:pt x="10666" y="4481"/>
                  <a:pt x="10709" y="4358"/>
                  <a:pt x="10716" y="4316"/>
                </a:cubicBezTo>
                <a:cubicBezTo>
                  <a:pt x="10720" y="4292"/>
                  <a:pt x="10755" y="4048"/>
                  <a:pt x="10740" y="4192"/>
                </a:cubicBezTo>
                <a:cubicBezTo>
                  <a:pt x="10731" y="4275"/>
                  <a:pt x="10723" y="4392"/>
                  <a:pt x="10765" y="4465"/>
                </a:cubicBezTo>
                <a:cubicBezTo>
                  <a:pt x="10804" y="4533"/>
                  <a:pt x="10862" y="4501"/>
                  <a:pt x="10914" y="4490"/>
                </a:cubicBezTo>
              </a:path>
              <a:path w="3102" h="1440">
                <a:moveTo>
                  <a:pt x="11137" y="4192"/>
                </a:moveTo>
                <a:cubicBezTo>
                  <a:pt x="11067" y="4275"/>
                  <a:pt x="10974" y="4366"/>
                  <a:pt x="11013" y="4490"/>
                </a:cubicBezTo>
                <a:cubicBezTo>
                  <a:pt x="11029" y="4540"/>
                  <a:pt x="11139" y="4520"/>
                  <a:pt x="11162" y="4490"/>
                </a:cubicBezTo>
                <a:cubicBezTo>
                  <a:pt x="11202" y="4439"/>
                  <a:pt x="11205" y="4376"/>
                  <a:pt x="11212" y="4316"/>
                </a:cubicBezTo>
                <a:cubicBezTo>
                  <a:pt x="11203" y="4405"/>
                  <a:pt x="11182" y="4433"/>
                  <a:pt x="11237" y="4514"/>
                </a:cubicBezTo>
                <a:cubicBezTo>
                  <a:pt x="11267" y="4557"/>
                  <a:pt x="11388" y="4551"/>
                  <a:pt x="11435" y="4539"/>
                </a:cubicBezTo>
                <a:cubicBezTo>
                  <a:pt x="11490" y="4524"/>
                  <a:pt x="11555" y="4485"/>
                  <a:pt x="11609" y="4465"/>
                </a:cubicBezTo>
              </a:path>
              <a:path w="3102" h="1440">
                <a:moveTo>
                  <a:pt x="11733" y="4242"/>
                </a:moveTo>
                <a:cubicBezTo>
                  <a:pt x="11640" y="4287"/>
                  <a:pt x="11640" y="4310"/>
                  <a:pt x="11584" y="4390"/>
                </a:cubicBezTo>
                <a:cubicBezTo>
                  <a:pt x="11542" y="4450"/>
                  <a:pt x="11560" y="4466"/>
                  <a:pt x="11609" y="4514"/>
                </a:cubicBezTo>
                <a:cubicBezTo>
                  <a:pt x="11670" y="4453"/>
                  <a:pt x="11747" y="4396"/>
                  <a:pt x="11782" y="4316"/>
                </a:cubicBezTo>
                <a:cubicBezTo>
                  <a:pt x="11826" y="4216"/>
                  <a:pt x="11846" y="4099"/>
                  <a:pt x="11857" y="3994"/>
                </a:cubicBezTo>
                <a:cubicBezTo>
                  <a:pt x="11863" y="3939"/>
                  <a:pt x="11879" y="3836"/>
                  <a:pt x="11832" y="3820"/>
                </a:cubicBezTo>
                <a:cubicBezTo>
                  <a:pt x="11832" y="3878"/>
                  <a:pt x="11832" y="3936"/>
                  <a:pt x="11832" y="39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Ink 7"/>
          <p:cNvSpPr/>
          <p:nvPr/>
        </p:nvSpPr>
        <p:spPr>
          <a:xfrm>
            <a:off x="411120" y="2428920"/>
            <a:ext cx="1054080" cy="277920"/>
          </a:xfrm>
          <a:custGeom>
            <a:avLst/>
            <a:gdLst/>
            <a:ahLst/>
            <a:rect l="l" t="t" r="r" b="b"/>
            <a:pathLst>
              <a:path w="2928" h="770">
                <a:moveTo>
                  <a:pt x="1563" y="7069"/>
                </a:moveTo>
                <a:cubicBezTo>
                  <a:pt x="1524" y="7006"/>
                  <a:pt x="1552" y="6975"/>
                  <a:pt x="1463" y="6970"/>
                </a:cubicBezTo>
                <a:cubicBezTo>
                  <a:pt x="1379" y="6965"/>
                  <a:pt x="1290" y="6980"/>
                  <a:pt x="1215" y="7020"/>
                </a:cubicBezTo>
                <a:cubicBezTo>
                  <a:pt x="1190" y="7033"/>
                  <a:pt x="1161" y="7074"/>
                  <a:pt x="1141" y="7094"/>
                </a:cubicBezTo>
                <a:cubicBezTo>
                  <a:pt x="1193" y="7125"/>
                  <a:pt x="1234" y="7124"/>
                  <a:pt x="1290" y="7144"/>
                </a:cubicBezTo>
                <a:cubicBezTo>
                  <a:pt x="1346" y="7164"/>
                  <a:pt x="1418" y="7205"/>
                  <a:pt x="1463" y="7243"/>
                </a:cubicBezTo>
                <a:cubicBezTo>
                  <a:pt x="1521" y="7291"/>
                  <a:pt x="1560" y="7337"/>
                  <a:pt x="1538" y="7417"/>
                </a:cubicBezTo>
                <a:cubicBezTo>
                  <a:pt x="1522" y="7475"/>
                  <a:pt x="1394" y="7522"/>
                  <a:pt x="1339" y="7516"/>
                </a:cubicBezTo>
                <a:cubicBezTo>
                  <a:pt x="1280" y="7509"/>
                  <a:pt x="1187" y="7483"/>
                  <a:pt x="1240" y="7417"/>
                </a:cubicBezTo>
                <a:cubicBezTo>
                  <a:pt x="1257" y="7400"/>
                  <a:pt x="1273" y="7384"/>
                  <a:pt x="1290" y="7367"/>
                </a:cubicBezTo>
              </a:path>
              <a:path w="2928" h="770">
                <a:moveTo>
                  <a:pt x="1860" y="7069"/>
                </a:moveTo>
                <a:cubicBezTo>
                  <a:pt x="1848" y="7141"/>
                  <a:pt x="1815" y="7263"/>
                  <a:pt x="1836" y="7342"/>
                </a:cubicBezTo>
                <a:cubicBezTo>
                  <a:pt x="1849" y="7389"/>
                  <a:pt x="1864" y="7522"/>
                  <a:pt x="1885" y="7417"/>
                </a:cubicBezTo>
              </a:path>
              <a:path w="2928" h="770">
                <a:moveTo>
                  <a:pt x="1786" y="6846"/>
                </a:moveTo>
                <a:cubicBezTo>
                  <a:pt x="1794" y="6829"/>
                  <a:pt x="1803" y="6813"/>
                  <a:pt x="1811" y="6796"/>
                </a:cubicBezTo>
              </a:path>
              <a:path w="2928" h="770">
                <a:moveTo>
                  <a:pt x="2034" y="7342"/>
                </a:moveTo>
                <a:cubicBezTo>
                  <a:pt x="2042" y="7392"/>
                  <a:pt x="2051" y="7441"/>
                  <a:pt x="2059" y="7491"/>
                </a:cubicBezTo>
                <a:cubicBezTo>
                  <a:pt x="2059" y="7383"/>
                  <a:pt x="2067" y="7293"/>
                  <a:pt x="2084" y="7193"/>
                </a:cubicBezTo>
                <a:cubicBezTo>
                  <a:pt x="2093" y="7139"/>
                  <a:pt x="2098" y="7088"/>
                  <a:pt x="2133" y="7045"/>
                </a:cubicBezTo>
                <a:cubicBezTo>
                  <a:pt x="2179" y="6988"/>
                  <a:pt x="2216" y="6980"/>
                  <a:pt x="2282" y="7020"/>
                </a:cubicBezTo>
                <a:cubicBezTo>
                  <a:pt x="2342" y="7057"/>
                  <a:pt x="2360" y="7131"/>
                  <a:pt x="2381" y="7193"/>
                </a:cubicBezTo>
                <a:cubicBezTo>
                  <a:pt x="2408" y="7271"/>
                  <a:pt x="2427" y="7361"/>
                  <a:pt x="2431" y="7441"/>
                </a:cubicBezTo>
                <a:cubicBezTo>
                  <a:pt x="2431" y="7500"/>
                  <a:pt x="2434" y="7508"/>
                  <a:pt x="2456" y="7417"/>
                </a:cubicBezTo>
              </a:path>
              <a:path w="2928" h="770">
                <a:moveTo>
                  <a:pt x="2604" y="6846"/>
                </a:moveTo>
                <a:cubicBezTo>
                  <a:pt x="2705" y="6747"/>
                  <a:pt x="2711" y="6747"/>
                  <a:pt x="2853" y="6747"/>
                </a:cubicBezTo>
                <a:cubicBezTo>
                  <a:pt x="2933" y="6747"/>
                  <a:pt x="2969" y="6814"/>
                  <a:pt x="2952" y="6896"/>
                </a:cubicBezTo>
                <a:cubicBezTo>
                  <a:pt x="2939" y="6957"/>
                  <a:pt x="2922" y="7036"/>
                  <a:pt x="2902" y="7094"/>
                </a:cubicBezTo>
                <a:cubicBezTo>
                  <a:pt x="2882" y="7155"/>
                  <a:pt x="2798" y="7218"/>
                  <a:pt x="2753" y="7268"/>
                </a:cubicBezTo>
                <a:cubicBezTo>
                  <a:pt x="2722" y="7302"/>
                  <a:pt x="2652" y="7378"/>
                  <a:pt x="2654" y="7417"/>
                </a:cubicBezTo>
                <a:cubicBezTo>
                  <a:pt x="2660" y="7519"/>
                  <a:pt x="2783" y="7449"/>
                  <a:pt x="2828" y="7441"/>
                </a:cubicBezTo>
                <a:cubicBezTo>
                  <a:pt x="2880" y="7432"/>
                  <a:pt x="2924" y="7423"/>
                  <a:pt x="2977" y="7417"/>
                </a:cubicBezTo>
              </a:path>
              <a:path w="2928" h="770">
                <a:moveTo>
                  <a:pt x="3150" y="7119"/>
                </a:moveTo>
                <a:cubicBezTo>
                  <a:pt x="3150" y="7225"/>
                  <a:pt x="3122" y="7374"/>
                  <a:pt x="3175" y="7466"/>
                </a:cubicBezTo>
                <a:cubicBezTo>
                  <a:pt x="3212" y="7529"/>
                  <a:pt x="3249" y="7518"/>
                  <a:pt x="3299" y="7491"/>
                </a:cubicBezTo>
                <a:cubicBezTo>
                  <a:pt x="3360" y="7458"/>
                  <a:pt x="3387" y="7401"/>
                  <a:pt x="3423" y="7342"/>
                </a:cubicBezTo>
                <a:cubicBezTo>
                  <a:pt x="3468" y="7269"/>
                  <a:pt x="3473" y="7008"/>
                  <a:pt x="3473" y="7094"/>
                </a:cubicBezTo>
                <a:cubicBezTo>
                  <a:pt x="3473" y="7157"/>
                  <a:pt x="3448" y="7197"/>
                  <a:pt x="3448" y="7268"/>
                </a:cubicBezTo>
                <a:cubicBezTo>
                  <a:pt x="3448" y="7329"/>
                  <a:pt x="3487" y="7412"/>
                  <a:pt x="3522" y="7466"/>
                </a:cubicBezTo>
                <a:cubicBezTo>
                  <a:pt x="3550" y="7494"/>
                  <a:pt x="3564" y="7503"/>
                  <a:pt x="3597" y="7491"/>
                </a:cubicBezTo>
              </a:path>
              <a:path w="2928" h="770">
                <a:moveTo>
                  <a:pt x="3820" y="7069"/>
                </a:moveTo>
                <a:cubicBezTo>
                  <a:pt x="3900" y="7050"/>
                  <a:pt x="3968" y="7031"/>
                  <a:pt x="4043" y="7020"/>
                </a:cubicBezTo>
              </a:path>
              <a:path w="2928" h="770">
                <a:moveTo>
                  <a:pt x="3870" y="7243"/>
                </a:moveTo>
                <a:cubicBezTo>
                  <a:pt x="3945" y="7243"/>
                  <a:pt x="4008" y="7254"/>
                  <a:pt x="4068" y="72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Ink 8"/>
          <p:cNvSpPr/>
          <p:nvPr/>
        </p:nvSpPr>
        <p:spPr>
          <a:xfrm>
            <a:off x="1608120" y="2367000"/>
            <a:ext cx="901800" cy="320760"/>
          </a:xfrm>
          <a:custGeom>
            <a:avLst/>
            <a:gdLst/>
            <a:ahLst/>
            <a:rect l="l" t="t" r="r" b="b"/>
            <a:pathLst>
              <a:path w="2506" h="894">
                <a:moveTo>
                  <a:pt x="4564" y="6722"/>
                </a:moveTo>
                <a:cubicBezTo>
                  <a:pt x="4630" y="6628"/>
                  <a:pt x="4642" y="6594"/>
                  <a:pt x="4762" y="6573"/>
                </a:cubicBezTo>
                <a:cubicBezTo>
                  <a:pt x="4812" y="6573"/>
                  <a:pt x="4829" y="6573"/>
                  <a:pt x="4862" y="6573"/>
                </a:cubicBezTo>
                <a:cubicBezTo>
                  <a:pt x="4880" y="6645"/>
                  <a:pt x="4872" y="6681"/>
                  <a:pt x="4837" y="6747"/>
                </a:cubicBezTo>
                <a:cubicBezTo>
                  <a:pt x="4803" y="6810"/>
                  <a:pt x="4795" y="6877"/>
                  <a:pt x="4762" y="6945"/>
                </a:cubicBezTo>
                <a:cubicBezTo>
                  <a:pt x="4726" y="7019"/>
                  <a:pt x="4682" y="7076"/>
                  <a:pt x="4638" y="7144"/>
                </a:cubicBezTo>
                <a:cubicBezTo>
                  <a:pt x="4596" y="7209"/>
                  <a:pt x="4565" y="7285"/>
                  <a:pt x="4514" y="7342"/>
                </a:cubicBezTo>
                <a:cubicBezTo>
                  <a:pt x="4475" y="7386"/>
                  <a:pt x="4472" y="7409"/>
                  <a:pt x="4465" y="7466"/>
                </a:cubicBezTo>
                <a:cubicBezTo>
                  <a:pt x="4569" y="7453"/>
                  <a:pt x="4602" y="7454"/>
                  <a:pt x="4713" y="7466"/>
                </a:cubicBezTo>
                <a:cubicBezTo>
                  <a:pt x="4769" y="7472"/>
                  <a:pt x="4831" y="7466"/>
                  <a:pt x="4887" y="7466"/>
                </a:cubicBezTo>
              </a:path>
              <a:path w="2506" h="894">
                <a:moveTo>
                  <a:pt x="5457" y="6995"/>
                </a:moveTo>
                <a:cubicBezTo>
                  <a:pt x="5402" y="6950"/>
                  <a:pt x="5378" y="6945"/>
                  <a:pt x="5308" y="6945"/>
                </a:cubicBezTo>
                <a:cubicBezTo>
                  <a:pt x="5231" y="6945"/>
                  <a:pt x="5215" y="6950"/>
                  <a:pt x="5159" y="6995"/>
                </a:cubicBezTo>
                <a:cubicBezTo>
                  <a:pt x="5194" y="7064"/>
                  <a:pt x="5217" y="7104"/>
                  <a:pt x="5283" y="7144"/>
                </a:cubicBezTo>
                <a:cubicBezTo>
                  <a:pt x="5343" y="7180"/>
                  <a:pt x="5371" y="7207"/>
                  <a:pt x="5407" y="7268"/>
                </a:cubicBezTo>
                <a:cubicBezTo>
                  <a:pt x="5437" y="7319"/>
                  <a:pt x="5450" y="7387"/>
                  <a:pt x="5383" y="7417"/>
                </a:cubicBezTo>
                <a:cubicBezTo>
                  <a:pt x="5325" y="7443"/>
                  <a:pt x="5290" y="7437"/>
                  <a:pt x="5234" y="7392"/>
                </a:cubicBezTo>
                <a:cubicBezTo>
                  <a:pt x="5184" y="7351"/>
                  <a:pt x="5225" y="7334"/>
                  <a:pt x="5259" y="7317"/>
                </a:cubicBezTo>
              </a:path>
              <a:path w="2506" h="894">
                <a:moveTo>
                  <a:pt x="5705" y="7069"/>
                </a:moveTo>
                <a:cubicBezTo>
                  <a:pt x="5705" y="7189"/>
                  <a:pt x="5709" y="7312"/>
                  <a:pt x="5730" y="7417"/>
                </a:cubicBezTo>
                <a:cubicBezTo>
                  <a:pt x="5730" y="7483"/>
                  <a:pt x="5730" y="7482"/>
                  <a:pt x="5730" y="7367"/>
                </a:cubicBezTo>
              </a:path>
              <a:path w="2506" h="894">
                <a:moveTo>
                  <a:pt x="5730" y="6871"/>
                </a:moveTo>
                <a:cubicBezTo>
                  <a:pt x="5730" y="6809"/>
                  <a:pt x="5720" y="6794"/>
                  <a:pt x="5755" y="6772"/>
                </a:cubicBezTo>
              </a:path>
              <a:path w="2506" h="894">
                <a:moveTo>
                  <a:pt x="5928" y="7169"/>
                </a:moveTo>
                <a:cubicBezTo>
                  <a:pt x="5951" y="7283"/>
                  <a:pt x="5942" y="7335"/>
                  <a:pt x="5928" y="7441"/>
                </a:cubicBezTo>
                <a:cubicBezTo>
                  <a:pt x="5937" y="7379"/>
                  <a:pt x="5937" y="7308"/>
                  <a:pt x="5953" y="7243"/>
                </a:cubicBezTo>
                <a:cubicBezTo>
                  <a:pt x="5968" y="7181"/>
                  <a:pt x="5989" y="7121"/>
                  <a:pt x="6028" y="7069"/>
                </a:cubicBezTo>
                <a:cubicBezTo>
                  <a:pt x="6074" y="7007"/>
                  <a:pt x="6146" y="6935"/>
                  <a:pt x="6226" y="6995"/>
                </a:cubicBezTo>
                <a:cubicBezTo>
                  <a:pt x="6271" y="7029"/>
                  <a:pt x="6297" y="7142"/>
                  <a:pt x="6300" y="7193"/>
                </a:cubicBezTo>
                <a:cubicBezTo>
                  <a:pt x="6304" y="7258"/>
                  <a:pt x="6314" y="7314"/>
                  <a:pt x="6325" y="7367"/>
                </a:cubicBezTo>
                <a:cubicBezTo>
                  <a:pt x="6333" y="7408"/>
                  <a:pt x="6325" y="7482"/>
                  <a:pt x="6325" y="7441"/>
                </a:cubicBezTo>
              </a:path>
              <a:path w="2506" h="894">
                <a:moveTo>
                  <a:pt x="6598" y="6970"/>
                </a:moveTo>
                <a:cubicBezTo>
                  <a:pt x="6598" y="7045"/>
                  <a:pt x="6585" y="7100"/>
                  <a:pt x="6573" y="7169"/>
                </a:cubicBezTo>
                <a:cubicBezTo>
                  <a:pt x="6562" y="7237"/>
                  <a:pt x="6571" y="7313"/>
                  <a:pt x="6598" y="7367"/>
                </a:cubicBezTo>
                <a:cubicBezTo>
                  <a:pt x="6640" y="7451"/>
                  <a:pt x="6680" y="7452"/>
                  <a:pt x="6747" y="7392"/>
                </a:cubicBezTo>
                <a:cubicBezTo>
                  <a:pt x="6779" y="7364"/>
                  <a:pt x="6836" y="7286"/>
                  <a:pt x="6846" y="7243"/>
                </a:cubicBezTo>
                <a:cubicBezTo>
                  <a:pt x="6860" y="7184"/>
                  <a:pt x="6861" y="7103"/>
                  <a:pt x="6871" y="7045"/>
                </a:cubicBezTo>
                <a:cubicBezTo>
                  <a:pt x="6871" y="6995"/>
                  <a:pt x="6871" y="6978"/>
                  <a:pt x="6871" y="6945"/>
                </a:cubicBezTo>
                <a:cubicBezTo>
                  <a:pt x="6871" y="7059"/>
                  <a:pt x="6878" y="7161"/>
                  <a:pt x="6896" y="7268"/>
                </a:cubicBezTo>
                <a:cubicBezTo>
                  <a:pt x="6908" y="7342"/>
                  <a:pt x="6901" y="7327"/>
                  <a:pt x="6970" y="73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Ink 9"/>
          <p:cNvSpPr/>
          <p:nvPr/>
        </p:nvSpPr>
        <p:spPr>
          <a:xfrm>
            <a:off x="2633760" y="2490840"/>
            <a:ext cx="447480" cy="179280"/>
          </a:xfrm>
          <a:custGeom>
            <a:avLst/>
            <a:gdLst/>
            <a:ahLst/>
            <a:rect l="l" t="t" r="r" b="b"/>
            <a:pathLst>
              <a:path w="1242" h="497">
                <a:moveTo>
                  <a:pt x="7640" y="7045"/>
                </a:moveTo>
                <a:cubicBezTo>
                  <a:pt x="7637" y="7021"/>
                  <a:pt x="7613" y="6918"/>
                  <a:pt x="7565" y="6921"/>
                </a:cubicBezTo>
                <a:cubicBezTo>
                  <a:pt x="7527" y="6924"/>
                  <a:pt x="7461" y="6989"/>
                  <a:pt x="7441" y="7020"/>
                </a:cubicBezTo>
                <a:cubicBezTo>
                  <a:pt x="7405" y="7076"/>
                  <a:pt x="7334" y="7157"/>
                  <a:pt x="7317" y="7218"/>
                </a:cubicBezTo>
                <a:cubicBezTo>
                  <a:pt x="7301" y="7275"/>
                  <a:pt x="7317" y="7335"/>
                  <a:pt x="7367" y="7367"/>
                </a:cubicBezTo>
                <a:cubicBezTo>
                  <a:pt x="7428" y="7406"/>
                  <a:pt x="7528" y="7394"/>
                  <a:pt x="7590" y="7367"/>
                </a:cubicBezTo>
                <a:cubicBezTo>
                  <a:pt x="7598" y="7359"/>
                  <a:pt x="7607" y="7350"/>
                  <a:pt x="7615" y="7342"/>
                </a:cubicBezTo>
              </a:path>
              <a:path w="1242" h="497">
                <a:moveTo>
                  <a:pt x="7789" y="7020"/>
                </a:moveTo>
                <a:cubicBezTo>
                  <a:pt x="7771" y="7137"/>
                  <a:pt x="7735" y="7221"/>
                  <a:pt x="7813" y="7317"/>
                </a:cubicBezTo>
                <a:cubicBezTo>
                  <a:pt x="7852" y="7364"/>
                  <a:pt x="7899" y="7385"/>
                  <a:pt x="7962" y="7367"/>
                </a:cubicBezTo>
                <a:cubicBezTo>
                  <a:pt x="7993" y="7358"/>
                  <a:pt x="8091" y="7292"/>
                  <a:pt x="8111" y="7268"/>
                </a:cubicBezTo>
                <a:cubicBezTo>
                  <a:pt x="8145" y="7229"/>
                  <a:pt x="8171" y="7093"/>
                  <a:pt x="8161" y="7045"/>
                </a:cubicBezTo>
                <a:cubicBezTo>
                  <a:pt x="8131" y="6902"/>
                  <a:pt x="8036" y="6928"/>
                  <a:pt x="7938" y="6970"/>
                </a:cubicBezTo>
                <a:cubicBezTo>
                  <a:pt x="7892" y="6990"/>
                  <a:pt x="7817" y="7031"/>
                  <a:pt x="7838" y="7094"/>
                </a:cubicBezTo>
                <a:cubicBezTo>
                  <a:pt x="7866" y="7122"/>
                  <a:pt x="7880" y="7131"/>
                  <a:pt x="7913" y="7119"/>
                </a:cubicBezTo>
              </a:path>
              <a:path w="1242" h="497">
                <a:moveTo>
                  <a:pt x="8434" y="6921"/>
                </a:moveTo>
                <a:cubicBezTo>
                  <a:pt x="8371" y="6956"/>
                  <a:pt x="8328" y="6977"/>
                  <a:pt x="8384" y="7045"/>
                </a:cubicBezTo>
                <a:cubicBezTo>
                  <a:pt x="8422" y="7091"/>
                  <a:pt x="8475" y="7128"/>
                  <a:pt x="8508" y="7169"/>
                </a:cubicBezTo>
                <a:cubicBezTo>
                  <a:pt x="8536" y="7204"/>
                  <a:pt x="8593" y="7347"/>
                  <a:pt x="8558" y="7392"/>
                </a:cubicBezTo>
                <a:cubicBezTo>
                  <a:pt x="8524" y="7436"/>
                  <a:pt x="8441" y="7393"/>
                  <a:pt x="8409" y="7367"/>
                </a:cubicBezTo>
                <a:cubicBezTo>
                  <a:pt x="8384" y="7342"/>
                  <a:pt x="8376" y="7334"/>
                  <a:pt x="8409" y="73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Ink 10"/>
          <p:cNvSpPr/>
          <p:nvPr/>
        </p:nvSpPr>
        <p:spPr>
          <a:xfrm>
            <a:off x="3187800" y="2490840"/>
            <a:ext cx="241200" cy="196920"/>
          </a:xfrm>
          <a:custGeom>
            <a:avLst/>
            <a:gdLst/>
            <a:ahLst/>
            <a:rect l="l" t="t" r="r" b="b"/>
            <a:pathLst>
              <a:path w="671" h="546">
                <a:moveTo>
                  <a:pt x="8855" y="6970"/>
                </a:moveTo>
                <a:cubicBezTo>
                  <a:pt x="8855" y="7063"/>
                  <a:pt x="8835" y="7203"/>
                  <a:pt x="8880" y="7293"/>
                </a:cubicBezTo>
                <a:cubicBezTo>
                  <a:pt x="8910" y="7352"/>
                  <a:pt x="8994" y="7379"/>
                  <a:pt x="9054" y="7367"/>
                </a:cubicBezTo>
                <a:cubicBezTo>
                  <a:pt x="9101" y="7358"/>
                  <a:pt x="9176" y="7310"/>
                  <a:pt x="9203" y="7268"/>
                </a:cubicBezTo>
                <a:cubicBezTo>
                  <a:pt x="9249" y="7195"/>
                  <a:pt x="9268" y="7146"/>
                  <a:pt x="9302" y="7069"/>
                </a:cubicBezTo>
                <a:cubicBezTo>
                  <a:pt x="9328" y="7012"/>
                  <a:pt x="9327" y="6983"/>
                  <a:pt x="9327" y="6921"/>
                </a:cubicBezTo>
                <a:cubicBezTo>
                  <a:pt x="9357" y="6982"/>
                  <a:pt x="9351" y="7046"/>
                  <a:pt x="9351" y="7119"/>
                </a:cubicBezTo>
                <a:cubicBezTo>
                  <a:pt x="9351" y="7203"/>
                  <a:pt x="9386" y="7286"/>
                  <a:pt x="9451" y="7342"/>
                </a:cubicBezTo>
                <a:cubicBezTo>
                  <a:pt x="9510" y="7394"/>
                  <a:pt x="9515" y="7384"/>
                  <a:pt x="9525" y="746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Ink 11"/>
          <p:cNvSpPr/>
          <p:nvPr/>
        </p:nvSpPr>
        <p:spPr>
          <a:xfrm>
            <a:off x="1357200" y="2830680"/>
            <a:ext cx="2894040" cy="839520"/>
          </a:xfrm>
          <a:custGeom>
            <a:avLst/>
            <a:gdLst/>
            <a:ahLst/>
            <a:rect l="l" t="t" r="r" b="b"/>
            <a:pathLst>
              <a:path w="8038" h="2333">
                <a:moveTo>
                  <a:pt x="3795" y="8434"/>
                </a:moveTo>
                <a:cubicBezTo>
                  <a:pt x="3883" y="8466"/>
                  <a:pt x="3904" y="8440"/>
                  <a:pt x="3994" y="8434"/>
                </a:cubicBezTo>
                <a:cubicBezTo>
                  <a:pt x="4002" y="8434"/>
                  <a:pt x="4010" y="8434"/>
                  <a:pt x="4018" y="8434"/>
                </a:cubicBezTo>
              </a:path>
              <a:path w="8038" h="2333">
                <a:moveTo>
                  <a:pt x="3770" y="8607"/>
                </a:moveTo>
                <a:cubicBezTo>
                  <a:pt x="3830" y="8643"/>
                  <a:pt x="3895" y="8632"/>
                  <a:pt x="3969" y="8632"/>
                </a:cubicBezTo>
                <a:cubicBezTo>
                  <a:pt x="4010" y="8632"/>
                  <a:pt x="4018" y="8632"/>
                  <a:pt x="4043" y="8632"/>
                </a:cubicBezTo>
              </a:path>
              <a:path w="8038" h="2333">
                <a:moveTo>
                  <a:pt x="4490" y="8285"/>
                </a:moveTo>
                <a:cubicBezTo>
                  <a:pt x="4519" y="8315"/>
                  <a:pt x="4524" y="8329"/>
                  <a:pt x="4490" y="8359"/>
                </a:cubicBezTo>
                <a:cubicBezTo>
                  <a:pt x="4500" y="8289"/>
                  <a:pt x="4543" y="8245"/>
                  <a:pt x="4589" y="8186"/>
                </a:cubicBezTo>
                <a:cubicBezTo>
                  <a:pt x="4635" y="8127"/>
                  <a:pt x="4675" y="8173"/>
                  <a:pt x="4713" y="8210"/>
                </a:cubicBezTo>
                <a:cubicBezTo>
                  <a:pt x="4770" y="8266"/>
                  <a:pt x="4762" y="8336"/>
                  <a:pt x="4762" y="8409"/>
                </a:cubicBezTo>
                <a:cubicBezTo>
                  <a:pt x="4762" y="8514"/>
                  <a:pt x="4729" y="8610"/>
                  <a:pt x="4713" y="8706"/>
                </a:cubicBezTo>
                <a:cubicBezTo>
                  <a:pt x="4701" y="8779"/>
                  <a:pt x="4690" y="8802"/>
                  <a:pt x="4638" y="8855"/>
                </a:cubicBezTo>
                <a:cubicBezTo>
                  <a:pt x="4604" y="8889"/>
                  <a:pt x="4571" y="8949"/>
                  <a:pt x="4514" y="8930"/>
                </a:cubicBezTo>
                <a:cubicBezTo>
                  <a:pt x="4471" y="8915"/>
                  <a:pt x="4396" y="8862"/>
                  <a:pt x="4415" y="8806"/>
                </a:cubicBezTo>
                <a:cubicBezTo>
                  <a:pt x="4440" y="8733"/>
                  <a:pt x="4495" y="8751"/>
                  <a:pt x="4539" y="8756"/>
                </a:cubicBezTo>
                <a:cubicBezTo>
                  <a:pt x="4606" y="8764"/>
                  <a:pt x="4615" y="8783"/>
                  <a:pt x="4663" y="8830"/>
                </a:cubicBezTo>
                <a:cubicBezTo>
                  <a:pt x="4698" y="8865"/>
                  <a:pt x="4713" y="8886"/>
                  <a:pt x="4738" y="8930"/>
                </a:cubicBezTo>
              </a:path>
              <a:path w="8038" h="2333">
                <a:moveTo>
                  <a:pt x="4986" y="8830"/>
                </a:moveTo>
                <a:cubicBezTo>
                  <a:pt x="4964" y="8852"/>
                  <a:pt x="4975" y="8858"/>
                  <a:pt x="4961" y="8830"/>
                </a:cubicBezTo>
              </a:path>
              <a:path w="8038" h="2333">
                <a:moveTo>
                  <a:pt x="5432" y="8384"/>
                </a:moveTo>
                <a:cubicBezTo>
                  <a:pt x="5521" y="8408"/>
                  <a:pt x="5587" y="8409"/>
                  <a:pt x="5680" y="8409"/>
                </a:cubicBezTo>
                <a:cubicBezTo>
                  <a:pt x="5722" y="8409"/>
                  <a:pt x="5730" y="8409"/>
                  <a:pt x="5755" y="8409"/>
                </a:cubicBezTo>
              </a:path>
              <a:path w="8038" h="2333">
                <a:moveTo>
                  <a:pt x="6127" y="8210"/>
                </a:moveTo>
                <a:cubicBezTo>
                  <a:pt x="6101" y="8287"/>
                  <a:pt x="6102" y="8352"/>
                  <a:pt x="6102" y="8434"/>
                </a:cubicBezTo>
                <a:cubicBezTo>
                  <a:pt x="6102" y="8533"/>
                  <a:pt x="6102" y="8632"/>
                  <a:pt x="6102" y="8731"/>
                </a:cubicBezTo>
              </a:path>
              <a:path w="8038" h="2333">
                <a:moveTo>
                  <a:pt x="5680" y="8930"/>
                </a:moveTo>
                <a:cubicBezTo>
                  <a:pt x="5750" y="8904"/>
                  <a:pt x="5803" y="8905"/>
                  <a:pt x="5879" y="8905"/>
                </a:cubicBezTo>
                <a:cubicBezTo>
                  <a:pt x="5976" y="8905"/>
                  <a:pt x="6426" y="8957"/>
                  <a:pt x="6474" y="8880"/>
                </a:cubicBezTo>
                <a:cubicBezTo>
                  <a:pt x="6474" y="8872"/>
                  <a:pt x="6474" y="8863"/>
                  <a:pt x="6474" y="8855"/>
                </a:cubicBezTo>
              </a:path>
              <a:path w="8038" h="2333">
                <a:moveTo>
                  <a:pt x="5928" y="9302"/>
                </a:moveTo>
                <a:cubicBezTo>
                  <a:pt x="5911" y="9411"/>
                  <a:pt x="5904" y="9491"/>
                  <a:pt x="5904" y="9599"/>
                </a:cubicBezTo>
                <a:cubicBezTo>
                  <a:pt x="5904" y="9703"/>
                  <a:pt x="5909" y="9799"/>
                  <a:pt x="5879" y="9897"/>
                </a:cubicBezTo>
                <a:cubicBezTo>
                  <a:pt x="5879" y="9786"/>
                  <a:pt x="5845" y="9615"/>
                  <a:pt x="5854" y="9525"/>
                </a:cubicBezTo>
                <a:cubicBezTo>
                  <a:pt x="5862" y="9445"/>
                  <a:pt x="5865" y="9374"/>
                  <a:pt x="5879" y="9302"/>
                </a:cubicBezTo>
                <a:cubicBezTo>
                  <a:pt x="5894" y="9224"/>
                  <a:pt x="5911" y="9197"/>
                  <a:pt x="6003" y="9178"/>
                </a:cubicBezTo>
                <a:cubicBezTo>
                  <a:pt x="6116" y="9155"/>
                  <a:pt x="6260" y="9178"/>
                  <a:pt x="6375" y="9178"/>
                </a:cubicBezTo>
              </a:path>
              <a:path w="8038" h="2333">
                <a:moveTo>
                  <a:pt x="6424" y="9153"/>
                </a:moveTo>
                <a:cubicBezTo>
                  <a:pt x="6523" y="9153"/>
                  <a:pt x="6623" y="9153"/>
                  <a:pt x="6722" y="9153"/>
                </a:cubicBezTo>
              </a:path>
              <a:path w="8038" h="2333">
                <a:moveTo>
                  <a:pt x="6400" y="9277"/>
                </a:moveTo>
                <a:cubicBezTo>
                  <a:pt x="6340" y="9337"/>
                  <a:pt x="6336" y="9326"/>
                  <a:pt x="6325" y="9401"/>
                </a:cubicBezTo>
                <a:cubicBezTo>
                  <a:pt x="6365" y="9421"/>
                  <a:pt x="6409" y="9401"/>
                  <a:pt x="6474" y="9401"/>
                </a:cubicBezTo>
                <a:cubicBezTo>
                  <a:pt x="6530" y="9401"/>
                  <a:pt x="6601" y="9496"/>
                  <a:pt x="6598" y="9550"/>
                </a:cubicBezTo>
                <a:cubicBezTo>
                  <a:pt x="6596" y="9588"/>
                  <a:pt x="6547" y="9710"/>
                  <a:pt x="6499" y="9723"/>
                </a:cubicBezTo>
                <a:cubicBezTo>
                  <a:pt x="6411" y="9747"/>
                  <a:pt x="6361" y="9739"/>
                  <a:pt x="6276" y="9699"/>
                </a:cubicBezTo>
                <a:cubicBezTo>
                  <a:pt x="6171" y="9649"/>
                  <a:pt x="6210" y="9624"/>
                  <a:pt x="6276" y="9550"/>
                </a:cubicBezTo>
              </a:path>
              <a:path w="8038" h="2333">
                <a:moveTo>
                  <a:pt x="6251" y="9103"/>
                </a:moveTo>
                <a:cubicBezTo>
                  <a:pt x="6321" y="9078"/>
                  <a:pt x="6374" y="9079"/>
                  <a:pt x="6449" y="9079"/>
                </a:cubicBezTo>
                <a:cubicBezTo>
                  <a:pt x="6526" y="9079"/>
                  <a:pt x="6593" y="9103"/>
                  <a:pt x="6672" y="9103"/>
                </a:cubicBezTo>
                <a:cubicBezTo>
                  <a:pt x="6740" y="9103"/>
                  <a:pt x="6759" y="9106"/>
                  <a:pt x="6796" y="9079"/>
                </a:cubicBezTo>
              </a:path>
              <a:path w="8038" h="2333">
                <a:moveTo>
                  <a:pt x="7317" y="8880"/>
                </a:moveTo>
                <a:cubicBezTo>
                  <a:pt x="7317" y="8888"/>
                  <a:pt x="7317" y="8897"/>
                  <a:pt x="7317" y="8905"/>
                </a:cubicBezTo>
              </a:path>
              <a:path w="8038" h="2333">
                <a:moveTo>
                  <a:pt x="7491" y="8632"/>
                </a:moveTo>
                <a:cubicBezTo>
                  <a:pt x="7568" y="8615"/>
                  <a:pt x="7666" y="8627"/>
                  <a:pt x="7739" y="8607"/>
                </a:cubicBezTo>
                <a:cubicBezTo>
                  <a:pt x="7756" y="8599"/>
                  <a:pt x="7772" y="8590"/>
                  <a:pt x="7789" y="8582"/>
                </a:cubicBezTo>
              </a:path>
              <a:path w="8038" h="2333">
                <a:moveTo>
                  <a:pt x="7913" y="8384"/>
                </a:moveTo>
                <a:cubicBezTo>
                  <a:pt x="7975" y="8306"/>
                  <a:pt x="7978" y="8290"/>
                  <a:pt x="8086" y="8285"/>
                </a:cubicBezTo>
                <a:cubicBezTo>
                  <a:pt x="8196" y="8280"/>
                  <a:pt x="8172" y="8284"/>
                  <a:pt x="8210" y="8359"/>
                </a:cubicBezTo>
                <a:cubicBezTo>
                  <a:pt x="8243" y="8424"/>
                  <a:pt x="8194" y="8570"/>
                  <a:pt x="8136" y="8632"/>
                </a:cubicBezTo>
                <a:cubicBezTo>
                  <a:pt x="8084" y="8687"/>
                  <a:pt x="8037" y="8742"/>
                  <a:pt x="7987" y="8806"/>
                </a:cubicBezTo>
                <a:cubicBezTo>
                  <a:pt x="7962" y="8830"/>
                  <a:pt x="7954" y="8838"/>
                  <a:pt x="7938" y="8855"/>
                </a:cubicBezTo>
                <a:cubicBezTo>
                  <a:pt x="8004" y="8895"/>
                  <a:pt x="8035" y="8859"/>
                  <a:pt x="8111" y="8855"/>
                </a:cubicBezTo>
                <a:cubicBezTo>
                  <a:pt x="8169" y="8852"/>
                  <a:pt x="8253" y="8845"/>
                  <a:pt x="8310" y="8830"/>
                </a:cubicBezTo>
                <a:cubicBezTo>
                  <a:pt x="8350" y="8810"/>
                  <a:pt x="8357" y="8802"/>
                  <a:pt x="8384" y="8806"/>
                </a:cubicBezTo>
              </a:path>
              <a:path w="8038" h="2333">
                <a:moveTo>
                  <a:pt x="7739" y="9054"/>
                </a:moveTo>
                <a:cubicBezTo>
                  <a:pt x="7840" y="9064"/>
                  <a:pt x="7934" y="9079"/>
                  <a:pt x="8037" y="9079"/>
                </a:cubicBezTo>
                <a:cubicBezTo>
                  <a:pt x="8136" y="9079"/>
                  <a:pt x="8215" y="9059"/>
                  <a:pt x="8310" y="9054"/>
                </a:cubicBezTo>
                <a:cubicBezTo>
                  <a:pt x="8361" y="9054"/>
                  <a:pt x="8380" y="9053"/>
                  <a:pt x="8409" y="9029"/>
                </a:cubicBezTo>
              </a:path>
              <a:path w="8038" h="2333">
                <a:moveTo>
                  <a:pt x="7863" y="9376"/>
                </a:moveTo>
                <a:cubicBezTo>
                  <a:pt x="7863" y="9506"/>
                  <a:pt x="7818" y="9830"/>
                  <a:pt x="7888" y="9947"/>
                </a:cubicBezTo>
                <a:cubicBezTo>
                  <a:pt x="7888" y="9856"/>
                  <a:pt x="7877" y="9782"/>
                  <a:pt x="7863" y="9699"/>
                </a:cubicBezTo>
                <a:cubicBezTo>
                  <a:pt x="7851" y="9629"/>
                  <a:pt x="7850" y="9503"/>
                  <a:pt x="7888" y="9451"/>
                </a:cubicBezTo>
                <a:cubicBezTo>
                  <a:pt x="7933" y="9389"/>
                  <a:pt x="7980" y="9402"/>
                  <a:pt x="8037" y="9376"/>
                </a:cubicBezTo>
                <a:cubicBezTo>
                  <a:pt x="8098" y="9348"/>
                  <a:pt x="8165" y="9342"/>
                  <a:pt x="8235" y="9327"/>
                </a:cubicBezTo>
                <a:cubicBezTo>
                  <a:pt x="8320" y="9309"/>
                  <a:pt x="8342" y="9269"/>
                  <a:pt x="8409" y="9252"/>
                </a:cubicBezTo>
              </a:path>
              <a:path w="8038" h="2333">
                <a:moveTo>
                  <a:pt x="8235" y="9401"/>
                </a:moveTo>
                <a:cubicBezTo>
                  <a:pt x="8333" y="9467"/>
                  <a:pt x="8416" y="9460"/>
                  <a:pt x="8533" y="9426"/>
                </a:cubicBezTo>
                <a:cubicBezTo>
                  <a:pt x="8549" y="9418"/>
                  <a:pt x="8566" y="9409"/>
                  <a:pt x="8582" y="9401"/>
                </a:cubicBezTo>
              </a:path>
              <a:path w="8038" h="2333">
                <a:moveTo>
                  <a:pt x="8186" y="9525"/>
                </a:moveTo>
                <a:cubicBezTo>
                  <a:pt x="8143" y="9568"/>
                  <a:pt x="8145" y="9563"/>
                  <a:pt x="8136" y="9624"/>
                </a:cubicBezTo>
                <a:cubicBezTo>
                  <a:pt x="8211" y="9613"/>
                  <a:pt x="8250" y="9579"/>
                  <a:pt x="8334" y="9575"/>
                </a:cubicBezTo>
                <a:cubicBezTo>
                  <a:pt x="8435" y="9570"/>
                  <a:pt x="8454" y="9630"/>
                  <a:pt x="8508" y="9699"/>
                </a:cubicBezTo>
                <a:cubicBezTo>
                  <a:pt x="8541" y="9741"/>
                  <a:pt x="8553" y="9842"/>
                  <a:pt x="8533" y="9897"/>
                </a:cubicBezTo>
                <a:cubicBezTo>
                  <a:pt x="8521" y="9931"/>
                  <a:pt x="8416" y="9967"/>
                  <a:pt x="8384" y="9971"/>
                </a:cubicBezTo>
                <a:cubicBezTo>
                  <a:pt x="8326" y="9979"/>
                  <a:pt x="8234" y="9971"/>
                  <a:pt x="8186" y="9947"/>
                </a:cubicBezTo>
                <a:cubicBezTo>
                  <a:pt x="8158" y="9919"/>
                  <a:pt x="8149" y="9905"/>
                  <a:pt x="8161" y="9872"/>
                </a:cubicBezTo>
              </a:path>
              <a:path w="8038" h="2333">
                <a:moveTo>
                  <a:pt x="8880" y="8954"/>
                </a:moveTo>
                <a:cubicBezTo>
                  <a:pt x="8983" y="8940"/>
                  <a:pt x="9083" y="8934"/>
                  <a:pt x="9178" y="8905"/>
                </a:cubicBezTo>
              </a:path>
              <a:path w="8038" h="2333">
                <a:moveTo>
                  <a:pt x="8954" y="9153"/>
                </a:moveTo>
                <a:cubicBezTo>
                  <a:pt x="9049" y="9179"/>
                  <a:pt x="9064" y="9171"/>
                  <a:pt x="9153" y="9153"/>
                </a:cubicBezTo>
              </a:path>
              <a:path w="8038" h="2333">
                <a:moveTo>
                  <a:pt x="9599" y="9029"/>
                </a:moveTo>
                <a:cubicBezTo>
                  <a:pt x="9703" y="9029"/>
                  <a:pt x="9800" y="9041"/>
                  <a:pt x="9897" y="9054"/>
                </a:cubicBezTo>
                <a:cubicBezTo>
                  <a:pt x="10024" y="9071"/>
                  <a:pt x="10168" y="9067"/>
                  <a:pt x="10294" y="9079"/>
                </a:cubicBezTo>
                <a:cubicBezTo>
                  <a:pt x="10459" y="9094"/>
                  <a:pt x="10626" y="9113"/>
                  <a:pt x="10790" y="9128"/>
                </a:cubicBezTo>
                <a:cubicBezTo>
                  <a:pt x="10910" y="9139"/>
                  <a:pt x="11043" y="9147"/>
                  <a:pt x="11162" y="9153"/>
                </a:cubicBezTo>
                <a:cubicBezTo>
                  <a:pt x="11315" y="9160"/>
                  <a:pt x="11439" y="9178"/>
                  <a:pt x="11584" y="9178"/>
                </a:cubicBezTo>
                <a:cubicBezTo>
                  <a:pt x="11663" y="9178"/>
                  <a:pt x="11743" y="9192"/>
                  <a:pt x="11807" y="9153"/>
                </a:cubicBezTo>
              </a:path>
              <a:path w="8038" h="2333">
                <a:moveTo>
                  <a:pt x="10368" y="8037"/>
                </a:moveTo>
                <a:cubicBezTo>
                  <a:pt x="10368" y="8125"/>
                  <a:pt x="10355" y="8210"/>
                  <a:pt x="10344" y="8285"/>
                </a:cubicBezTo>
                <a:cubicBezTo>
                  <a:pt x="10334" y="8354"/>
                  <a:pt x="10328" y="8371"/>
                  <a:pt x="10319" y="8434"/>
                </a:cubicBezTo>
                <a:cubicBezTo>
                  <a:pt x="10463" y="8434"/>
                  <a:pt x="10722" y="8480"/>
                  <a:pt x="10840" y="8409"/>
                </a:cubicBezTo>
              </a:path>
              <a:path w="8038" h="2333">
                <a:moveTo>
                  <a:pt x="10889" y="7863"/>
                </a:moveTo>
                <a:cubicBezTo>
                  <a:pt x="10860" y="7939"/>
                  <a:pt x="10864" y="8003"/>
                  <a:pt x="10864" y="8086"/>
                </a:cubicBezTo>
                <a:cubicBezTo>
                  <a:pt x="10864" y="8247"/>
                  <a:pt x="10852" y="8402"/>
                  <a:pt x="10840" y="8558"/>
                </a:cubicBezTo>
                <a:cubicBezTo>
                  <a:pt x="10830" y="8688"/>
                  <a:pt x="10845" y="8809"/>
                  <a:pt x="10864" y="8930"/>
                </a:cubicBezTo>
                <a:cubicBezTo>
                  <a:pt x="10872" y="8984"/>
                  <a:pt x="10878" y="9047"/>
                  <a:pt x="10864" y="9054"/>
                </a:cubicBezTo>
              </a:path>
              <a:path w="8038" h="2333">
                <a:moveTo>
                  <a:pt x="10616" y="9376"/>
                </a:moveTo>
                <a:cubicBezTo>
                  <a:pt x="10738" y="9376"/>
                  <a:pt x="10858" y="9383"/>
                  <a:pt x="10964" y="9351"/>
                </a:cubicBezTo>
                <a:cubicBezTo>
                  <a:pt x="10972" y="9351"/>
                  <a:pt x="10980" y="9351"/>
                  <a:pt x="10988" y="9351"/>
                </a:cubicBezTo>
              </a:path>
              <a:path w="8038" h="2333">
                <a:moveTo>
                  <a:pt x="10592" y="9302"/>
                </a:moveTo>
                <a:cubicBezTo>
                  <a:pt x="10555" y="9374"/>
                  <a:pt x="10529" y="9445"/>
                  <a:pt x="10517" y="9525"/>
                </a:cubicBezTo>
                <a:cubicBezTo>
                  <a:pt x="10510" y="9572"/>
                  <a:pt x="10517" y="9627"/>
                  <a:pt x="10517" y="9674"/>
                </a:cubicBezTo>
                <a:cubicBezTo>
                  <a:pt x="10583" y="9665"/>
                  <a:pt x="10620" y="9627"/>
                  <a:pt x="10691" y="9624"/>
                </a:cubicBezTo>
                <a:cubicBezTo>
                  <a:pt x="10828" y="9619"/>
                  <a:pt x="10827" y="9654"/>
                  <a:pt x="10914" y="9723"/>
                </a:cubicBezTo>
                <a:cubicBezTo>
                  <a:pt x="10990" y="9784"/>
                  <a:pt x="10982" y="9780"/>
                  <a:pt x="11013" y="9872"/>
                </a:cubicBezTo>
                <a:cubicBezTo>
                  <a:pt x="11047" y="9974"/>
                  <a:pt x="11089" y="10020"/>
                  <a:pt x="11013" y="10120"/>
                </a:cubicBezTo>
                <a:cubicBezTo>
                  <a:pt x="10983" y="10159"/>
                  <a:pt x="10929" y="10187"/>
                  <a:pt x="10889" y="10195"/>
                </a:cubicBezTo>
                <a:cubicBezTo>
                  <a:pt x="10822" y="10209"/>
                  <a:pt x="10753" y="10155"/>
                  <a:pt x="10691" y="10145"/>
                </a:cubicBezTo>
                <a:cubicBezTo>
                  <a:pt x="10647" y="10138"/>
                  <a:pt x="10610" y="10129"/>
                  <a:pt x="10567" y="101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Ink 12"/>
          <p:cNvSpPr/>
          <p:nvPr/>
        </p:nvSpPr>
        <p:spPr>
          <a:xfrm>
            <a:off x="6643800" y="347760"/>
            <a:ext cx="152280" cy="223920"/>
          </a:xfrm>
          <a:custGeom>
            <a:avLst/>
            <a:gdLst/>
            <a:ahLst/>
            <a:rect l="l" t="t" r="r" b="b"/>
            <a:pathLst>
              <a:path w="422" h="622">
                <a:moveTo>
                  <a:pt x="18529" y="1091"/>
                </a:moveTo>
                <a:cubicBezTo>
                  <a:pt x="18593" y="1055"/>
                  <a:pt x="18663" y="1031"/>
                  <a:pt x="18728" y="992"/>
                </a:cubicBezTo>
                <a:cubicBezTo>
                  <a:pt x="18744" y="984"/>
                  <a:pt x="18761" y="975"/>
                  <a:pt x="18777" y="967"/>
                </a:cubicBezTo>
              </a:path>
              <a:path w="422" h="622">
                <a:moveTo>
                  <a:pt x="18529" y="992"/>
                </a:moveTo>
                <a:cubicBezTo>
                  <a:pt x="18501" y="1070"/>
                  <a:pt x="18482" y="1140"/>
                  <a:pt x="18455" y="1215"/>
                </a:cubicBezTo>
                <a:cubicBezTo>
                  <a:pt x="18519" y="1254"/>
                  <a:pt x="18578" y="1224"/>
                  <a:pt x="18653" y="1240"/>
                </a:cubicBezTo>
                <a:cubicBezTo>
                  <a:pt x="18760" y="1262"/>
                  <a:pt x="18792" y="1310"/>
                  <a:pt x="18852" y="1389"/>
                </a:cubicBezTo>
                <a:cubicBezTo>
                  <a:pt x="18880" y="1426"/>
                  <a:pt x="18890" y="1495"/>
                  <a:pt x="18827" y="1513"/>
                </a:cubicBezTo>
                <a:cubicBezTo>
                  <a:pt x="18759" y="1533"/>
                  <a:pt x="18694" y="1543"/>
                  <a:pt x="18628" y="1563"/>
                </a:cubicBezTo>
                <a:cubicBezTo>
                  <a:pt x="18579" y="1588"/>
                  <a:pt x="18562" y="1596"/>
                  <a:pt x="18554" y="15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Ink 13"/>
          <p:cNvSpPr/>
          <p:nvPr/>
        </p:nvSpPr>
        <p:spPr>
          <a:xfrm>
            <a:off x="6929280" y="1251000"/>
            <a:ext cx="135000" cy="195120"/>
          </a:xfrm>
          <a:custGeom>
            <a:avLst/>
            <a:gdLst/>
            <a:ahLst/>
            <a:rect l="l" t="t" r="r" b="b"/>
            <a:pathLst>
              <a:path w="374" h="546">
                <a:moveTo>
                  <a:pt x="19248" y="3547"/>
                </a:moveTo>
                <a:cubicBezTo>
                  <a:pt x="19261" y="3458"/>
                  <a:pt x="19321" y="3447"/>
                  <a:pt x="19422" y="3473"/>
                </a:cubicBezTo>
                <a:cubicBezTo>
                  <a:pt x="19475" y="3486"/>
                  <a:pt x="19487" y="3606"/>
                  <a:pt x="19472" y="3646"/>
                </a:cubicBezTo>
                <a:cubicBezTo>
                  <a:pt x="19447" y="3671"/>
                  <a:pt x="19439" y="3679"/>
                  <a:pt x="19422" y="3696"/>
                </a:cubicBezTo>
                <a:cubicBezTo>
                  <a:pt x="19466" y="3740"/>
                  <a:pt x="19509" y="3799"/>
                  <a:pt x="19571" y="3820"/>
                </a:cubicBezTo>
                <a:cubicBezTo>
                  <a:pt x="19599" y="3820"/>
                  <a:pt x="19610" y="3822"/>
                  <a:pt x="19621" y="3845"/>
                </a:cubicBezTo>
                <a:cubicBezTo>
                  <a:pt x="19584" y="3919"/>
                  <a:pt x="19570" y="3955"/>
                  <a:pt x="19496" y="3994"/>
                </a:cubicBezTo>
                <a:cubicBezTo>
                  <a:pt x="19432" y="4028"/>
                  <a:pt x="19369" y="4018"/>
                  <a:pt x="19298" y="40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Ink 14"/>
          <p:cNvSpPr/>
          <p:nvPr/>
        </p:nvSpPr>
        <p:spPr>
          <a:xfrm>
            <a:off x="7412040" y="2081160"/>
            <a:ext cx="17640" cy="204840"/>
          </a:xfrm>
          <a:custGeom>
            <a:avLst/>
            <a:gdLst/>
            <a:ahLst/>
            <a:rect l="l" t="t" r="r" b="b"/>
            <a:pathLst>
              <a:path w="51" h="572">
                <a:moveTo>
                  <a:pt x="20588" y="5779"/>
                </a:moveTo>
                <a:cubicBezTo>
                  <a:pt x="20588" y="5925"/>
                  <a:pt x="20596" y="6064"/>
                  <a:pt x="20613" y="6201"/>
                </a:cubicBezTo>
                <a:cubicBezTo>
                  <a:pt x="20622" y="6274"/>
                  <a:pt x="20603" y="6293"/>
                  <a:pt x="20638" y="63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Ink 15"/>
          <p:cNvSpPr/>
          <p:nvPr/>
        </p:nvSpPr>
        <p:spPr>
          <a:xfrm>
            <a:off x="7153200" y="2741760"/>
            <a:ext cx="169920" cy="223560"/>
          </a:xfrm>
          <a:custGeom>
            <a:avLst/>
            <a:gdLst/>
            <a:ahLst/>
            <a:rect l="l" t="t" r="r" b="b"/>
            <a:pathLst>
              <a:path w="472" h="621">
                <a:moveTo>
                  <a:pt x="20340" y="7615"/>
                </a:moveTo>
                <a:cubicBezTo>
                  <a:pt x="20271" y="7624"/>
                  <a:pt x="20184" y="7622"/>
                  <a:pt x="20117" y="7640"/>
                </a:cubicBezTo>
                <a:cubicBezTo>
                  <a:pt x="20046" y="7659"/>
                  <a:pt x="19958" y="7672"/>
                  <a:pt x="19893" y="7714"/>
                </a:cubicBezTo>
                <a:cubicBezTo>
                  <a:pt x="19846" y="7744"/>
                  <a:pt x="19911" y="7801"/>
                  <a:pt x="19918" y="7838"/>
                </a:cubicBezTo>
                <a:cubicBezTo>
                  <a:pt x="19932" y="7906"/>
                  <a:pt x="19943" y="7965"/>
                  <a:pt x="19943" y="8037"/>
                </a:cubicBezTo>
                <a:cubicBezTo>
                  <a:pt x="19943" y="8106"/>
                  <a:pt x="19892" y="8171"/>
                  <a:pt x="19918" y="8235"/>
                </a:cubicBezTo>
                <a:cubicBezTo>
                  <a:pt x="19926" y="8235"/>
                  <a:pt x="19935" y="8235"/>
                  <a:pt x="19943" y="82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Ink 16"/>
          <p:cNvSpPr/>
          <p:nvPr/>
        </p:nvSpPr>
        <p:spPr>
          <a:xfrm>
            <a:off x="4768920" y="196920"/>
            <a:ext cx="3098880" cy="1919160"/>
          </a:xfrm>
          <a:custGeom>
            <a:avLst/>
            <a:gdLst/>
            <a:ahLst/>
            <a:rect l="l" t="t" r="r" b="b"/>
            <a:pathLst>
              <a:path w="8608" h="5334">
                <a:moveTo>
                  <a:pt x="13246" y="5879"/>
                </a:moveTo>
                <a:cubicBezTo>
                  <a:pt x="13258" y="5749"/>
                  <a:pt x="13273" y="5632"/>
                  <a:pt x="13320" y="5507"/>
                </a:cubicBezTo>
                <a:cubicBezTo>
                  <a:pt x="13376" y="5359"/>
                  <a:pt x="13434" y="5206"/>
                  <a:pt x="13494" y="5060"/>
                </a:cubicBezTo>
                <a:cubicBezTo>
                  <a:pt x="13548" y="4928"/>
                  <a:pt x="13623" y="4788"/>
                  <a:pt x="13692" y="4663"/>
                </a:cubicBezTo>
                <a:cubicBezTo>
                  <a:pt x="13787" y="4490"/>
                  <a:pt x="13904" y="4326"/>
                  <a:pt x="14015" y="4167"/>
                </a:cubicBezTo>
                <a:cubicBezTo>
                  <a:pt x="14139" y="3991"/>
                  <a:pt x="14295" y="3828"/>
                  <a:pt x="14436" y="3671"/>
                </a:cubicBezTo>
                <a:cubicBezTo>
                  <a:pt x="14694" y="3385"/>
                  <a:pt x="14991" y="3150"/>
                  <a:pt x="15280" y="2902"/>
                </a:cubicBezTo>
                <a:cubicBezTo>
                  <a:pt x="15439" y="2766"/>
                  <a:pt x="15589" y="2654"/>
                  <a:pt x="15776" y="2555"/>
                </a:cubicBezTo>
                <a:cubicBezTo>
                  <a:pt x="15920" y="2479"/>
                  <a:pt x="16025" y="2401"/>
                  <a:pt x="16173" y="2356"/>
                </a:cubicBezTo>
                <a:cubicBezTo>
                  <a:pt x="16232" y="2338"/>
                  <a:pt x="16286" y="2319"/>
                  <a:pt x="16346" y="2307"/>
                </a:cubicBezTo>
              </a:path>
              <a:path w="8608" h="5334">
                <a:moveTo>
                  <a:pt x="16073" y="2059"/>
                </a:moveTo>
                <a:cubicBezTo>
                  <a:pt x="16177" y="1986"/>
                  <a:pt x="16229" y="2006"/>
                  <a:pt x="16346" y="1984"/>
                </a:cubicBezTo>
                <a:cubicBezTo>
                  <a:pt x="16418" y="1971"/>
                  <a:pt x="16502" y="1960"/>
                  <a:pt x="16570" y="2009"/>
                </a:cubicBezTo>
                <a:cubicBezTo>
                  <a:pt x="16634" y="2056"/>
                  <a:pt x="16647" y="2168"/>
                  <a:pt x="16594" y="2232"/>
                </a:cubicBezTo>
                <a:cubicBezTo>
                  <a:pt x="16523" y="2318"/>
                  <a:pt x="16325" y="2468"/>
                  <a:pt x="16297" y="2580"/>
                </a:cubicBezTo>
                <a:cubicBezTo>
                  <a:pt x="16287" y="2621"/>
                  <a:pt x="16297" y="2685"/>
                  <a:pt x="16297" y="2729"/>
                </a:cubicBezTo>
              </a:path>
              <a:path w="8608" h="5334">
                <a:moveTo>
                  <a:pt x="16966" y="3324"/>
                </a:moveTo>
                <a:cubicBezTo>
                  <a:pt x="17029" y="3261"/>
                  <a:pt x="17102" y="3196"/>
                  <a:pt x="17165" y="3125"/>
                </a:cubicBezTo>
                <a:cubicBezTo>
                  <a:pt x="17237" y="3043"/>
                  <a:pt x="17310" y="2957"/>
                  <a:pt x="17388" y="2877"/>
                </a:cubicBezTo>
                <a:cubicBezTo>
                  <a:pt x="17510" y="2751"/>
                  <a:pt x="17643" y="2650"/>
                  <a:pt x="17760" y="2530"/>
                </a:cubicBezTo>
                <a:cubicBezTo>
                  <a:pt x="17944" y="2341"/>
                  <a:pt x="18147" y="2171"/>
                  <a:pt x="18355" y="2009"/>
                </a:cubicBezTo>
                <a:cubicBezTo>
                  <a:pt x="18690" y="1747"/>
                  <a:pt x="19099" y="1460"/>
                  <a:pt x="19472" y="1265"/>
                </a:cubicBezTo>
                <a:cubicBezTo>
                  <a:pt x="19700" y="1146"/>
                  <a:pt x="19951" y="1039"/>
                  <a:pt x="20191" y="943"/>
                </a:cubicBezTo>
                <a:cubicBezTo>
                  <a:pt x="20440" y="844"/>
                  <a:pt x="20663" y="759"/>
                  <a:pt x="20910" y="670"/>
                </a:cubicBezTo>
                <a:cubicBezTo>
                  <a:pt x="21018" y="631"/>
                  <a:pt x="21122" y="594"/>
                  <a:pt x="21233" y="571"/>
                </a:cubicBezTo>
                <a:cubicBezTo>
                  <a:pt x="21302" y="557"/>
                  <a:pt x="21365" y="531"/>
                  <a:pt x="21431" y="571"/>
                </a:cubicBezTo>
                <a:cubicBezTo>
                  <a:pt x="21522" y="626"/>
                  <a:pt x="21472" y="766"/>
                  <a:pt x="21481" y="868"/>
                </a:cubicBezTo>
                <a:cubicBezTo>
                  <a:pt x="21493" y="1006"/>
                  <a:pt x="21484" y="1122"/>
                  <a:pt x="21481" y="1265"/>
                </a:cubicBezTo>
                <a:cubicBezTo>
                  <a:pt x="21478" y="1411"/>
                  <a:pt x="21494" y="1566"/>
                  <a:pt x="21506" y="1712"/>
                </a:cubicBezTo>
                <a:cubicBezTo>
                  <a:pt x="21517" y="1836"/>
                  <a:pt x="21518" y="1960"/>
                  <a:pt x="21530" y="2084"/>
                </a:cubicBezTo>
                <a:cubicBezTo>
                  <a:pt x="21543" y="2225"/>
                  <a:pt x="21573" y="2369"/>
                  <a:pt x="21605" y="2505"/>
                </a:cubicBezTo>
                <a:cubicBezTo>
                  <a:pt x="21622" y="2579"/>
                  <a:pt x="21646" y="2649"/>
                  <a:pt x="21654" y="2729"/>
                </a:cubicBezTo>
                <a:cubicBezTo>
                  <a:pt x="21662" y="2802"/>
                  <a:pt x="21691" y="2865"/>
                  <a:pt x="21580" y="2902"/>
                </a:cubicBezTo>
                <a:cubicBezTo>
                  <a:pt x="21293" y="2998"/>
                  <a:pt x="20758" y="2923"/>
                  <a:pt x="20464" y="2927"/>
                </a:cubicBezTo>
                <a:cubicBezTo>
                  <a:pt x="20266" y="2930"/>
                  <a:pt x="20065" y="2950"/>
                  <a:pt x="19869" y="2977"/>
                </a:cubicBezTo>
                <a:cubicBezTo>
                  <a:pt x="19653" y="3007"/>
                  <a:pt x="19439" y="3022"/>
                  <a:pt x="19224" y="3051"/>
                </a:cubicBezTo>
                <a:cubicBezTo>
                  <a:pt x="18702" y="3121"/>
                  <a:pt x="18183" y="3212"/>
                  <a:pt x="17661" y="3274"/>
                </a:cubicBezTo>
                <a:cubicBezTo>
                  <a:pt x="17506" y="3292"/>
                  <a:pt x="17340" y="3363"/>
                  <a:pt x="17190" y="3373"/>
                </a:cubicBezTo>
                <a:cubicBezTo>
                  <a:pt x="17145" y="3376"/>
                  <a:pt x="17160" y="3351"/>
                  <a:pt x="17115" y="3349"/>
                </a:cubicBezTo>
              </a:path>
              <a:path w="8608" h="5334">
                <a:moveTo>
                  <a:pt x="21704" y="1191"/>
                </a:moveTo>
                <a:cubicBezTo>
                  <a:pt x="21704" y="1279"/>
                  <a:pt x="21689" y="1358"/>
                  <a:pt x="21679" y="1439"/>
                </a:cubicBezTo>
                <a:cubicBezTo>
                  <a:pt x="21674" y="1477"/>
                  <a:pt x="21625" y="1616"/>
                  <a:pt x="21679" y="1637"/>
                </a:cubicBezTo>
                <a:cubicBezTo>
                  <a:pt x="21744" y="1662"/>
                  <a:pt x="21821" y="1575"/>
                  <a:pt x="21853" y="1538"/>
                </a:cubicBezTo>
              </a:path>
              <a:path w="8608" h="5334">
                <a:moveTo>
                  <a:pt x="21853" y="1091"/>
                </a:moveTo>
                <a:cubicBezTo>
                  <a:pt x="21853" y="1173"/>
                  <a:pt x="21831" y="1234"/>
                  <a:pt x="21828" y="1315"/>
                </a:cubicBezTo>
                <a:cubicBezTo>
                  <a:pt x="21823" y="1454"/>
                  <a:pt x="21781" y="1595"/>
                  <a:pt x="21803" y="1736"/>
                </a:cubicBezTo>
                <a:cubicBezTo>
                  <a:pt x="21815" y="1814"/>
                  <a:pt x="21870" y="1932"/>
                  <a:pt x="21853" y="2009"/>
                </a:cubicBezTo>
                <a:cubicBezTo>
                  <a:pt x="21829" y="2057"/>
                  <a:pt x="21823" y="2074"/>
                  <a:pt x="21779" y="20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Ink 17"/>
          <p:cNvSpPr/>
          <p:nvPr/>
        </p:nvSpPr>
        <p:spPr>
          <a:xfrm>
            <a:off x="6367320" y="938160"/>
            <a:ext cx="276480" cy="241200"/>
          </a:xfrm>
          <a:custGeom>
            <a:avLst/>
            <a:gdLst/>
            <a:ahLst/>
            <a:rect l="l" t="t" r="r" b="b"/>
            <a:pathLst>
              <a:path w="770" h="671">
                <a:moveTo>
                  <a:pt x="17686" y="2877"/>
                </a:moveTo>
                <a:cubicBezTo>
                  <a:pt x="17738" y="2812"/>
                  <a:pt x="17742" y="2772"/>
                  <a:pt x="17835" y="2753"/>
                </a:cubicBezTo>
                <a:cubicBezTo>
                  <a:pt x="17851" y="2753"/>
                  <a:pt x="17868" y="2753"/>
                  <a:pt x="17884" y="2753"/>
                </a:cubicBezTo>
                <a:cubicBezTo>
                  <a:pt x="17915" y="2862"/>
                  <a:pt x="17856" y="2900"/>
                  <a:pt x="17810" y="3001"/>
                </a:cubicBezTo>
                <a:cubicBezTo>
                  <a:pt x="17771" y="3085"/>
                  <a:pt x="17738" y="3172"/>
                  <a:pt x="17760" y="3249"/>
                </a:cubicBezTo>
                <a:cubicBezTo>
                  <a:pt x="17794" y="3263"/>
                  <a:pt x="17892" y="3267"/>
                  <a:pt x="17934" y="3225"/>
                </a:cubicBezTo>
                <a:cubicBezTo>
                  <a:pt x="17971" y="3188"/>
                  <a:pt x="18001" y="3145"/>
                  <a:pt x="18033" y="3101"/>
                </a:cubicBezTo>
              </a:path>
              <a:path w="770" h="671">
                <a:moveTo>
                  <a:pt x="17959" y="2778"/>
                </a:moveTo>
                <a:cubicBezTo>
                  <a:pt x="17947" y="2883"/>
                  <a:pt x="17927" y="3003"/>
                  <a:pt x="17983" y="3101"/>
                </a:cubicBezTo>
                <a:cubicBezTo>
                  <a:pt x="18019" y="3164"/>
                  <a:pt x="18076" y="3159"/>
                  <a:pt x="18132" y="3125"/>
                </a:cubicBezTo>
                <a:cubicBezTo>
                  <a:pt x="18188" y="3091"/>
                  <a:pt x="18210" y="2984"/>
                  <a:pt x="18231" y="2927"/>
                </a:cubicBezTo>
                <a:cubicBezTo>
                  <a:pt x="18263" y="2843"/>
                  <a:pt x="18280" y="2735"/>
                  <a:pt x="18231" y="2654"/>
                </a:cubicBezTo>
                <a:cubicBezTo>
                  <a:pt x="18187" y="2581"/>
                  <a:pt x="18141" y="2611"/>
                  <a:pt x="18083" y="2629"/>
                </a:cubicBezTo>
                <a:cubicBezTo>
                  <a:pt x="17998" y="2650"/>
                  <a:pt x="17972" y="2644"/>
                  <a:pt x="17959" y="2704"/>
                </a:cubicBezTo>
              </a:path>
              <a:path w="770" h="671">
                <a:moveTo>
                  <a:pt x="17760" y="3001"/>
                </a:moveTo>
                <a:cubicBezTo>
                  <a:pt x="17884" y="2961"/>
                  <a:pt x="18010" y="2921"/>
                  <a:pt x="18132" y="2877"/>
                </a:cubicBezTo>
                <a:cubicBezTo>
                  <a:pt x="18209" y="2849"/>
                  <a:pt x="18307" y="2796"/>
                  <a:pt x="18380" y="2778"/>
                </a:cubicBezTo>
                <a:cubicBezTo>
                  <a:pt x="18455" y="2759"/>
                  <a:pt x="18443" y="2786"/>
                  <a:pt x="18455" y="27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Ink 18"/>
          <p:cNvSpPr/>
          <p:nvPr/>
        </p:nvSpPr>
        <p:spPr>
          <a:xfrm>
            <a:off x="5634000" y="2768760"/>
            <a:ext cx="312840" cy="223560"/>
          </a:xfrm>
          <a:custGeom>
            <a:avLst/>
            <a:gdLst/>
            <a:ahLst/>
            <a:rect l="l" t="t" r="r" b="b"/>
            <a:pathLst>
              <a:path w="869" h="622">
                <a:moveTo>
                  <a:pt x="15875" y="7739"/>
                </a:moveTo>
                <a:cubicBezTo>
                  <a:pt x="15864" y="7828"/>
                  <a:pt x="15816" y="7895"/>
                  <a:pt x="15801" y="7987"/>
                </a:cubicBezTo>
                <a:cubicBezTo>
                  <a:pt x="15790" y="8053"/>
                  <a:pt x="15757" y="8142"/>
                  <a:pt x="15776" y="8210"/>
                </a:cubicBezTo>
                <a:cubicBezTo>
                  <a:pt x="15799" y="8291"/>
                  <a:pt x="15861" y="8314"/>
                  <a:pt x="15925" y="8285"/>
                </a:cubicBezTo>
                <a:cubicBezTo>
                  <a:pt x="16019" y="8243"/>
                  <a:pt x="16076" y="8189"/>
                  <a:pt x="16098" y="8086"/>
                </a:cubicBezTo>
                <a:cubicBezTo>
                  <a:pt x="16117" y="7998"/>
                  <a:pt x="16086" y="7915"/>
                  <a:pt x="16049" y="7838"/>
                </a:cubicBezTo>
                <a:cubicBezTo>
                  <a:pt x="16019" y="7775"/>
                  <a:pt x="15944" y="7703"/>
                  <a:pt x="15875" y="7689"/>
                </a:cubicBezTo>
                <a:cubicBezTo>
                  <a:pt x="15809" y="7689"/>
                  <a:pt x="15792" y="7689"/>
                  <a:pt x="15751" y="7689"/>
                </a:cubicBezTo>
              </a:path>
              <a:path w="869" h="622">
                <a:moveTo>
                  <a:pt x="15652" y="7888"/>
                </a:moveTo>
                <a:cubicBezTo>
                  <a:pt x="15754" y="7914"/>
                  <a:pt x="15843" y="7913"/>
                  <a:pt x="15949" y="7913"/>
                </a:cubicBezTo>
                <a:cubicBezTo>
                  <a:pt x="16083" y="7913"/>
                  <a:pt x="16211" y="7888"/>
                  <a:pt x="16346" y="7888"/>
                </a:cubicBezTo>
                <a:cubicBezTo>
                  <a:pt x="16404" y="7888"/>
                  <a:pt x="16462" y="7888"/>
                  <a:pt x="16520" y="78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Ink 19"/>
          <p:cNvSpPr/>
          <p:nvPr/>
        </p:nvSpPr>
        <p:spPr>
          <a:xfrm>
            <a:off x="6402240" y="3106800"/>
            <a:ext cx="135000" cy="179280"/>
          </a:xfrm>
          <a:custGeom>
            <a:avLst/>
            <a:gdLst/>
            <a:ahLst/>
            <a:rect l="l" t="t" r="r" b="b"/>
            <a:pathLst>
              <a:path w="373" h="497">
                <a:moveTo>
                  <a:pt x="17835" y="8632"/>
                </a:moveTo>
                <a:cubicBezTo>
                  <a:pt x="18022" y="8642"/>
                  <a:pt x="17972" y="8617"/>
                  <a:pt x="18058" y="8731"/>
                </a:cubicBezTo>
                <a:cubicBezTo>
                  <a:pt x="18101" y="8788"/>
                  <a:pt x="18074" y="8825"/>
                  <a:pt x="18033" y="8880"/>
                </a:cubicBezTo>
                <a:cubicBezTo>
                  <a:pt x="17986" y="8943"/>
                  <a:pt x="17893" y="8951"/>
                  <a:pt x="17835" y="9004"/>
                </a:cubicBezTo>
                <a:cubicBezTo>
                  <a:pt x="17810" y="9029"/>
                  <a:pt x="17802" y="9037"/>
                  <a:pt x="17785" y="9054"/>
                </a:cubicBezTo>
                <a:cubicBezTo>
                  <a:pt x="17863" y="9116"/>
                  <a:pt x="17923" y="9075"/>
                  <a:pt x="18008" y="9103"/>
                </a:cubicBezTo>
                <a:cubicBezTo>
                  <a:pt x="18064" y="9122"/>
                  <a:pt x="18124" y="9153"/>
                  <a:pt x="18157" y="91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Ink 20"/>
          <p:cNvSpPr/>
          <p:nvPr/>
        </p:nvSpPr>
        <p:spPr>
          <a:xfrm>
            <a:off x="6126120" y="3152880"/>
            <a:ext cx="169920" cy="9360"/>
          </a:xfrm>
          <a:custGeom>
            <a:avLst/>
            <a:gdLst/>
            <a:ahLst/>
            <a:rect l="l" t="t" r="r" b="b"/>
            <a:pathLst>
              <a:path w="472" h="26">
                <a:moveTo>
                  <a:pt x="17165" y="8781"/>
                </a:moveTo>
                <a:cubicBezTo>
                  <a:pt x="17272" y="8781"/>
                  <a:pt x="17380" y="8781"/>
                  <a:pt x="17487" y="8781"/>
                </a:cubicBezTo>
                <a:cubicBezTo>
                  <a:pt x="17425" y="8750"/>
                  <a:pt x="17363" y="8756"/>
                  <a:pt x="17289" y="8756"/>
                </a:cubicBezTo>
                <a:cubicBezTo>
                  <a:pt x="17198" y="8756"/>
                  <a:pt x="17107" y="8756"/>
                  <a:pt x="17016" y="8756"/>
                </a:cubicBezTo>
                <a:cubicBezTo>
                  <a:pt x="17157" y="8756"/>
                  <a:pt x="17297" y="8756"/>
                  <a:pt x="17438" y="87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Ink 21"/>
          <p:cNvSpPr/>
          <p:nvPr/>
        </p:nvSpPr>
        <p:spPr>
          <a:xfrm>
            <a:off x="6215040" y="3751200"/>
            <a:ext cx="303120" cy="615960"/>
          </a:xfrm>
          <a:custGeom>
            <a:avLst/>
            <a:gdLst/>
            <a:ahLst/>
            <a:rect l="l" t="t" r="r" b="b"/>
            <a:pathLst>
              <a:path w="844" h="1712">
                <a:moveTo>
                  <a:pt x="17686" y="10468"/>
                </a:moveTo>
                <a:cubicBezTo>
                  <a:pt x="17667" y="10530"/>
                  <a:pt x="17622" y="10611"/>
                  <a:pt x="17611" y="10666"/>
                </a:cubicBezTo>
                <a:cubicBezTo>
                  <a:pt x="17597" y="10737"/>
                  <a:pt x="17563" y="10777"/>
                  <a:pt x="17537" y="10840"/>
                </a:cubicBezTo>
                <a:cubicBezTo>
                  <a:pt x="17537" y="10848"/>
                  <a:pt x="17537" y="10856"/>
                  <a:pt x="17537" y="10864"/>
                </a:cubicBezTo>
              </a:path>
              <a:path w="844" h="1712">
                <a:moveTo>
                  <a:pt x="17562" y="10864"/>
                </a:moveTo>
                <a:cubicBezTo>
                  <a:pt x="17614" y="10896"/>
                  <a:pt x="17653" y="10884"/>
                  <a:pt x="17711" y="10864"/>
                </a:cubicBezTo>
                <a:cubicBezTo>
                  <a:pt x="17782" y="10840"/>
                  <a:pt x="17820" y="10827"/>
                  <a:pt x="17884" y="10864"/>
                </a:cubicBezTo>
              </a:path>
              <a:path w="844" h="1712">
                <a:moveTo>
                  <a:pt x="17859" y="10418"/>
                </a:moveTo>
                <a:cubicBezTo>
                  <a:pt x="17859" y="10531"/>
                  <a:pt x="17847" y="10632"/>
                  <a:pt x="17835" y="10740"/>
                </a:cubicBezTo>
                <a:cubicBezTo>
                  <a:pt x="17825" y="10830"/>
                  <a:pt x="17814" y="10924"/>
                  <a:pt x="17810" y="11013"/>
                </a:cubicBezTo>
                <a:cubicBezTo>
                  <a:pt x="17806" y="11087"/>
                  <a:pt x="17810" y="11163"/>
                  <a:pt x="17810" y="11237"/>
                </a:cubicBezTo>
              </a:path>
              <a:path w="844" h="1712">
                <a:moveTo>
                  <a:pt x="17264" y="11311"/>
                </a:moveTo>
                <a:cubicBezTo>
                  <a:pt x="17348" y="11343"/>
                  <a:pt x="17387" y="11322"/>
                  <a:pt x="17462" y="11311"/>
                </a:cubicBezTo>
                <a:cubicBezTo>
                  <a:pt x="17541" y="11300"/>
                  <a:pt x="17610" y="11280"/>
                  <a:pt x="17686" y="11261"/>
                </a:cubicBezTo>
                <a:cubicBezTo>
                  <a:pt x="17802" y="11231"/>
                  <a:pt x="17913" y="11212"/>
                  <a:pt x="18033" y="11212"/>
                </a:cubicBezTo>
                <a:cubicBezTo>
                  <a:pt x="18074" y="11212"/>
                  <a:pt x="18082" y="11212"/>
                  <a:pt x="18107" y="11212"/>
                </a:cubicBezTo>
              </a:path>
              <a:path w="844" h="1712">
                <a:moveTo>
                  <a:pt x="17661" y="11385"/>
                </a:moveTo>
                <a:cubicBezTo>
                  <a:pt x="17644" y="11402"/>
                  <a:pt x="17628" y="11418"/>
                  <a:pt x="17611" y="11435"/>
                </a:cubicBezTo>
                <a:cubicBezTo>
                  <a:pt x="17662" y="11410"/>
                  <a:pt x="17771" y="11387"/>
                  <a:pt x="17835" y="11410"/>
                </a:cubicBezTo>
                <a:cubicBezTo>
                  <a:pt x="17899" y="11433"/>
                  <a:pt x="17911" y="11510"/>
                  <a:pt x="17884" y="11559"/>
                </a:cubicBezTo>
                <a:cubicBezTo>
                  <a:pt x="17861" y="11602"/>
                  <a:pt x="17820" y="11700"/>
                  <a:pt x="17785" y="11733"/>
                </a:cubicBezTo>
                <a:cubicBezTo>
                  <a:pt x="17713" y="11801"/>
                  <a:pt x="17707" y="11777"/>
                  <a:pt x="17661" y="11857"/>
                </a:cubicBezTo>
                <a:cubicBezTo>
                  <a:pt x="17724" y="11850"/>
                  <a:pt x="17820" y="11807"/>
                  <a:pt x="17884" y="11832"/>
                </a:cubicBezTo>
                <a:cubicBezTo>
                  <a:pt x="17892" y="11840"/>
                  <a:pt x="17901" y="11849"/>
                  <a:pt x="17909" y="11857"/>
                </a:cubicBezTo>
                <a:cubicBezTo>
                  <a:pt x="17861" y="11939"/>
                  <a:pt x="17848" y="11942"/>
                  <a:pt x="17760" y="11981"/>
                </a:cubicBezTo>
                <a:cubicBezTo>
                  <a:pt x="17699" y="12008"/>
                  <a:pt x="17648" y="12089"/>
                  <a:pt x="17587" y="12105"/>
                </a:cubicBezTo>
                <a:cubicBezTo>
                  <a:pt x="17540" y="12118"/>
                  <a:pt x="17511" y="12122"/>
                  <a:pt x="17462" y="121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Ink 22"/>
          <p:cNvSpPr/>
          <p:nvPr/>
        </p:nvSpPr>
        <p:spPr>
          <a:xfrm>
            <a:off x="357120" y="3643200"/>
            <a:ext cx="1081080" cy="295560"/>
          </a:xfrm>
          <a:custGeom>
            <a:avLst/>
            <a:gdLst/>
            <a:ahLst/>
            <a:rect l="l" t="t" r="r" b="b"/>
            <a:pathLst>
              <a:path w="3003" h="820">
                <a:moveTo>
                  <a:pt x="1364" y="10170"/>
                </a:moveTo>
                <a:cubicBezTo>
                  <a:pt x="1338" y="10239"/>
                  <a:pt x="1367" y="10349"/>
                  <a:pt x="1339" y="10269"/>
                </a:cubicBezTo>
                <a:cubicBezTo>
                  <a:pt x="1320" y="10216"/>
                  <a:pt x="1274" y="10163"/>
                  <a:pt x="1240" y="10120"/>
                </a:cubicBezTo>
                <a:cubicBezTo>
                  <a:pt x="1153" y="10142"/>
                  <a:pt x="1143" y="10174"/>
                  <a:pt x="1091" y="10244"/>
                </a:cubicBezTo>
                <a:cubicBezTo>
                  <a:pt x="1048" y="10302"/>
                  <a:pt x="1039" y="10326"/>
                  <a:pt x="1017" y="10393"/>
                </a:cubicBezTo>
                <a:cubicBezTo>
                  <a:pt x="986" y="10485"/>
                  <a:pt x="1002" y="10525"/>
                  <a:pt x="1017" y="10616"/>
                </a:cubicBezTo>
                <a:cubicBezTo>
                  <a:pt x="1024" y="10662"/>
                  <a:pt x="1050" y="10730"/>
                  <a:pt x="1091" y="10765"/>
                </a:cubicBezTo>
                <a:cubicBezTo>
                  <a:pt x="1164" y="10827"/>
                  <a:pt x="1193" y="10845"/>
                  <a:pt x="1290" y="10815"/>
                </a:cubicBezTo>
                <a:cubicBezTo>
                  <a:pt x="1354" y="10782"/>
                  <a:pt x="1382" y="10762"/>
                  <a:pt x="1414" y="10716"/>
                </a:cubicBezTo>
              </a:path>
              <a:path w="3003" h="820">
                <a:moveTo>
                  <a:pt x="1588" y="10319"/>
                </a:moveTo>
                <a:cubicBezTo>
                  <a:pt x="1546" y="10392"/>
                  <a:pt x="1517" y="10479"/>
                  <a:pt x="1513" y="10567"/>
                </a:cubicBezTo>
                <a:cubicBezTo>
                  <a:pt x="1510" y="10642"/>
                  <a:pt x="1507" y="10748"/>
                  <a:pt x="1538" y="10815"/>
                </a:cubicBezTo>
                <a:cubicBezTo>
                  <a:pt x="1563" y="10869"/>
                  <a:pt x="1685" y="10878"/>
                  <a:pt x="1736" y="10864"/>
                </a:cubicBezTo>
                <a:cubicBezTo>
                  <a:pt x="1825" y="10840"/>
                  <a:pt x="1849" y="10738"/>
                  <a:pt x="1885" y="10666"/>
                </a:cubicBezTo>
                <a:cubicBezTo>
                  <a:pt x="1915" y="10605"/>
                  <a:pt x="1914" y="10529"/>
                  <a:pt x="1885" y="10468"/>
                </a:cubicBezTo>
                <a:cubicBezTo>
                  <a:pt x="1871" y="10439"/>
                  <a:pt x="1791" y="10335"/>
                  <a:pt x="1761" y="10319"/>
                </a:cubicBezTo>
                <a:cubicBezTo>
                  <a:pt x="1695" y="10284"/>
                  <a:pt x="1611" y="10277"/>
                  <a:pt x="1563" y="10344"/>
                </a:cubicBezTo>
                <a:cubicBezTo>
                  <a:pt x="1555" y="10360"/>
                  <a:pt x="1546" y="10377"/>
                  <a:pt x="1538" y="10393"/>
                </a:cubicBezTo>
              </a:path>
              <a:path w="3003" h="820">
                <a:moveTo>
                  <a:pt x="2208" y="10319"/>
                </a:moveTo>
                <a:cubicBezTo>
                  <a:pt x="2167" y="10325"/>
                  <a:pt x="2050" y="10344"/>
                  <a:pt x="2084" y="10418"/>
                </a:cubicBezTo>
                <a:cubicBezTo>
                  <a:pt x="2123" y="10502"/>
                  <a:pt x="2226" y="10500"/>
                  <a:pt x="2282" y="10567"/>
                </a:cubicBezTo>
                <a:cubicBezTo>
                  <a:pt x="2319" y="10612"/>
                  <a:pt x="2371" y="10707"/>
                  <a:pt x="2356" y="10765"/>
                </a:cubicBezTo>
                <a:cubicBezTo>
                  <a:pt x="2343" y="10816"/>
                  <a:pt x="2271" y="10838"/>
                  <a:pt x="2232" y="10840"/>
                </a:cubicBezTo>
                <a:cubicBezTo>
                  <a:pt x="2164" y="10844"/>
                  <a:pt x="2125" y="10833"/>
                  <a:pt x="2059" y="10815"/>
                </a:cubicBezTo>
              </a:path>
              <a:path w="3003" h="820">
                <a:moveTo>
                  <a:pt x="2505" y="10220"/>
                </a:moveTo>
                <a:cubicBezTo>
                  <a:pt x="2570" y="10129"/>
                  <a:pt x="2617" y="10145"/>
                  <a:pt x="2729" y="10145"/>
                </a:cubicBezTo>
                <a:cubicBezTo>
                  <a:pt x="2788" y="10145"/>
                  <a:pt x="2841" y="10174"/>
                  <a:pt x="2828" y="10244"/>
                </a:cubicBezTo>
                <a:cubicBezTo>
                  <a:pt x="2814" y="10321"/>
                  <a:pt x="2746" y="10406"/>
                  <a:pt x="2704" y="10468"/>
                </a:cubicBezTo>
                <a:cubicBezTo>
                  <a:pt x="2673" y="10514"/>
                  <a:pt x="2594" y="10612"/>
                  <a:pt x="2580" y="10666"/>
                </a:cubicBezTo>
                <a:cubicBezTo>
                  <a:pt x="2555" y="10761"/>
                  <a:pt x="2579" y="10824"/>
                  <a:pt x="2679" y="10840"/>
                </a:cubicBezTo>
                <a:cubicBezTo>
                  <a:pt x="2745" y="10840"/>
                  <a:pt x="2762" y="10840"/>
                  <a:pt x="2803" y="10840"/>
                </a:cubicBezTo>
              </a:path>
              <a:path w="3003" h="820">
                <a:moveTo>
                  <a:pt x="3051" y="10542"/>
                </a:moveTo>
                <a:cubicBezTo>
                  <a:pt x="3037" y="10592"/>
                  <a:pt x="2989" y="10691"/>
                  <a:pt x="3001" y="10740"/>
                </a:cubicBezTo>
                <a:cubicBezTo>
                  <a:pt x="3009" y="10773"/>
                  <a:pt x="3059" y="10880"/>
                  <a:pt x="3101" y="10889"/>
                </a:cubicBezTo>
                <a:cubicBezTo>
                  <a:pt x="3241" y="10918"/>
                  <a:pt x="3264" y="10879"/>
                  <a:pt x="3324" y="10765"/>
                </a:cubicBezTo>
                <a:cubicBezTo>
                  <a:pt x="3340" y="10734"/>
                  <a:pt x="3403" y="10642"/>
                  <a:pt x="3398" y="10616"/>
                </a:cubicBezTo>
                <a:cubicBezTo>
                  <a:pt x="3390" y="10608"/>
                  <a:pt x="3381" y="10600"/>
                  <a:pt x="3373" y="10592"/>
                </a:cubicBezTo>
                <a:cubicBezTo>
                  <a:pt x="3365" y="10651"/>
                  <a:pt x="3335" y="10699"/>
                  <a:pt x="3349" y="10765"/>
                </a:cubicBezTo>
                <a:cubicBezTo>
                  <a:pt x="3370" y="10864"/>
                  <a:pt x="3408" y="10855"/>
                  <a:pt x="3473" y="10914"/>
                </a:cubicBezTo>
                <a:cubicBezTo>
                  <a:pt x="3481" y="10922"/>
                  <a:pt x="3489" y="10931"/>
                  <a:pt x="3497" y="10939"/>
                </a:cubicBezTo>
              </a:path>
              <a:path w="3003" h="820">
                <a:moveTo>
                  <a:pt x="3721" y="10616"/>
                </a:moveTo>
                <a:cubicBezTo>
                  <a:pt x="3802" y="10587"/>
                  <a:pt x="3825" y="10606"/>
                  <a:pt x="3894" y="10616"/>
                </a:cubicBezTo>
                <a:cubicBezTo>
                  <a:pt x="3952" y="10616"/>
                  <a:pt x="3961" y="10616"/>
                  <a:pt x="3994" y="10616"/>
                </a:cubicBezTo>
              </a:path>
              <a:path w="3003" h="820">
                <a:moveTo>
                  <a:pt x="3795" y="10691"/>
                </a:moveTo>
                <a:cubicBezTo>
                  <a:pt x="3868" y="10737"/>
                  <a:pt x="3890" y="10755"/>
                  <a:pt x="3969" y="107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Ink 23"/>
          <p:cNvSpPr/>
          <p:nvPr/>
        </p:nvSpPr>
        <p:spPr>
          <a:xfrm>
            <a:off x="1704960" y="3660840"/>
            <a:ext cx="600120" cy="384120"/>
          </a:xfrm>
          <a:custGeom>
            <a:avLst/>
            <a:gdLst/>
            <a:ahLst/>
            <a:rect l="l" t="t" r="r" b="b"/>
            <a:pathLst>
              <a:path w="1663" h="1068">
                <a:moveTo>
                  <a:pt x="5011" y="10716"/>
                </a:moveTo>
                <a:cubicBezTo>
                  <a:pt x="5011" y="10646"/>
                  <a:pt x="5005" y="10611"/>
                  <a:pt x="4986" y="10542"/>
                </a:cubicBezTo>
                <a:cubicBezTo>
                  <a:pt x="4895" y="10553"/>
                  <a:pt x="4868" y="10574"/>
                  <a:pt x="4812" y="10641"/>
                </a:cubicBezTo>
                <a:cubicBezTo>
                  <a:pt x="4771" y="10689"/>
                  <a:pt x="4749" y="10724"/>
                  <a:pt x="4738" y="10790"/>
                </a:cubicBezTo>
                <a:cubicBezTo>
                  <a:pt x="4726" y="10864"/>
                  <a:pt x="4751" y="10921"/>
                  <a:pt x="4762" y="10988"/>
                </a:cubicBezTo>
                <a:cubicBezTo>
                  <a:pt x="4778" y="11087"/>
                  <a:pt x="4830" y="11144"/>
                  <a:pt x="4936" y="11162"/>
                </a:cubicBezTo>
                <a:cubicBezTo>
                  <a:pt x="5012" y="11162"/>
                  <a:pt x="5038" y="11162"/>
                  <a:pt x="5085" y="11137"/>
                </a:cubicBezTo>
              </a:path>
              <a:path w="1663" h="1068">
                <a:moveTo>
                  <a:pt x="5283" y="10666"/>
                </a:moveTo>
                <a:cubicBezTo>
                  <a:pt x="5262" y="10757"/>
                  <a:pt x="5224" y="10851"/>
                  <a:pt x="5209" y="10939"/>
                </a:cubicBezTo>
                <a:cubicBezTo>
                  <a:pt x="5195" y="11023"/>
                  <a:pt x="5248" y="11065"/>
                  <a:pt x="5283" y="11112"/>
                </a:cubicBezTo>
                <a:cubicBezTo>
                  <a:pt x="5322" y="11166"/>
                  <a:pt x="5340" y="11245"/>
                  <a:pt x="5432" y="11212"/>
                </a:cubicBezTo>
                <a:cubicBezTo>
                  <a:pt x="5499" y="11188"/>
                  <a:pt x="5547" y="11120"/>
                  <a:pt x="5581" y="11063"/>
                </a:cubicBezTo>
                <a:cubicBezTo>
                  <a:pt x="5637" y="10970"/>
                  <a:pt x="5637" y="10918"/>
                  <a:pt x="5606" y="10815"/>
                </a:cubicBezTo>
                <a:cubicBezTo>
                  <a:pt x="5594" y="10775"/>
                  <a:pt x="5562" y="10665"/>
                  <a:pt x="5531" y="10641"/>
                </a:cubicBezTo>
                <a:cubicBezTo>
                  <a:pt x="5463" y="10588"/>
                  <a:pt x="5356" y="10612"/>
                  <a:pt x="5283" y="10641"/>
                </a:cubicBezTo>
                <a:cubicBezTo>
                  <a:pt x="5205" y="10672"/>
                  <a:pt x="5183" y="10720"/>
                  <a:pt x="5234" y="10790"/>
                </a:cubicBezTo>
                <a:cubicBezTo>
                  <a:pt x="5242" y="10798"/>
                  <a:pt x="5251" y="10807"/>
                  <a:pt x="5259" y="10815"/>
                </a:cubicBezTo>
              </a:path>
              <a:path w="1663" h="1068">
                <a:moveTo>
                  <a:pt x="5928" y="10616"/>
                </a:moveTo>
                <a:cubicBezTo>
                  <a:pt x="5873" y="10561"/>
                  <a:pt x="5848" y="10568"/>
                  <a:pt x="5779" y="10616"/>
                </a:cubicBezTo>
                <a:cubicBezTo>
                  <a:pt x="5771" y="10624"/>
                  <a:pt x="5763" y="10633"/>
                  <a:pt x="5755" y="10641"/>
                </a:cubicBezTo>
                <a:cubicBezTo>
                  <a:pt x="5790" y="10758"/>
                  <a:pt x="5872" y="10824"/>
                  <a:pt x="5953" y="10914"/>
                </a:cubicBezTo>
                <a:cubicBezTo>
                  <a:pt x="6000" y="10966"/>
                  <a:pt x="6085" y="11040"/>
                  <a:pt x="6102" y="11112"/>
                </a:cubicBezTo>
                <a:cubicBezTo>
                  <a:pt x="6122" y="11198"/>
                  <a:pt x="6100" y="11253"/>
                  <a:pt x="6003" y="11237"/>
                </a:cubicBezTo>
                <a:cubicBezTo>
                  <a:pt x="5911" y="11222"/>
                  <a:pt x="5866" y="11194"/>
                  <a:pt x="5854" y="11112"/>
                </a:cubicBezTo>
              </a:path>
              <a:path w="1663" h="1068">
                <a:moveTo>
                  <a:pt x="6077" y="10244"/>
                </a:moveTo>
                <a:cubicBezTo>
                  <a:pt x="6121" y="10200"/>
                  <a:pt x="6197" y="10126"/>
                  <a:pt x="6251" y="10220"/>
                </a:cubicBezTo>
                <a:cubicBezTo>
                  <a:pt x="6282" y="10273"/>
                  <a:pt x="6281" y="10358"/>
                  <a:pt x="6251" y="10418"/>
                </a:cubicBezTo>
                <a:cubicBezTo>
                  <a:pt x="6238" y="10444"/>
                  <a:pt x="6197" y="10472"/>
                  <a:pt x="6176" y="10492"/>
                </a:cubicBezTo>
                <a:cubicBezTo>
                  <a:pt x="6228" y="10518"/>
                  <a:pt x="6289" y="10538"/>
                  <a:pt x="6350" y="10542"/>
                </a:cubicBezTo>
                <a:cubicBezTo>
                  <a:pt x="6367" y="10542"/>
                  <a:pt x="6383" y="10542"/>
                  <a:pt x="6400" y="105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Ink 24"/>
          <p:cNvSpPr/>
          <p:nvPr/>
        </p:nvSpPr>
        <p:spPr>
          <a:xfrm>
            <a:off x="2438280" y="3714840"/>
            <a:ext cx="884520" cy="322200"/>
          </a:xfrm>
          <a:custGeom>
            <a:avLst/>
            <a:gdLst/>
            <a:ahLst/>
            <a:rect l="l" t="t" r="r" b="b"/>
            <a:pathLst>
              <a:path w="2456" h="894">
                <a:moveTo>
                  <a:pt x="6772" y="10864"/>
                </a:moveTo>
                <a:cubicBezTo>
                  <a:pt x="6863" y="10864"/>
                  <a:pt x="6954" y="10864"/>
                  <a:pt x="7045" y="10864"/>
                </a:cubicBezTo>
              </a:path>
              <a:path w="2456" h="894">
                <a:moveTo>
                  <a:pt x="7565" y="10567"/>
                </a:moveTo>
                <a:cubicBezTo>
                  <a:pt x="7496" y="10567"/>
                  <a:pt x="7448" y="10563"/>
                  <a:pt x="7392" y="10592"/>
                </a:cubicBezTo>
                <a:cubicBezTo>
                  <a:pt x="7348" y="10613"/>
                  <a:pt x="7336" y="10616"/>
                  <a:pt x="7317" y="10641"/>
                </a:cubicBezTo>
                <a:cubicBezTo>
                  <a:pt x="7365" y="10689"/>
                  <a:pt x="7414" y="10721"/>
                  <a:pt x="7466" y="10765"/>
                </a:cubicBezTo>
                <a:cubicBezTo>
                  <a:pt x="7512" y="10804"/>
                  <a:pt x="7627" y="10881"/>
                  <a:pt x="7640" y="10939"/>
                </a:cubicBezTo>
                <a:cubicBezTo>
                  <a:pt x="7658" y="11017"/>
                  <a:pt x="7683" y="11113"/>
                  <a:pt x="7640" y="11187"/>
                </a:cubicBezTo>
                <a:cubicBezTo>
                  <a:pt x="7612" y="11235"/>
                  <a:pt x="7503" y="11204"/>
                  <a:pt x="7466" y="11187"/>
                </a:cubicBezTo>
                <a:cubicBezTo>
                  <a:pt x="7424" y="11167"/>
                  <a:pt x="7376" y="11096"/>
                  <a:pt x="7342" y="11063"/>
                </a:cubicBezTo>
              </a:path>
              <a:path w="2456" h="894">
                <a:moveTo>
                  <a:pt x="7913" y="10765"/>
                </a:moveTo>
                <a:cubicBezTo>
                  <a:pt x="7934" y="10904"/>
                  <a:pt x="7977" y="11049"/>
                  <a:pt x="7987" y="11187"/>
                </a:cubicBezTo>
                <a:cubicBezTo>
                  <a:pt x="7987" y="11195"/>
                  <a:pt x="7987" y="11204"/>
                  <a:pt x="7987" y="11212"/>
                </a:cubicBezTo>
              </a:path>
              <a:path w="2456" h="894">
                <a:moveTo>
                  <a:pt x="7962" y="10468"/>
                </a:moveTo>
                <a:cubicBezTo>
                  <a:pt x="7970" y="10460"/>
                  <a:pt x="7979" y="10451"/>
                  <a:pt x="7987" y="10443"/>
                </a:cubicBezTo>
              </a:path>
              <a:path w="2456" h="894">
                <a:moveTo>
                  <a:pt x="8186" y="10964"/>
                </a:moveTo>
                <a:cubicBezTo>
                  <a:pt x="8186" y="11044"/>
                  <a:pt x="8175" y="11077"/>
                  <a:pt x="8210" y="11137"/>
                </a:cubicBezTo>
                <a:cubicBezTo>
                  <a:pt x="8210" y="11063"/>
                  <a:pt x="8231" y="11009"/>
                  <a:pt x="8235" y="10939"/>
                </a:cubicBezTo>
                <a:cubicBezTo>
                  <a:pt x="8239" y="10867"/>
                  <a:pt x="8207" y="10740"/>
                  <a:pt x="8260" y="10691"/>
                </a:cubicBezTo>
                <a:cubicBezTo>
                  <a:pt x="8297" y="10657"/>
                  <a:pt x="8369" y="10630"/>
                  <a:pt x="8409" y="10666"/>
                </a:cubicBezTo>
                <a:cubicBezTo>
                  <a:pt x="8470" y="10722"/>
                  <a:pt x="8496" y="10786"/>
                  <a:pt x="8533" y="10864"/>
                </a:cubicBezTo>
                <a:cubicBezTo>
                  <a:pt x="8566" y="10933"/>
                  <a:pt x="8583" y="11001"/>
                  <a:pt x="8607" y="11063"/>
                </a:cubicBezTo>
                <a:cubicBezTo>
                  <a:pt x="8628" y="11117"/>
                  <a:pt x="8630" y="11189"/>
                  <a:pt x="8657" y="11162"/>
                </a:cubicBezTo>
              </a:path>
              <a:path w="2456" h="894">
                <a:moveTo>
                  <a:pt x="8706" y="10418"/>
                </a:moveTo>
                <a:cubicBezTo>
                  <a:pt x="8789" y="10315"/>
                  <a:pt x="8884" y="10270"/>
                  <a:pt x="8979" y="10418"/>
                </a:cubicBezTo>
                <a:cubicBezTo>
                  <a:pt x="9004" y="10457"/>
                  <a:pt x="9017" y="10568"/>
                  <a:pt x="9004" y="10616"/>
                </a:cubicBezTo>
                <a:cubicBezTo>
                  <a:pt x="8990" y="10668"/>
                  <a:pt x="8942" y="10704"/>
                  <a:pt x="8905" y="10740"/>
                </a:cubicBezTo>
                <a:cubicBezTo>
                  <a:pt x="8841" y="10803"/>
                  <a:pt x="8813" y="10747"/>
                  <a:pt x="8781" y="10691"/>
                </a:cubicBezTo>
                <a:cubicBezTo>
                  <a:pt x="8844" y="10659"/>
                  <a:pt x="8909" y="10668"/>
                  <a:pt x="8979" y="10691"/>
                </a:cubicBezTo>
                <a:cubicBezTo>
                  <a:pt x="9047" y="10714"/>
                  <a:pt x="9108" y="10753"/>
                  <a:pt x="9178" y="10765"/>
                </a:cubicBezTo>
                <a:cubicBezTo>
                  <a:pt x="9194" y="10765"/>
                  <a:pt x="9211" y="10765"/>
                  <a:pt x="9227" y="107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Ink 25"/>
          <p:cNvSpPr/>
          <p:nvPr/>
        </p:nvSpPr>
        <p:spPr>
          <a:xfrm>
            <a:off x="1374840" y="4348080"/>
            <a:ext cx="117360" cy="100080"/>
          </a:xfrm>
          <a:custGeom>
            <a:avLst/>
            <a:gdLst/>
            <a:ahLst/>
            <a:rect l="l" t="t" r="r" b="b"/>
            <a:pathLst>
              <a:path w="323" h="274">
                <a:moveTo>
                  <a:pt x="3820" y="12105"/>
                </a:moveTo>
                <a:cubicBezTo>
                  <a:pt x="3902" y="12105"/>
                  <a:pt x="3962" y="12083"/>
                  <a:pt x="4043" y="12080"/>
                </a:cubicBezTo>
                <a:cubicBezTo>
                  <a:pt x="4068" y="12080"/>
                  <a:pt x="4093" y="12080"/>
                  <a:pt x="4118" y="12080"/>
                </a:cubicBezTo>
              </a:path>
              <a:path w="323" h="274">
                <a:moveTo>
                  <a:pt x="3919" y="12353"/>
                </a:moveTo>
                <a:cubicBezTo>
                  <a:pt x="4051" y="12353"/>
                  <a:pt x="4068" y="12353"/>
                  <a:pt x="4142" y="123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Ink 26"/>
          <p:cNvSpPr/>
          <p:nvPr/>
        </p:nvSpPr>
        <p:spPr>
          <a:xfrm>
            <a:off x="1687680" y="4152960"/>
            <a:ext cx="1839600" cy="722160"/>
          </a:xfrm>
          <a:custGeom>
            <a:avLst/>
            <a:gdLst/>
            <a:ahLst/>
            <a:rect l="l" t="t" r="r" b="b"/>
            <a:pathLst>
              <a:path w="5111" h="2010">
                <a:moveTo>
                  <a:pt x="4961" y="11658"/>
                </a:moveTo>
                <a:cubicBezTo>
                  <a:pt x="4899" y="11658"/>
                  <a:pt x="4916" y="11737"/>
                  <a:pt x="4862" y="11807"/>
                </a:cubicBezTo>
                <a:cubicBezTo>
                  <a:pt x="4803" y="11883"/>
                  <a:pt x="4781" y="11938"/>
                  <a:pt x="4762" y="12030"/>
                </a:cubicBezTo>
                <a:cubicBezTo>
                  <a:pt x="4741" y="12132"/>
                  <a:pt x="4700" y="12225"/>
                  <a:pt x="4688" y="12328"/>
                </a:cubicBezTo>
                <a:cubicBezTo>
                  <a:pt x="4678" y="12421"/>
                  <a:pt x="4684" y="12516"/>
                  <a:pt x="4713" y="12601"/>
                </a:cubicBezTo>
                <a:cubicBezTo>
                  <a:pt x="4733" y="12660"/>
                  <a:pt x="4727" y="12762"/>
                  <a:pt x="4787" y="12799"/>
                </a:cubicBezTo>
                <a:cubicBezTo>
                  <a:pt x="4864" y="12837"/>
                  <a:pt x="4880" y="12836"/>
                  <a:pt x="4911" y="12874"/>
                </a:cubicBezTo>
              </a:path>
              <a:path w="5111" h="2010">
                <a:moveTo>
                  <a:pt x="5011" y="12080"/>
                </a:moveTo>
                <a:cubicBezTo>
                  <a:pt x="5118" y="12080"/>
                  <a:pt x="5226" y="12080"/>
                  <a:pt x="5333" y="12080"/>
                </a:cubicBezTo>
              </a:path>
              <a:path w="5111" h="2010">
                <a:moveTo>
                  <a:pt x="5432" y="11683"/>
                </a:moveTo>
                <a:cubicBezTo>
                  <a:pt x="5487" y="11639"/>
                  <a:pt x="5556" y="11609"/>
                  <a:pt x="5631" y="11633"/>
                </a:cubicBezTo>
                <a:cubicBezTo>
                  <a:pt x="5695" y="11653"/>
                  <a:pt x="5702" y="11756"/>
                  <a:pt x="5705" y="11807"/>
                </a:cubicBezTo>
                <a:cubicBezTo>
                  <a:pt x="5708" y="11872"/>
                  <a:pt x="5689" y="11974"/>
                  <a:pt x="5655" y="12030"/>
                </a:cubicBezTo>
                <a:cubicBezTo>
                  <a:pt x="5611" y="12102"/>
                  <a:pt x="5584" y="12143"/>
                  <a:pt x="5507" y="12154"/>
                </a:cubicBezTo>
                <a:cubicBezTo>
                  <a:pt x="5507" y="12062"/>
                  <a:pt x="5504" y="12044"/>
                  <a:pt x="5606" y="12080"/>
                </a:cubicBezTo>
                <a:cubicBezTo>
                  <a:pt x="5668" y="12102"/>
                  <a:pt x="5723" y="12134"/>
                  <a:pt x="5779" y="12154"/>
                </a:cubicBezTo>
                <a:cubicBezTo>
                  <a:pt x="5838" y="12175"/>
                  <a:pt x="5864" y="12179"/>
                  <a:pt x="5928" y="12179"/>
                </a:cubicBezTo>
              </a:path>
              <a:path w="5111" h="2010">
                <a:moveTo>
                  <a:pt x="5457" y="12378"/>
                </a:moveTo>
                <a:cubicBezTo>
                  <a:pt x="5569" y="12378"/>
                  <a:pt x="5671" y="12390"/>
                  <a:pt x="5779" y="12402"/>
                </a:cubicBezTo>
                <a:cubicBezTo>
                  <a:pt x="5860" y="12411"/>
                  <a:pt x="5954" y="12378"/>
                  <a:pt x="6028" y="12353"/>
                </a:cubicBezTo>
              </a:path>
              <a:path w="5111" h="2010">
                <a:moveTo>
                  <a:pt x="5556" y="12477"/>
                </a:moveTo>
                <a:cubicBezTo>
                  <a:pt x="5556" y="12577"/>
                  <a:pt x="5569" y="12652"/>
                  <a:pt x="5581" y="12750"/>
                </a:cubicBezTo>
                <a:cubicBezTo>
                  <a:pt x="5589" y="12811"/>
                  <a:pt x="5596" y="12872"/>
                  <a:pt x="5606" y="12923"/>
                </a:cubicBezTo>
                <a:cubicBezTo>
                  <a:pt x="5606" y="12940"/>
                  <a:pt x="5606" y="12956"/>
                  <a:pt x="5606" y="12973"/>
                </a:cubicBezTo>
                <a:cubicBezTo>
                  <a:pt x="5606" y="12879"/>
                  <a:pt x="5626" y="12830"/>
                  <a:pt x="5631" y="12750"/>
                </a:cubicBezTo>
                <a:cubicBezTo>
                  <a:pt x="5636" y="12673"/>
                  <a:pt x="5632" y="12640"/>
                  <a:pt x="5680" y="12576"/>
                </a:cubicBezTo>
                <a:cubicBezTo>
                  <a:pt x="5733" y="12505"/>
                  <a:pt x="5802" y="12520"/>
                  <a:pt x="5879" y="12502"/>
                </a:cubicBezTo>
                <a:cubicBezTo>
                  <a:pt x="5936" y="12483"/>
                  <a:pt x="5943" y="12474"/>
                  <a:pt x="5978" y="12477"/>
                </a:cubicBezTo>
              </a:path>
              <a:path w="5111" h="2010">
                <a:moveTo>
                  <a:pt x="5904" y="12576"/>
                </a:moveTo>
                <a:cubicBezTo>
                  <a:pt x="5985" y="12598"/>
                  <a:pt x="6032" y="12618"/>
                  <a:pt x="6102" y="12576"/>
                </a:cubicBezTo>
              </a:path>
              <a:path w="5111" h="2010">
                <a:moveTo>
                  <a:pt x="5904" y="12601"/>
                </a:moveTo>
                <a:cubicBezTo>
                  <a:pt x="5874" y="12665"/>
                  <a:pt x="5832" y="12756"/>
                  <a:pt x="5953" y="12774"/>
                </a:cubicBezTo>
                <a:cubicBezTo>
                  <a:pt x="6063" y="12790"/>
                  <a:pt x="6126" y="12767"/>
                  <a:pt x="6152" y="12898"/>
                </a:cubicBezTo>
                <a:cubicBezTo>
                  <a:pt x="6162" y="12948"/>
                  <a:pt x="6167" y="13074"/>
                  <a:pt x="6102" y="13097"/>
                </a:cubicBezTo>
                <a:cubicBezTo>
                  <a:pt x="6051" y="13115"/>
                  <a:pt x="5962" y="13087"/>
                  <a:pt x="5928" y="13047"/>
                </a:cubicBezTo>
                <a:cubicBezTo>
                  <a:pt x="5908" y="13007"/>
                  <a:pt x="5900" y="13000"/>
                  <a:pt x="5904" y="12973"/>
                </a:cubicBezTo>
              </a:path>
              <a:path w="5111" h="2010">
                <a:moveTo>
                  <a:pt x="6077" y="11633"/>
                </a:moveTo>
                <a:cubicBezTo>
                  <a:pt x="6141" y="11679"/>
                  <a:pt x="6187" y="11734"/>
                  <a:pt x="6226" y="11807"/>
                </a:cubicBezTo>
                <a:cubicBezTo>
                  <a:pt x="6307" y="11957"/>
                  <a:pt x="6321" y="12120"/>
                  <a:pt x="6375" y="12278"/>
                </a:cubicBezTo>
                <a:cubicBezTo>
                  <a:pt x="6429" y="12438"/>
                  <a:pt x="6449" y="12557"/>
                  <a:pt x="6449" y="12725"/>
                </a:cubicBezTo>
                <a:cubicBezTo>
                  <a:pt x="6449" y="12831"/>
                  <a:pt x="6454" y="12921"/>
                  <a:pt x="6424" y="13022"/>
                </a:cubicBezTo>
                <a:cubicBezTo>
                  <a:pt x="6417" y="13046"/>
                  <a:pt x="6326" y="13204"/>
                  <a:pt x="6300" y="13196"/>
                </a:cubicBezTo>
                <a:cubicBezTo>
                  <a:pt x="6292" y="13179"/>
                  <a:pt x="6284" y="13163"/>
                  <a:pt x="6276" y="13146"/>
                </a:cubicBezTo>
              </a:path>
              <a:path w="5111" h="2010">
                <a:moveTo>
                  <a:pt x="6449" y="11633"/>
                </a:moveTo>
                <a:cubicBezTo>
                  <a:pt x="6521" y="11669"/>
                  <a:pt x="6481" y="11603"/>
                  <a:pt x="6548" y="11584"/>
                </a:cubicBezTo>
                <a:cubicBezTo>
                  <a:pt x="6610" y="11566"/>
                  <a:pt x="6657" y="11548"/>
                  <a:pt x="6697" y="11609"/>
                </a:cubicBezTo>
                <a:cubicBezTo>
                  <a:pt x="6734" y="11666"/>
                  <a:pt x="6703" y="11795"/>
                  <a:pt x="6672" y="11857"/>
                </a:cubicBezTo>
                <a:cubicBezTo>
                  <a:pt x="6659" y="11884"/>
                  <a:pt x="6571" y="12009"/>
                  <a:pt x="6524" y="11956"/>
                </a:cubicBezTo>
                <a:cubicBezTo>
                  <a:pt x="6524" y="11911"/>
                  <a:pt x="6520" y="11898"/>
                  <a:pt x="6548" y="11881"/>
                </a:cubicBezTo>
                <a:cubicBezTo>
                  <a:pt x="6627" y="11910"/>
                  <a:pt x="6658" y="11940"/>
                  <a:pt x="6722" y="11981"/>
                </a:cubicBezTo>
                <a:cubicBezTo>
                  <a:pt x="6772" y="12005"/>
                  <a:pt x="6788" y="12013"/>
                  <a:pt x="6821" y="12030"/>
                </a:cubicBezTo>
              </a:path>
              <a:path w="5111" h="2010">
                <a:moveTo>
                  <a:pt x="6921" y="12526"/>
                </a:moveTo>
                <a:cubicBezTo>
                  <a:pt x="7026" y="12526"/>
                  <a:pt x="7121" y="12534"/>
                  <a:pt x="7218" y="12502"/>
                </a:cubicBezTo>
                <a:cubicBezTo>
                  <a:pt x="7243" y="12494"/>
                  <a:pt x="7268" y="12485"/>
                  <a:pt x="7293" y="12477"/>
                </a:cubicBezTo>
              </a:path>
              <a:path w="5111" h="2010">
                <a:moveTo>
                  <a:pt x="7789" y="11609"/>
                </a:moveTo>
                <a:cubicBezTo>
                  <a:pt x="7753" y="11688"/>
                  <a:pt x="7696" y="11748"/>
                  <a:pt x="7665" y="11832"/>
                </a:cubicBezTo>
                <a:cubicBezTo>
                  <a:pt x="7611" y="11980"/>
                  <a:pt x="7592" y="12128"/>
                  <a:pt x="7565" y="12278"/>
                </a:cubicBezTo>
                <a:cubicBezTo>
                  <a:pt x="7543" y="12397"/>
                  <a:pt x="7541" y="12504"/>
                  <a:pt x="7541" y="12626"/>
                </a:cubicBezTo>
                <a:cubicBezTo>
                  <a:pt x="7541" y="12748"/>
                  <a:pt x="7577" y="12857"/>
                  <a:pt x="7615" y="12973"/>
                </a:cubicBezTo>
                <a:cubicBezTo>
                  <a:pt x="7643" y="13059"/>
                  <a:pt x="7727" y="13196"/>
                  <a:pt x="7789" y="13246"/>
                </a:cubicBezTo>
                <a:cubicBezTo>
                  <a:pt x="7822" y="13262"/>
                  <a:pt x="7855" y="13279"/>
                  <a:pt x="7888" y="13295"/>
                </a:cubicBezTo>
              </a:path>
              <a:path w="5111" h="2010">
                <a:moveTo>
                  <a:pt x="8037" y="12030"/>
                </a:moveTo>
                <a:cubicBezTo>
                  <a:pt x="8180" y="12061"/>
                  <a:pt x="8223" y="12060"/>
                  <a:pt x="8359" y="12005"/>
                </a:cubicBezTo>
              </a:path>
              <a:path w="5111" h="2010">
                <a:moveTo>
                  <a:pt x="8483" y="11782"/>
                </a:moveTo>
                <a:cubicBezTo>
                  <a:pt x="8459" y="11884"/>
                  <a:pt x="8450" y="11978"/>
                  <a:pt x="8483" y="12080"/>
                </a:cubicBezTo>
                <a:cubicBezTo>
                  <a:pt x="8503" y="12144"/>
                  <a:pt x="8529" y="12190"/>
                  <a:pt x="8533" y="12254"/>
                </a:cubicBezTo>
                <a:cubicBezTo>
                  <a:pt x="8533" y="12303"/>
                  <a:pt x="8533" y="12320"/>
                  <a:pt x="8533" y="12353"/>
                </a:cubicBezTo>
              </a:path>
              <a:path w="5111" h="2010">
                <a:moveTo>
                  <a:pt x="8310" y="12477"/>
                </a:moveTo>
                <a:cubicBezTo>
                  <a:pt x="8457" y="12451"/>
                  <a:pt x="8532" y="12471"/>
                  <a:pt x="8657" y="12452"/>
                </a:cubicBezTo>
                <a:cubicBezTo>
                  <a:pt x="8734" y="12440"/>
                  <a:pt x="8774" y="12427"/>
                  <a:pt x="8855" y="12427"/>
                </a:cubicBezTo>
              </a:path>
              <a:path w="5111" h="2010">
                <a:moveTo>
                  <a:pt x="8409" y="12799"/>
                </a:moveTo>
                <a:cubicBezTo>
                  <a:pt x="8409" y="12879"/>
                  <a:pt x="8413" y="12950"/>
                  <a:pt x="8434" y="13022"/>
                </a:cubicBezTo>
                <a:cubicBezTo>
                  <a:pt x="8454" y="13089"/>
                  <a:pt x="8465" y="13154"/>
                  <a:pt x="8483" y="13221"/>
                </a:cubicBezTo>
                <a:cubicBezTo>
                  <a:pt x="8491" y="13246"/>
                  <a:pt x="8500" y="13270"/>
                  <a:pt x="8508" y="13295"/>
                </a:cubicBezTo>
                <a:cubicBezTo>
                  <a:pt x="8508" y="13180"/>
                  <a:pt x="8501" y="13080"/>
                  <a:pt x="8483" y="12973"/>
                </a:cubicBezTo>
                <a:cubicBezTo>
                  <a:pt x="8478" y="12945"/>
                  <a:pt x="8497" y="12827"/>
                  <a:pt x="8508" y="12799"/>
                </a:cubicBezTo>
                <a:cubicBezTo>
                  <a:pt x="8527" y="12750"/>
                  <a:pt x="8610" y="12666"/>
                  <a:pt x="8657" y="12650"/>
                </a:cubicBezTo>
                <a:cubicBezTo>
                  <a:pt x="8717" y="12630"/>
                  <a:pt x="8791" y="12609"/>
                  <a:pt x="8855" y="12601"/>
                </a:cubicBezTo>
              </a:path>
              <a:path w="5111" h="2010">
                <a:moveTo>
                  <a:pt x="8756" y="12774"/>
                </a:moveTo>
                <a:cubicBezTo>
                  <a:pt x="8834" y="12774"/>
                  <a:pt x="8921" y="12793"/>
                  <a:pt x="8979" y="12774"/>
                </a:cubicBezTo>
              </a:path>
              <a:path w="5111" h="2010">
                <a:moveTo>
                  <a:pt x="8682" y="12849"/>
                </a:moveTo>
                <a:cubicBezTo>
                  <a:pt x="8737" y="12993"/>
                  <a:pt x="8751" y="12973"/>
                  <a:pt x="8905" y="12973"/>
                </a:cubicBezTo>
                <a:cubicBezTo>
                  <a:pt x="9007" y="12973"/>
                  <a:pt x="8973" y="13056"/>
                  <a:pt x="9004" y="13122"/>
                </a:cubicBezTo>
                <a:cubicBezTo>
                  <a:pt x="9039" y="13196"/>
                  <a:pt x="9017" y="13216"/>
                  <a:pt x="9004" y="13295"/>
                </a:cubicBezTo>
                <a:cubicBezTo>
                  <a:pt x="9004" y="13340"/>
                  <a:pt x="9007" y="13353"/>
                  <a:pt x="8979" y="13370"/>
                </a:cubicBezTo>
                <a:cubicBezTo>
                  <a:pt x="8914" y="13379"/>
                  <a:pt x="8844" y="13351"/>
                  <a:pt x="8781" y="13295"/>
                </a:cubicBezTo>
                <a:cubicBezTo>
                  <a:pt x="8746" y="13262"/>
                  <a:pt x="8738" y="13240"/>
                  <a:pt x="8756" y="13196"/>
                </a:cubicBezTo>
              </a:path>
              <a:path w="5111" h="2010">
                <a:moveTo>
                  <a:pt x="8954" y="11683"/>
                </a:moveTo>
                <a:cubicBezTo>
                  <a:pt x="8971" y="11666"/>
                  <a:pt x="8987" y="11650"/>
                  <a:pt x="9004" y="11633"/>
                </a:cubicBezTo>
                <a:cubicBezTo>
                  <a:pt x="9063" y="11692"/>
                  <a:pt x="9125" y="11751"/>
                  <a:pt x="9153" y="11832"/>
                </a:cubicBezTo>
                <a:cubicBezTo>
                  <a:pt x="9197" y="11958"/>
                  <a:pt x="9254" y="12128"/>
                  <a:pt x="9277" y="12254"/>
                </a:cubicBezTo>
                <a:cubicBezTo>
                  <a:pt x="9331" y="12545"/>
                  <a:pt x="9351" y="12805"/>
                  <a:pt x="9351" y="13097"/>
                </a:cubicBezTo>
                <a:cubicBezTo>
                  <a:pt x="9351" y="13203"/>
                  <a:pt x="9331" y="13294"/>
                  <a:pt x="9327" y="13395"/>
                </a:cubicBezTo>
                <a:cubicBezTo>
                  <a:pt x="9325" y="13452"/>
                  <a:pt x="9316" y="13515"/>
                  <a:pt x="9252" y="13543"/>
                </a:cubicBezTo>
                <a:cubicBezTo>
                  <a:pt x="9244" y="13543"/>
                  <a:pt x="9235" y="13543"/>
                  <a:pt x="9227" y="13543"/>
                </a:cubicBezTo>
              </a:path>
              <a:path w="5111" h="2010">
                <a:moveTo>
                  <a:pt x="9327" y="11609"/>
                </a:moveTo>
                <a:cubicBezTo>
                  <a:pt x="9411" y="11524"/>
                  <a:pt x="9395" y="11541"/>
                  <a:pt x="9500" y="11559"/>
                </a:cubicBezTo>
                <a:cubicBezTo>
                  <a:pt x="9580" y="11572"/>
                  <a:pt x="9669" y="11592"/>
                  <a:pt x="9699" y="11683"/>
                </a:cubicBezTo>
                <a:cubicBezTo>
                  <a:pt x="9719" y="11744"/>
                  <a:pt x="9686" y="11833"/>
                  <a:pt x="9649" y="11881"/>
                </a:cubicBezTo>
                <a:cubicBezTo>
                  <a:pt x="9616" y="11923"/>
                  <a:pt x="9560" y="11995"/>
                  <a:pt x="9500" y="11981"/>
                </a:cubicBezTo>
                <a:cubicBezTo>
                  <a:pt x="9484" y="11973"/>
                  <a:pt x="9467" y="11964"/>
                  <a:pt x="9451" y="11956"/>
                </a:cubicBezTo>
                <a:cubicBezTo>
                  <a:pt x="9523" y="11912"/>
                  <a:pt x="9548" y="11946"/>
                  <a:pt x="9624" y="11956"/>
                </a:cubicBezTo>
                <a:cubicBezTo>
                  <a:pt x="9713" y="11968"/>
                  <a:pt x="9710" y="11971"/>
                  <a:pt x="9798" y="120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Ink 27"/>
          <p:cNvSpPr/>
          <p:nvPr/>
        </p:nvSpPr>
        <p:spPr>
          <a:xfrm>
            <a:off x="1374840" y="4786200"/>
            <a:ext cx="1839960" cy="965160"/>
          </a:xfrm>
          <a:custGeom>
            <a:avLst/>
            <a:gdLst/>
            <a:ahLst/>
            <a:rect l="l" t="t" r="r" b="b"/>
            <a:pathLst>
              <a:path w="5111" h="2680">
                <a:moveTo>
                  <a:pt x="3820" y="14015"/>
                </a:moveTo>
                <a:cubicBezTo>
                  <a:pt x="3897" y="14040"/>
                  <a:pt x="3960" y="14039"/>
                  <a:pt x="4043" y="14039"/>
                </a:cubicBezTo>
              </a:path>
              <a:path w="5111" h="2680">
                <a:moveTo>
                  <a:pt x="3894" y="14263"/>
                </a:moveTo>
                <a:cubicBezTo>
                  <a:pt x="3977" y="14294"/>
                  <a:pt x="4051" y="14288"/>
                  <a:pt x="4142" y="14288"/>
                </a:cubicBezTo>
              </a:path>
              <a:path w="5111" h="2680">
                <a:moveTo>
                  <a:pt x="4539" y="14585"/>
                </a:moveTo>
                <a:cubicBezTo>
                  <a:pt x="4612" y="14622"/>
                  <a:pt x="4699" y="14610"/>
                  <a:pt x="4787" y="14610"/>
                </a:cubicBezTo>
                <a:cubicBezTo>
                  <a:pt x="4882" y="14610"/>
                  <a:pt x="4964" y="14635"/>
                  <a:pt x="5060" y="14635"/>
                </a:cubicBezTo>
                <a:cubicBezTo>
                  <a:pt x="5163" y="14635"/>
                  <a:pt x="5259" y="14651"/>
                  <a:pt x="5358" y="14660"/>
                </a:cubicBezTo>
                <a:cubicBezTo>
                  <a:pt x="5446" y="14668"/>
                  <a:pt x="5569" y="14693"/>
                  <a:pt x="5655" y="14684"/>
                </a:cubicBezTo>
                <a:cubicBezTo>
                  <a:pt x="5767" y="14672"/>
                  <a:pt x="5865" y="14660"/>
                  <a:pt x="5978" y="14660"/>
                </a:cubicBezTo>
                <a:cubicBezTo>
                  <a:pt x="6035" y="14660"/>
                  <a:pt x="6056" y="14657"/>
                  <a:pt x="6102" y="14684"/>
                </a:cubicBezTo>
              </a:path>
              <a:path w="5111" h="2680">
                <a:moveTo>
                  <a:pt x="4887" y="13444"/>
                </a:moveTo>
                <a:cubicBezTo>
                  <a:pt x="4864" y="13506"/>
                  <a:pt x="4838" y="13591"/>
                  <a:pt x="4812" y="13643"/>
                </a:cubicBezTo>
                <a:cubicBezTo>
                  <a:pt x="4793" y="13679"/>
                  <a:pt x="4783" y="13706"/>
                  <a:pt x="4762" y="13742"/>
                </a:cubicBezTo>
                <a:cubicBezTo>
                  <a:pt x="4792" y="13791"/>
                  <a:pt x="4784" y="13852"/>
                  <a:pt x="4862" y="13866"/>
                </a:cubicBezTo>
                <a:cubicBezTo>
                  <a:pt x="4940" y="13880"/>
                  <a:pt x="5001" y="13891"/>
                  <a:pt x="5085" y="13891"/>
                </a:cubicBezTo>
                <a:cubicBezTo>
                  <a:pt x="5093" y="13891"/>
                  <a:pt x="5102" y="13891"/>
                  <a:pt x="5110" y="13891"/>
                </a:cubicBezTo>
              </a:path>
              <a:path w="5111" h="2680">
                <a:moveTo>
                  <a:pt x="5184" y="13295"/>
                </a:moveTo>
                <a:cubicBezTo>
                  <a:pt x="5136" y="13379"/>
                  <a:pt x="5135" y="13446"/>
                  <a:pt x="5135" y="13543"/>
                </a:cubicBezTo>
                <a:cubicBezTo>
                  <a:pt x="5135" y="13655"/>
                  <a:pt x="5128" y="13735"/>
                  <a:pt x="5135" y="13841"/>
                </a:cubicBezTo>
                <a:cubicBezTo>
                  <a:pt x="5145" y="13987"/>
                  <a:pt x="5059" y="14329"/>
                  <a:pt x="5159" y="14436"/>
                </a:cubicBezTo>
                <a:cubicBezTo>
                  <a:pt x="5159" y="14408"/>
                  <a:pt x="5162" y="14398"/>
                  <a:pt x="5184" y="14387"/>
                </a:cubicBezTo>
              </a:path>
              <a:path w="5111" h="2680">
                <a:moveTo>
                  <a:pt x="5184" y="14883"/>
                </a:moveTo>
                <a:cubicBezTo>
                  <a:pt x="5198" y="14885"/>
                  <a:pt x="5457" y="14939"/>
                  <a:pt x="5507" y="14908"/>
                </a:cubicBezTo>
                <a:cubicBezTo>
                  <a:pt x="5507" y="14900"/>
                  <a:pt x="5507" y="14891"/>
                  <a:pt x="5507" y="14883"/>
                </a:cubicBezTo>
              </a:path>
              <a:path w="5111" h="2680">
                <a:moveTo>
                  <a:pt x="5209" y="14982"/>
                </a:moveTo>
                <a:cubicBezTo>
                  <a:pt x="5163" y="15063"/>
                  <a:pt x="5091" y="15163"/>
                  <a:pt x="5234" y="15180"/>
                </a:cubicBezTo>
                <a:cubicBezTo>
                  <a:pt x="5294" y="15187"/>
                  <a:pt x="5356" y="15179"/>
                  <a:pt x="5407" y="15205"/>
                </a:cubicBezTo>
                <a:cubicBezTo>
                  <a:pt x="5436" y="15220"/>
                  <a:pt x="5499" y="15321"/>
                  <a:pt x="5507" y="15354"/>
                </a:cubicBezTo>
                <a:cubicBezTo>
                  <a:pt x="5521" y="15413"/>
                  <a:pt x="5561" y="15515"/>
                  <a:pt x="5556" y="15577"/>
                </a:cubicBezTo>
                <a:cubicBezTo>
                  <a:pt x="5551" y="15641"/>
                  <a:pt x="5532" y="15741"/>
                  <a:pt x="5507" y="15801"/>
                </a:cubicBezTo>
                <a:cubicBezTo>
                  <a:pt x="5476" y="15876"/>
                  <a:pt x="5453" y="15930"/>
                  <a:pt x="5358" y="15900"/>
                </a:cubicBezTo>
                <a:cubicBezTo>
                  <a:pt x="5276" y="15874"/>
                  <a:pt x="5280" y="15812"/>
                  <a:pt x="5259" y="15751"/>
                </a:cubicBezTo>
                <a:cubicBezTo>
                  <a:pt x="5239" y="15711"/>
                  <a:pt x="5230" y="15704"/>
                  <a:pt x="5234" y="15677"/>
                </a:cubicBezTo>
              </a:path>
              <a:path w="5111" h="2680">
                <a:moveTo>
                  <a:pt x="6449" y="14709"/>
                </a:moveTo>
                <a:cubicBezTo>
                  <a:pt x="6504" y="14676"/>
                  <a:pt x="6555" y="14684"/>
                  <a:pt x="6623" y="14684"/>
                </a:cubicBezTo>
                <a:cubicBezTo>
                  <a:pt x="6698" y="14684"/>
                  <a:pt x="6804" y="14703"/>
                  <a:pt x="6871" y="14734"/>
                </a:cubicBezTo>
                <a:cubicBezTo>
                  <a:pt x="6932" y="14762"/>
                  <a:pt x="6924" y="14761"/>
                  <a:pt x="6995" y="14734"/>
                </a:cubicBezTo>
              </a:path>
              <a:path w="5111" h="2680">
                <a:moveTo>
                  <a:pt x="7392" y="13593"/>
                </a:moveTo>
                <a:cubicBezTo>
                  <a:pt x="7432" y="13673"/>
                  <a:pt x="7397" y="13752"/>
                  <a:pt x="7417" y="13841"/>
                </a:cubicBezTo>
                <a:cubicBezTo>
                  <a:pt x="7433" y="13915"/>
                  <a:pt x="7449" y="13990"/>
                  <a:pt x="7466" y="14064"/>
                </a:cubicBezTo>
                <a:cubicBezTo>
                  <a:pt x="7487" y="14153"/>
                  <a:pt x="7488" y="14254"/>
                  <a:pt x="7516" y="14337"/>
                </a:cubicBezTo>
                <a:cubicBezTo>
                  <a:pt x="7536" y="14396"/>
                  <a:pt x="7557" y="14424"/>
                  <a:pt x="7565" y="14486"/>
                </a:cubicBezTo>
              </a:path>
              <a:path w="5111" h="2680">
                <a:moveTo>
                  <a:pt x="8086" y="14784"/>
                </a:moveTo>
                <a:cubicBezTo>
                  <a:pt x="7958" y="14784"/>
                  <a:pt x="7837" y="14795"/>
                  <a:pt x="7714" y="14808"/>
                </a:cubicBezTo>
                <a:cubicBezTo>
                  <a:pt x="7638" y="14816"/>
                  <a:pt x="7539" y="14812"/>
                  <a:pt x="7466" y="14833"/>
                </a:cubicBezTo>
                <a:cubicBezTo>
                  <a:pt x="7417" y="14858"/>
                  <a:pt x="7400" y="14867"/>
                  <a:pt x="7367" y="14883"/>
                </a:cubicBezTo>
              </a:path>
              <a:path w="5111" h="2680">
                <a:moveTo>
                  <a:pt x="7714" y="15106"/>
                </a:moveTo>
                <a:cubicBezTo>
                  <a:pt x="7823" y="15120"/>
                  <a:pt x="7907" y="15131"/>
                  <a:pt x="8012" y="15131"/>
                </a:cubicBezTo>
              </a:path>
              <a:path w="5111" h="2680">
                <a:moveTo>
                  <a:pt x="7739" y="15081"/>
                </a:moveTo>
                <a:cubicBezTo>
                  <a:pt x="7722" y="15093"/>
                  <a:pt x="7558" y="15189"/>
                  <a:pt x="7665" y="15230"/>
                </a:cubicBezTo>
                <a:cubicBezTo>
                  <a:pt x="7736" y="15258"/>
                  <a:pt x="7809" y="15295"/>
                  <a:pt x="7888" y="15329"/>
                </a:cubicBezTo>
                <a:cubicBezTo>
                  <a:pt x="7931" y="15348"/>
                  <a:pt x="8009" y="15391"/>
                  <a:pt x="8037" y="15429"/>
                </a:cubicBezTo>
                <a:cubicBezTo>
                  <a:pt x="8076" y="15483"/>
                  <a:pt x="8125" y="15585"/>
                  <a:pt x="8111" y="15652"/>
                </a:cubicBezTo>
                <a:cubicBezTo>
                  <a:pt x="8090" y="15752"/>
                  <a:pt x="8068" y="15771"/>
                  <a:pt x="8012" y="15850"/>
                </a:cubicBezTo>
                <a:cubicBezTo>
                  <a:pt x="7988" y="15884"/>
                  <a:pt x="7948" y="15979"/>
                  <a:pt x="7888" y="15974"/>
                </a:cubicBezTo>
                <a:cubicBezTo>
                  <a:pt x="7833" y="15969"/>
                  <a:pt x="7792" y="15887"/>
                  <a:pt x="7764" y="15850"/>
                </a:cubicBezTo>
                <a:cubicBezTo>
                  <a:pt x="7720" y="15791"/>
                  <a:pt x="7699" y="15779"/>
                  <a:pt x="7689" y="15701"/>
                </a:cubicBezTo>
              </a:path>
              <a:path w="5111" h="2680">
                <a:moveTo>
                  <a:pt x="8409" y="14684"/>
                </a:moveTo>
                <a:cubicBezTo>
                  <a:pt x="8521" y="14670"/>
                  <a:pt x="8618" y="14660"/>
                  <a:pt x="8731" y="14660"/>
                </a:cubicBezTo>
              </a:path>
              <a:path w="5111" h="2680">
                <a:moveTo>
                  <a:pt x="8558" y="14858"/>
                </a:moveTo>
                <a:cubicBezTo>
                  <a:pt x="8646" y="14902"/>
                  <a:pt x="8713" y="14940"/>
                  <a:pt x="8806" y="14957"/>
                </a:cubicBezTo>
                <a:cubicBezTo>
                  <a:pt x="8847" y="14965"/>
                  <a:pt x="8889" y="14974"/>
                  <a:pt x="8930" y="149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Ink 28"/>
          <p:cNvSpPr/>
          <p:nvPr/>
        </p:nvSpPr>
        <p:spPr>
          <a:xfrm>
            <a:off x="3367080" y="4991040"/>
            <a:ext cx="150840" cy="268200"/>
          </a:xfrm>
          <a:custGeom>
            <a:avLst/>
            <a:gdLst/>
            <a:ahLst/>
            <a:rect l="l" t="t" r="r" b="b"/>
            <a:pathLst>
              <a:path w="423" h="745">
                <a:moveTo>
                  <a:pt x="9351" y="13915"/>
                </a:moveTo>
                <a:cubicBezTo>
                  <a:pt x="9427" y="13891"/>
                  <a:pt x="9523" y="13845"/>
                  <a:pt x="9599" y="13891"/>
                </a:cubicBezTo>
                <a:cubicBezTo>
                  <a:pt x="9671" y="13934"/>
                  <a:pt x="9728" y="13997"/>
                  <a:pt x="9674" y="14064"/>
                </a:cubicBezTo>
                <a:cubicBezTo>
                  <a:pt x="9634" y="14114"/>
                  <a:pt x="9578" y="14156"/>
                  <a:pt x="9525" y="14188"/>
                </a:cubicBezTo>
                <a:cubicBezTo>
                  <a:pt x="9449" y="14234"/>
                  <a:pt x="9395" y="14196"/>
                  <a:pt x="9500" y="14238"/>
                </a:cubicBezTo>
                <a:cubicBezTo>
                  <a:pt x="9670" y="14306"/>
                  <a:pt x="9650" y="14278"/>
                  <a:pt x="9748" y="14436"/>
                </a:cubicBezTo>
                <a:cubicBezTo>
                  <a:pt x="9770" y="14472"/>
                  <a:pt x="9789" y="14585"/>
                  <a:pt x="9723" y="14610"/>
                </a:cubicBezTo>
                <a:cubicBezTo>
                  <a:pt x="9654" y="14636"/>
                  <a:pt x="9557" y="14598"/>
                  <a:pt x="9500" y="14560"/>
                </a:cubicBezTo>
                <a:cubicBezTo>
                  <a:pt x="9492" y="14552"/>
                  <a:pt x="9483" y="14544"/>
                  <a:pt x="9475" y="145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Ink 29"/>
          <p:cNvSpPr/>
          <p:nvPr/>
        </p:nvSpPr>
        <p:spPr>
          <a:xfrm>
            <a:off x="3313080" y="5357880"/>
            <a:ext cx="330120" cy="384120"/>
          </a:xfrm>
          <a:custGeom>
            <a:avLst/>
            <a:gdLst/>
            <a:ahLst/>
            <a:rect l="l" t="t" r="r" b="b"/>
            <a:pathLst>
              <a:path w="918" h="1067">
                <a:moveTo>
                  <a:pt x="10096" y="14883"/>
                </a:moveTo>
                <a:cubicBezTo>
                  <a:pt x="9971" y="14926"/>
                  <a:pt x="9871" y="14954"/>
                  <a:pt x="9748" y="14982"/>
                </a:cubicBezTo>
                <a:cubicBezTo>
                  <a:pt x="9661" y="15002"/>
                  <a:pt x="9560" y="15023"/>
                  <a:pt x="9475" y="15032"/>
                </a:cubicBezTo>
                <a:cubicBezTo>
                  <a:pt x="9430" y="15037"/>
                  <a:pt x="9237" y="15018"/>
                  <a:pt x="9203" y="15056"/>
                </a:cubicBezTo>
                <a:cubicBezTo>
                  <a:pt x="9203" y="15073"/>
                  <a:pt x="9203" y="15089"/>
                  <a:pt x="9203" y="15106"/>
                </a:cubicBezTo>
              </a:path>
              <a:path w="918" h="1067">
                <a:moveTo>
                  <a:pt x="9773" y="15205"/>
                </a:moveTo>
                <a:cubicBezTo>
                  <a:pt x="9893" y="15214"/>
                  <a:pt x="9909" y="15273"/>
                  <a:pt x="10021" y="15280"/>
                </a:cubicBezTo>
                <a:cubicBezTo>
                  <a:pt x="10054" y="15280"/>
                  <a:pt x="10087" y="15280"/>
                  <a:pt x="10120" y="15280"/>
                </a:cubicBezTo>
              </a:path>
              <a:path w="918" h="1067">
                <a:moveTo>
                  <a:pt x="9823" y="15205"/>
                </a:moveTo>
                <a:cubicBezTo>
                  <a:pt x="9715" y="15254"/>
                  <a:pt x="9699" y="15261"/>
                  <a:pt x="9699" y="15379"/>
                </a:cubicBezTo>
                <a:cubicBezTo>
                  <a:pt x="9699" y="15470"/>
                  <a:pt x="9800" y="15432"/>
                  <a:pt x="9872" y="15453"/>
                </a:cubicBezTo>
                <a:cubicBezTo>
                  <a:pt x="9916" y="15465"/>
                  <a:pt x="10053" y="15504"/>
                  <a:pt x="10071" y="15553"/>
                </a:cubicBezTo>
                <a:cubicBezTo>
                  <a:pt x="10089" y="15601"/>
                  <a:pt x="10084" y="15764"/>
                  <a:pt x="10046" y="15801"/>
                </a:cubicBezTo>
                <a:cubicBezTo>
                  <a:pt x="10004" y="15843"/>
                  <a:pt x="9943" y="15880"/>
                  <a:pt x="9897" y="15925"/>
                </a:cubicBezTo>
                <a:cubicBezTo>
                  <a:pt x="9889" y="15933"/>
                  <a:pt x="9880" y="15941"/>
                  <a:pt x="9872" y="15949"/>
                </a:cubicBezTo>
                <a:cubicBezTo>
                  <a:pt x="9830" y="15908"/>
                  <a:pt x="9807" y="15870"/>
                  <a:pt x="9773" y="15825"/>
                </a:cubicBezTo>
                <a:cubicBezTo>
                  <a:pt x="9730" y="15769"/>
                  <a:pt x="9728" y="15744"/>
                  <a:pt x="9699" y="15677"/>
                </a:cubicBezTo>
                <a:cubicBezTo>
                  <a:pt x="9691" y="15660"/>
                  <a:pt x="9682" y="15644"/>
                  <a:pt x="9674" y="156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Ink 30"/>
          <p:cNvSpPr/>
          <p:nvPr/>
        </p:nvSpPr>
        <p:spPr>
          <a:xfrm>
            <a:off x="4741920" y="3938760"/>
            <a:ext cx="1214280" cy="374400"/>
          </a:xfrm>
          <a:custGeom>
            <a:avLst/>
            <a:gdLst/>
            <a:ahLst/>
            <a:rect l="l" t="t" r="r" b="b"/>
            <a:pathLst>
              <a:path w="3375" h="1043">
                <a:moveTo>
                  <a:pt x="13444" y="10939"/>
                </a:moveTo>
                <a:cubicBezTo>
                  <a:pt x="13444" y="11126"/>
                  <a:pt x="13453" y="11283"/>
                  <a:pt x="13469" y="11460"/>
                </a:cubicBezTo>
                <a:cubicBezTo>
                  <a:pt x="13481" y="11596"/>
                  <a:pt x="13461" y="11730"/>
                  <a:pt x="13444" y="11857"/>
                </a:cubicBezTo>
                <a:cubicBezTo>
                  <a:pt x="13435" y="11926"/>
                  <a:pt x="13463" y="11952"/>
                  <a:pt x="13419" y="11981"/>
                </a:cubicBezTo>
              </a:path>
              <a:path w="3375" h="1043">
                <a:moveTo>
                  <a:pt x="13171" y="11485"/>
                </a:moveTo>
                <a:cubicBezTo>
                  <a:pt x="13256" y="11442"/>
                  <a:pt x="13367" y="11460"/>
                  <a:pt x="13469" y="11460"/>
                </a:cubicBezTo>
                <a:cubicBezTo>
                  <a:pt x="13562" y="11460"/>
                  <a:pt x="13647" y="11485"/>
                  <a:pt x="13742" y="11485"/>
                </a:cubicBezTo>
                <a:cubicBezTo>
                  <a:pt x="13829" y="11485"/>
                  <a:pt x="13900" y="11460"/>
                  <a:pt x="13990" y="11460"/>
                </a:cubicBezTo>
                <a:cubicBezTo>
                  <a:pt x="13928" y="11514"/>
                  <a:pt x="13873" y="11557"/>
                  <a:pt x="13816" y="11609"/>
                </a:cubicBezTo>
                <a:cubicBezTo>
                  <a:pt x="13777" y="11644"/>
                  <a:pt x="13664" y="11765"/>
                  <a:pt x="13667" y="11832"/>
                </a:cubicBezTo>
                <a:cubicBezTo>
                  <a:pt x="13671" y="11915"/>
                  <a:pt x="13716" y="11977"/>
                  <a:pt x="13791" y="11981"/>
                </a:cubicBezTo>
                <a:cubicBezTo>
                  <a:pt x="13836" y="11984"/>
                  <a:pt x="13957" y="11964"/>
                  <a:pt x="13990" y="11931"/>
                </a:cubicBezTo>
                <a:cubicBezTo>
                  <a:pt x="14037" y="11884"/>
                  <a:pt x="14040" y="11805"/>
                  <a:pt x="14064" y="11757"/>
                </a:cubicBezTo>
                <a:cubicBezTo>
                  <a:pt x="14093" y="11701"/>
                  <a:pt x="14089" y="11653"/>
                  <a:pt x="14089" y="11584"/>
                </a:cubicBezTo>
                <a:cubicBezTo>
                  <a:pt x="14035" y="11651"/>
                  <a:pt x="14039" y="11697"/>
                  <a:pt x="14039" y="11782"/>
                </a:cubicBezTo>
                <a:cubicBezTo>
                  <a:pt x="14039" y="11843"/>
                  <a:pt x="14019" y="11925"/>
                  <a:pt x="14089" y="11956"/>
                </a:cubicBezTo>
                <a:cubicBezTo>
                  <a:pt x="14097" y="11956"/>
                  <a:pt x="14106" y="11956"/>
                  <a:pt x="14114" y="11956"/>
                </a:cubicBezTo>
              </a:path>
              <a:path w="3375" h="1043">
                <a:moveTo>
                  <a:pt x="14238" y="11609"/>
                </a:moveTo>
                <a:cubicBezTo>
                  <a:pt x="14238" y="11743"/>
                  <a:pt x="14221" y="11766"/>
                  <a:pt x="14263" y="11832"/>
                </a:cubicBezTo>
                <a:cubicBezTo>
                  <a:pt x="14263" y="11719"/>
                  <a:pt x="14263" y="11620"/>
                  <a:pt x="14288" y="11509"/>
                </a:cubicBezTo>
                <a:cubicBezTo>
                  <a:pt x="14308" y="11425"/>
                  <a:pt x="14303" y="11399"/>
                  <a:pt x="14362" y="11385"/>
                </a:cubicBezTo>
                <a:cubicBezTo>
                  <a:pt x="14463" y="11414"/>
                  <a:pt x="14433" y="11441"/>
                  <a:pt x="14461" y="11534"/>
                </a:cubicBezTo>
                <a:cubicBezTo>
                  <a:pt x="14483" y="11606"/>
                  <a:pt x="14499" y="11684"/>
                  <a:pt x="14511" y="11757"/>
                </a:cubicBezTo>
                <a:cubicBezTo>
                  <a:pt x="14523" y="11834"/>
                  <a:pt x="14504" y="11848"/>
                  <a:pt x="14560" y="11906"/>
                </a:cubicBezTo>
              </a:path>
              <a:path w="3375" h="1043">
                <a:moveTo>
                  <a:pt x="14734" y="11237"/>
                </a:moveTo>
                <a:cubicBezTo>
                  <a:pt x="14769" y="11188"/>
                  <a:pt x="14811" y="11124"/>
                  <a:pt x="14883" y="11137"/>
                </a:cubicBezTo>
                <a:cubicBezTo>
                  <a:pt x="14995" y="11157"/>
                  <a:pt x="15035" y="11219"/>
                  <a:pt x="15081" y="11311"/>
                </a:cubicBezTo>
                <a:cubicBezTo>
                  <a:pt x="15124" y="11398"/>
                  <a:pt x="15095" y="11450"/>
                  <a:pt x="15056" y="11534"/>
                </a:cubicBezTo>
                <a:cubicBezTo>
                  <a:pt x="15019" y="11614"/>
                  <a:pt x="14991" y="11709"/>
                  <a:pt x="14957" y="11782"/>
                </a:cubicBezTo>
                <a:cubicBezTo>
                  <a:pt x="14944" y="11810"/>
                  <a:pt x="14949" y="11885"/>
                  <a:pt x="15007" y="11906"/>
                </a:cubicBezTo>
                <a:cubicBezTo>
                  <a:pt x="15079" y="11932"/>
                  <a:pt x="15133" y="11869"/>
                  <a:pt x="15180" y="11832"/>
                </a:cubicBezTo>
              </a:path>
              <a:path w="3375" h="1043">
                <a:moveTo>
                  <a:pt x="15503" y="11187"/>
                </a:moveTo>
                <a:cubicBezTo>
                  <a:pt x="15424" y="11328"/>
                  <a:pt x="15329" y="11460"/>
                  <a:pt x="15354" y="11633"/>
                </a:cubicBezTo>
                <a:cubicBezTo>
                  <a:pt x="15372" y="11757"/>
                  <a:pt x="15392" y="11776"/>
                  <a:pt x="15478" y="11857"/>
                </a:cubicBezTo>
                <a:cubicBezTo>
                  <a:pt x="15554" y="11928"/>
                  <a:pt x="15653" y="11929"/>
                  <a:pt x="15751" y="11881"/>
                </a:cubicBezTo>
                <a:cubicBezTo>
                  <a:pt x="15813" y="11851"/>
                  <a:pt x="15865" y="11716"/>
                  <a:pt x="15875" y="11658"/>
                </a:cubicBezTo>
                <a:cubicBezTo>
                  <a:pt x="15889" y="11578"/>
                  <a:pt x="15888" y="11456"/>
                  <a:pt x="15850" y="11385"/>
                </a:cubicBezTo>
                <a:cubicBezTo>
                  <a:pt x="15808" y="11307"/>
                  <a:pt x="15778" y="11253"/>
                  <a:pt x="15701" y="11212"/>
                </a:cubicBezTo>
                <a:cubicBezTo>
                  <a:pt x="15646" y="11183"/>
                  <a:pt x="15613" y="11187"/>
                  <a:pt x="15553" y="11187"/>
                </a:cubicBezTo>
              </a:path>
              <a:path w="3375" h="1043">
                <a:moveTo>
                  <a:pt x="15205" y="11435"/>
                </a:moveTo>
                <a:cubicBezTo>
                  <a:pt x="15265" y="11471"/>
                  <a:pt x="15330" y="11460"/>
                  <a:pt x="15404" y="11460"/>
                </a:cubicBezTo>
                <a:cubicBezTo>
                  <a:pt x="15536" y="11460"/>
                  <a:pt x="15669" y="11460"/>
                  <a:pt x="15801" y="11460"/>
                </a:cubicBezTo>
              </a:path>
              <a:path w="3375" h="1043">
                <a:moveTo>
                  <a:pt x="16148" y="11410"/>
                </a:moveTo>
                <a:cubicBezTo>
                  <a:pt x="16222" y="11410"/>
                  <a:pt x="16297" y="11410"/>
                  <a:pt x="16371" y="11410"/>
                </a:cubicBezTo>
              </a:path>
              <a:path w="3375" h="1043">
                <a:moveTo>
                  <a:pt x="16173" y="11584"/>
                </a:moveTo>
                <a:cubicBezTo>
                  <a:pt x="16283" y="11584"/>
                  <a:pt x="16391" y="11597"/>
                  <a:pt x="16495" y="11559"/>
                </a:cubicBezTo>
                <a:cubicBezTo>
                  <a:pt x="16512" y="11551"/>
                  <a:pt x="16528" y="11542"/>
                  <a:pt x="16545" y="115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Ink 31"/>
          <p:cNvSpPr/>
          <p:nvPr/>
        </p:nvSpPr>
        <p:spPr>
          <a:xfrm>
            <a:off x="5357880" y="1490760"/>
            <a:ext cx="2019240" cy="1536480"/>
          </a:xfrm>
          <a:custGeom>
            <a:avLst/>
            <a:gdLst/>
            <a:ahLst/>
            <a:rect l="l" t="t" r="r" b="b"/>
            <a:pathLst>
              <a:path w="5607" h="4268">
                <a:moveTo>
                  <a:pt x="14908" y="8409"/>
                </a:moveTo>
                <a:cubicBezTo>
                  <a:pt x="14963" y="8359"/>
                  <a:pt x="15024" y="8311"/>
                  <a:pt x="15081" y="8260"/>
                </a:cubicBezTo>
                <a:cubicBezTo>
                  <a:pt x="15306" y="8059"/>
                  <a:pt x="15537" y="7878"/>
                  <a:pt x="15776" y="7689"/>
                </a:cubicBezTo>
                <a:cubicBezTo>
                  <a:pt x="15953" y="7550"/>
                  <a:pt x="16120" y="7404"/>
                  <a:pt x="16297" y="7268"/>
                </a:cubicBezTo>
                <a:cubicBezTo>
                  <a:pt x="16869" y="6828"/>
                  <a:pt x="17402" y="6337"/>
                  <a:pt x="17934" y="5854"/>
                </a:cubicBezTo>
                <a:cubicBezTo>
                  <a:pt x="18133" y="5673"/>
                  <a:pt x="18330" y="5489"/>
                  <a:pt x="18529" y="5308"/>
                </a:cubicBezTo>
                <a:cubicBezTo>
                  <a:pt x="18716" y="5139"/>
                  <a:pt x="18904" y="4972"/>
                  <a:pt x="19100" y="4812"/>
                </a:cubicBezTo>
                <a:cubicBezTo>
                  <a:pt x="19289" y="4658"/>
                  <a:pt x="19479" y="4518"/>
                  <a:pt x="19670" y="4366"/>
                </a:cubicBezTo>
                <a:cubicBezTo>
                  <a:pt x="19774" y="4284"/>
                  <a:pt x="19853" y="4200"/>
                  <a:pt x="19968" y="4142"/>
                </a:cubicBezTo>
                <a:cubicBezTo>
                  <a:pt x="19984" y="4142"/>
                  <a:pt x="20001" y="4142"/>
                  <a:pt x="20017" y="4142"/>
                </a:cubicBezTo>
                <a:cubicBezTo>
                  <a:pt x="20035" y="4225"/>
                  <a:pt x="20060" y="4318"/>
                  <a:pt x="20067" y="4415"/>
                </a:cubicBezTo>
                <a:cubicBezTo>
                  <a:pt x="20094" y="4794"/>
                  <a:pt x="20068" y="5177"/>
                  <a:pt x="20092" y="5556"/>
                </a:cubicBezTo>
                <a:cubicBezTo>
                  <a:pt x="20107" y="5789"/>
                  <a:pt x="20129" y="6019"/>
                  <a:pt x="20166" y="6251"/>
                </a:cubicBezTo>
                <a:cubicBezTo>
                  <a:pt x="20239" y="6712"/>
                  <a:pt x="20346" y="7161"/>
                  <a:pt x="20439" y="7615"/>
                </a:cubicBezTo>
                <a:cubicBezTo>
                  <a:pt x="20460" y="7718"/>
                  <a:pt x="20482" y="7858"/>
                  <a:pt x="20489" y="7962"/>
                </a:cubicBezTo>
                <a:cubicBezTo>
                  <a:pt x="20497" y="8090"/>
                  <a:pt x="20511" y="8167"/>
                  <a:pt x="20439" y="8260"/>
                </a:cubicBezTo>
                <a:cubicBezTo>
                  <a:pt x="20384" y="8331"/>
                  <a:pt x="20262" y="8298"/>
                  <a:pt x="20191" y="8310"/>
                </a:cubicBezTo>
                <a:cubicBezTo>
                  <a:pt x="20066" y="8331"/>
                  <a:pt x="19949" y="8332"/>
                  <a:pt x="19819" y="8334"/>
                </a:cubicBezTo>
                <a:cubicBezTo>
                  <a:pt x="19502" y="8338"/>
                  <a:pt x="19192" y="8313"/>
                  <a:pt x="18876" y="8310"/>
                </a:cubicBezTo>
                <a:cubicBezTo>
                  <a:pt x="18103" y="8303"/>
                  <a:pt x="17314" y="8273"/>
                  <a:pt x="16545" y="8334"/>
                </a:cubicBezTo>
                <a:cubicBezTo>
                  <a:pt x="16281" y="8355"/>
                  <a:pt x="16014" y="8337"/>
                  <a:pt x="15751" y="8359"/>
                </a:cubicBezTo>
                <a:cubicBezTo>
                  <a:pt x="15523" y="8378"/>
                  <a:pt x="15285" y="8415"/>
                  <a:pt x="15056" y="8409"/>
                </a:cubicBezTo>
                <a:cubicBezTo>
                  <a:pt x="14986" y="8407"/>
                  <a:pt x="14947" y="8389"/>
                  <a:pt x="14883" y="8384"/>
                </a:cubicBezTo>
                <a:cubicBezTo>
                  <a:pt x="14891" y="8384"/>
                  <a:pt x="14900" y="8384"/>
                  <a:pt x="14908" y="83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Ink 32"/>
          <p:cNvSpPr/>
          <p:nvPr/>
        </p:nvSpPr>
        <p:spPr>
          <a:xfrm>
            <a:off x="5946840" y="2224080"/>
            <a:ext cx="71280" cy="61920"/>
          </a:xfrm>
          <a:custGeom>
            <a:avLst/>
            <a:gdLst/>
            <a:ahLst/>
            <a:rect l="l" t="t" r="r" b="b"/>
            <a:pathLst>
              <a:path w="199" h="175">
                <a:moveTo>
                  <a:pt x="16520" y="6176"/>
                </a:moveTo>
                <a:cubicBezTo>
                  <a:pt x="16639" y="6176"/>
                  <a:pt x="16632" y="6159"/>
                  <a:pt x="16669" y="6251"/>
                </a:cubicBezTo>
                <a:cubicBezTo>
                  <a:pt x="16685" y="6284"/>
                  <a:pt x="16702" y="6317"/>
                  <a:pt x="16718" y="63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Ink 33"/>
          <p:cNvSpPr/>
          <p:nvPr/>
        </p:nvSpPr>
        <p:spPr>
          <a:xfrm>
            <a:off x="5892840" y="1938240"/>
            <a:ext cx="162000" cy="374760"/>
          </a:xfrm>
          <a:custGeom>
            <a:avLst/>
            <a:gdLst/>
            <a:ahLst/>
            <a:rect l="l" t="t" r="r" b="b"/>
            <a:pathLst>
              <a:path w="448" h="1042">
                <a:moveTo>
                  <a:pt x="16768" y="6400"/>
                </a:moveTo>
                <a:cubicBezTo>
                  <a:pt x="16785" y="6408"/>
                  <a:pt x="16801" y="6416"/>
                  <a:pt x="16818" y="6424"/>
                </a:cubicBezTo>
                <a:cubicBezTo>
                  <a:pt x="16722" y="6411"/>
                  <a:pt x="16734" y="6377"/>
                  <a:pt x="16669" y="6300"/>
                </a:cubicBezTo>
                <a:cubicBezTo>
                  <a:pt x="16618" y="6240"/>
                  <a:pt x="16556" y="6193"/>
                  <a:pt x="16520" y="6127"/>
                </a:cubicBezTo>
                <a:cubicBezTo>
                  <a:pt x="16510" y="6108"/>
                  <a:pt x="16369" y="5878"/>
                  <a:pt x="16371" y="5829"/>
                </a:cubicBezTo>
                <a:cubicBezTo>
                  <a:pt x="16375" y="5712"/>
                  <a:pt x="16422" y="5672"/>
                  <a:pt x="16495" y="5606"/>
                </a:cubicBezTo>
                <a:cubicBezTo>
                  <a:pt x="16550" y="5556"/>
                  <a:pt x="16583" y="5504"/>
                  <a:pt x="16644" y="5457"/>
                </a:cubicBezTo>
                <a:cubicBezTo>
                  <a:pt x="16671" y="5437"/>
                  <a:pt x="16694" y="5407"/>
                  <a:pt x="16718" y="53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Ink 34"/>
          <p:cNvSpPr/>
          <p:nvPr/>
        </p:nvSpPr>
        <p:spPr>
          <a:xfrm>
            <a:off x="5991120" y="1982880"/>
            <a:ext cx="73080" cy="71280"/>
          </a:xfrm>
          <a:custGeom>
            <a:avLst/>
            <a:gdLst/>
            <a:ahLst/>
            <a:rect l="l" t="t" r="r" b="b"/>
            <a:pathLst>
              <a:path w="199" h="199">
                <a:moveTo>
                  <a:pt x="16644" y="5705"/>
                </a:moveTo>
                <a:cubicBezTo>
                  <a:pt x="16693" y="5646"/>
                  <a:pt x="16726" y="5656"/>
                  <a:pt x="16793" y="5606"/>
                </a:cubicBezTo>
                <a:cubicBezTo>
                  <a:pt x="16828" y="5580"/>
                  <a:pt x="16834" y="5546"/>
                  <a:pt x="16842" y="55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Ink 35"/>
          <p:cNvSpPr/>
          <p:nvPr/>
        </p:nvSpPr>
        <p:spPr>
          <a:xfrm>
            <a:off x="6010200" y="2071800"/>
            <a:ext cx="150840" cy="142920"/>
          </a:xfrm>
          <a:custGeom>
            <a:avLst/>
            <a:gdLst/>
            <a:ahLst/>
            <a:rect l="l" t="t" r="r" b="b"/>
            <a:pathLst>
              <a:path w="422" h="398">
                <a:moveTo>
                  <a:pt x="16718" y="5755"/>
                </a:moveTo>
                <a:cubicBezTo>
                  <a:pt x="16704" y="5894"/>
                  <a:pt x="16663" y="5934"/>
                  <a:pt x="16793" y="5953"/>
                </a:cubicBezTo>
                <a:cubicBezTo>
                  <a:pt x="16812" y="5915"/>
                  <a:pt x="16843" y="5818"/>
                  <a:pt x="16892" y="5804"/>
                </a:cubicBezTo>
                <a:cubicBezTo>
                  <a:pt x="16959" y="5785"/>
                  <a:pt x="17053" y="5856"/>
                  <a:pt x="17090" y="5904"/>
                </a:cubicBezTo>
                <a:cubicBezTo>
                  <a:pt x="17154" y="5987"/>
                  <a:pt x="17099" y="6028"/>
                  <a:pt x="17041" y="6077"/>
                </a:cubicBezTo>
                <a:cubicBezTo>
                  <a:pt x="16982" y="6127"/>
                  <a:pt x="16946" y="6129"/>
                  <a:pt x="16867" y="61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Ink 36"/>
          <p:cNvSpPr/>
          <p:nvPr/>
        </p:nvSpPr>
        <p:spPr>
          <a:xfrm>
            <a:off x="7224840" y="2160720"/>
            <a:ext cx="152280" cy="36360"/>
          </a:xfrm>
          <a:custGeom>
            <a:avLst/>
            <a:gdLst/>
            <a:ahLst/>
            <a:rect l="l" t="t" r="r" b="b"/>
            <a:pathLst>
              <a:path w="423" h="100">
                <a:moveTo>
                  <a:pt x="20067" y="6052"/>
                </a:moveTo>
                <a:cubicBezTo>
                  <a:pt x="20127" y="6017"/>
                  <a:pt x="20191" y="6028"/>
                  <a:pt x="20265" y="6028"/>
                </a:cubicBezTo>
                <a:cubicBezTo>
                  <a:pt x="20346" y="6028"/>
                  <a:pt x="20526" y="5955"/>
                  <a:pt x="20439" y="6003"/>
                </a:cubicBezTo>
                <a:cubicBezTo>
                  <a:pt x="20383" y="6034"/>
                  <a:pt x="20285" y="6044"/>
                  <a:pt x="20216" y="6052"/>
                </a:cubicBezTo>
                <a:cubicBezTo>
                  <a:pt x="20139" y="6061"/>
                  <a:pt x="20124" y="6045"/>
                  <a:pt x="20067" y="61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fff99"/>
                </a:solidFill>
                <a:latin typeface="Tahoma"/>
              </a:rPr>
              <a:t>Lesson 5.5</a:t>
            </a:r>
            <a:br>
              <a:rPr sz="8500"/>
            </a:br>
            <a:r>
              <a:rPr b="0" lang="en-US" sz="8500" spc="-1" strike="noStrike">
                <a:solidFill>
                  <a:srgbClr val="ffff99"/>
                </a:solidFill>
                <a:latin typeface="Tahoma"/>
              </a:rPr>
              <a:t>part two</a:t>
            </a:r>
            <a:endParaRPr b="0" lang="en-US" sz="85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99"/>
                </a:solidFill>
                <a:latin typeface="Tahoma"/>
              </a:rPr>
              <a:t>Half Angle Formulas</a:t>
            </a:r>
            <a:endParaRPr b="0" lang="en-US" sz="75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Use the figure to find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s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Arial"/>
              </a:rPr>
              <a:t>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Cos </a:t>
            </a:r>
            <a:r>
              <a:rPr b="0" lang="el-GR" sz="32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  <a:ea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Tan </a:t>
            </a:r>
            <a:r>
              <a:rPr b="0" lang="el-GR" sz="32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  <a:ea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Ink 4"/>
          <p:cNvSpPr/>
          <p:nvPr/>
        </p:nvSpPr>
        <p:spPr>
          <a:xfrm>
            <a:off x="5902200" y="2751120"/>
            <a:ext cx="258840" cy="222120"/>
          </a:xfrm>
          <a:custGeom>
            <a:avLst/>
            <a:gdLst/>
            <a:ahLst/>
            <a:rect l="l" t="t" r="r" b="b"/>
            <a:pathLst>
              <a:path w="720" h="621">
                <a:moveTo>
                  <a:pt x="16694" y="7640"/>
                </a:moveTo>
                <a:cubicBezTo>
                  <a:pt x="16644" y="7689"/>
                  <a:pt x="16595" y="7740"/>
                  <a:pt x="16545" y="7789"/>
                </a:cubicBezTo>
                <a:cubicBezTo>
                  <a:pt x="16517" y="7817"/>
                  <a:pt x="16479" y="7919"/>
                  <a:pt x="16470" y="7962"/>
                </a:cubicBezTo>
                <a:cubicBezTo>
                  <a:pt x="16456" y="8034"/>
                  <a:pt x="16447" y="8095"/>
                  <a:pt x="16470" y="8161"/>
                </a:cubicBezTo>
                <a:cubicBezTo>
                  <a:pt x="16502" y="8250"/>
                  <a:pt x="16545" y="8286"/>
                  <a:pt x="16644" y="8260"/>
                </a:cubicBezTo>
                <a:cubicBezTo>
                  <a:pt x="16709" y="8243"/>
                  <a:pt x="16802" y="8189"/>
                  <a:pt x="16842" y="8136"/>
                </a:cubicBezTo>
                <a:cubicBezTo>
                  <a:pt x="16898" y="8063"/>
                  <a:pt x="16892" y="7974"/>
                  <a:pt x="16892" y="7888"/>
                </a:cubicBezTo>
                <a:cubicBezTo>
                  <a:pt x="16892" y="7817"/>
                  <a:pt x="16882" y="7756"/>
                  <a:pt x="16818" y="7714"/>
                </a:cubicBezTo>
                <a:cubicBezTo>
                  <a:pt x="16770" y="7683"/>
                  <a:pt x="16697" y="7668"/>
                  <a:pt x="16644" y="7665"/>
                </a:cubicBezTo>
                <a:cubicBezTo>
                  <a:pt x="16557" y="7660"/>
                  <a:pt x="16560" y="7686"/>
                  <a:pt x="16495" y="7714"/>
                </a:cubicBezTo>
                <a:cubicBezTo>
                  <a:pt x="16487" y="7714"/>
                  <a:pt x="16478" y="7714"/>
                  <a:pt x="16470" y="7714"/>
                </a:cubicBezTo>
              </a:path>
              <a:path w="720" h="621">
                <a:moveTo>
                  <a:pt x="16396" y="7913"/>
                </a:moveTo>
                <a:cubicBezTo>
                  <a:pt x="16451" y="7946"/>
                  <a:pt x="16502" y="7938"/>
                  <a:pt x="16570" y="7938"/>
                </a:cubicBezTo>
                <a:cubicBezTo>
                  <a:pt x="16666" y="7938"/>
                  <a:pt x="16747" y="7917"/>
                  <a:pt x="16842" y="7913"/>
                </a:cubicBezTo>
                <a:cubicBezTo>
                  <a:pt x="16918" y="7910"/>
                  <a:pt x="17051" y="7927"/>
                  <a:pt x="17115" y="7888"/>
                </a:cubicBezTo>
                <a:cubicBezTo>
                  <a:pt x="17115" y="7880"/>
                  <a:pt x="17115" y="7871"/>
                  <a:pt x="17115" y="78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Ink 5"/>
          <p:cNvSpPr/>
          <p:nvPr/>
        </p:nvSpPr>
        <p:spPr>
          <a:xfrm>
            <a:off x="6562800" y="3152880"/>
            <a:ext cx="125280" cy="285480"/>
          </a:xfrm>
          <a:custGeom>
            <a:avLst/>
            <a:gdLst/>
            <a:ahLst/>
            <a:rect l="l" t="t" r="r" b="b"/>
            <a:pathLst>
              <a:path w="349" h="795">
                <a:moveTo>
                  <a:pt x="18306" y="8806"/>
                </a:moveTo>
                <a:cubicBezTo>
                  <a:pt x="18325" y="8872"/>
                  <a:pt x="18303" y="8911"/>
                  <a:pt x="18256" y="8979"/>
                </a:cubicBezTo>
                <a:cubicBezTo>
                  <a:pt x="18207" y="9049"/>
                  <a:pt x="18292" y="9068"/>
                  <a:pt x="18355" y="9079"/>
                </a:cubicBezTo>
                <a:cubicBezTo>
                  <a:pt x="18426" y="9091"/>
                  <a:pt x="18497" y="9070"/>
                  <a:pt x="18554" y="9054"/>
                </a:cubicBezTo>
                <a:cubicBezTo>
                  <a:pt x="18562" y="9054"/>
                  <a:pt x="18571" y="9054"/>
                  <a:pt x="18579" y="9054"/>
                </a:cubicBezTo>
              </a:path>
              <a:path w="349" h="795">
                <a:moveTo>
                  <a:pt x="18554" y="8756"/>
                </a:moveTo>
                <a:cubicBezTo>
                  <a:pt x="18525" y="8834"/>
                  <a:pt x="18546" y="8899"/>
                  <a:pt x="18529" y="8979"/>
                </a:cubicBezTo>
                <a:cubicBezTo>
                  <a:pt x="18509" y="9075"/>
                  <a:pt x="18504" y="9153"/>
                  <a:pt x="18504" y="9252"/>
                </a:cubicBezTo>
                <a:cubicBezTo>
                  <a:pt x="18504" y="9304"/>
                  <a:pt x="18512" y="9526"/>
                  <a:pt x="18479" y="9550"/>
                </a:cubicBezTo>
                <a:cubicBezTo>
                  <a:pt x="18463" y="9542"/>
                  <a:pt x="18446" y="9533"/>
                  <a:pt x="18430" y="95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Ink 6"/>
          <p:cNvSpPr/>
          <p:nvPr/>
        </p:nvSpPr>
        <p:spPr>
          <a:xfrm>
            <a:off x="7402680" y="2911320"/>
            <a:ext cx="241200" cy="169920"/>
          </a:xfrm>
          <a:custGeom>
            <a:avLst/>
            <a:gdLst/>
            <a:ahLst/>
            <a:rect l="l" t="t" r="r" b="b"/>
            <a:pathLst>
              <a:path w="671" h="473">
                <a:moveTo>
                  <a:pt x="21158" y="8111"/>
                </a:moveTo>
                <a:cubicBezTo>
                  <a:pt x="21203" y="8111"/>
                  <a:pt x="21216" y="8114"/>
                  <a:pt x="21233" y="8086"/>
                </a:cubicBezTo>
                <a:cubicBezTo>
                  <a:pt x="21166" y="8086"/>
                  <a:pt x="21113" y="8100"/>
                  <a:pt x="21059" y="8111"/>
                </a:cubicBezTo>
                <a:cubicBezTo>
                  <a:pt x="20908" y="8142"/>
                  <a:pt x="20718" y="8111"/>
                  <a:pt x="20563" y="8111"/>
                </a:cubicBezTo>
                <a:cubicBezTo>
                  <a:pt x="20666" y="8126"/>
                  <a:pt x="20658" y="8184"/>
                  <a:pt x="20662" y="8285"/>
                </a:cubicBezTo>
                <a:cubicBezTo>
                  <a:pt x="20665" y="8357"/>
                  <a:pt x="20678" y="8417"/>
                  <a:pt x="20687" y="8483"/>
                </a:cubicBezTo>
                <a:cubicBezTo>
                  <a:pt x="20687" y="8541"/>
                  <a:pt x="20704" y="8566"/>
                  <a:pt x="20662" y="85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Ink 7"/>
          <p:cNvSpPr/>
          <p:nvPr/>
        </p:nvSpPr>
        <p:spPr>
          <a:xfrm>
            <a:off x="231840" y="3438360"/>
            <a:ext cx="3216240" cy="1204920"/>
          </a:xfrm>
          <a:custGeom>
            <a:avLst/>
            <a:gdLst/>
            <a:ahLst/>
            <a:rect l="l" t="t" r="r" b="b"/>
            <a:pathLst>
              <a:path w="8931" h="3349">
                <a:moveTo>
                  <a:pt x="943" y="9773"/>
                </a:moveTo>
                <a:cubicBezTo>
                  <a:pt x="978" y="9833"/>
                  <a:pt x="967" y="9897"/>
                  <a:pt x="967" y="9971"/>
                </a:cubicBezTo>
                <a:cubicBezTo>
                  <a:pt x="967" y="10153"/>
                  <a:pt x="967" y="10335"/>
                  <a:pt x="967" y="10517"/>
                </a:cubicBezTo>
              </a:path>
              <a:path w="8931" h="3349">
                <a:moveTo>
                  <a:pt x="645" y="10120"/>
                </a:moveTo>
                <a:cubicBezTo>
                  <a:pt x="720" y="10076"/>
                  <a:pt x="803" y="10116"/>
                  <a:pt x="893" y="10120"/>
                </a:cubicBezTo>
                <a:cubicBezTo>
                  <a:pt x="967" y="10123"/>
                  <a:pt x="1023" y="10134"/>
                  <a:pt x="1091" y="10145"/>
                </a:cubicBezTo>
                <a:cubicBezTo>
                  <a:pt x="1108" y="10145"/>
                  <a:pt x="1124" y="10145"/>
                  <a:pt x="1141" y="10145"/>
                </a:cubicBezTo>
              </a:path>
              <a:path w="8931" h="3349">
                <a:moveTo>
                  <a:pt x="1364" y="10145"/>
                </a:moveTo>
                <a:cubicBezTo>
                  <a:pt x="1291" y="10187"/>
                  <a:pt x="1241" y="10233"/>
                  <a:pt x="1191" y="10294"/>
                </a:cubicBezTo>
                <a:cubicBezTo>
                  <a:pt x="1158" y="10334"/>
                  <a:pt x="1150" y="10440"/>
                  <a:pt x="1166" y="10492"/>
                </a:cubicBezTo>
                <a:cubicBezTo>
                  <a:pt x="1183" y="10547"/>
                  <a:pt x="1267" y="10580"/>
                  <a:pt x="1315" y="10567"/>
                </a:cubicBezTo>
                <a:cubicBezTo>
                  <a:pt x="1368" y="10553"/>
                  <a:pt x="1412" y="10460"/>
                  <a:pt x="1414" y="10418"/>
                </a:cubicBezTo>
                <a:cubicBezTo>
                  <a:pt x="1414" y="10352"/>
                  <a:pt x="1414" y="10335"/>
                  <a:pt x="1414" y="10294"/>
                </a:cubicBezTo>
                <a:cubicBezTo>
                  <a:pt x="1414" y="10362"/>
                  <a:pt x="1398" y="10439"/>
                  <a:pt x="1439" y="10492"/>
                </a:cubicBezTo>
                <a:cubicBezTo>
                  <a:pt x="1473" y="10535"/>
                  <a:pt x="1498" y="10577"/>
                  <a:pt x="1538" y="10616"/>
                </a:cubicBezTo>
                <a:cubicBezTo>
                  <a:pt x="1593" y="10670"/>
                  <a:pt x="1589" y="10656"/>
                  <a:pt x="1662" y="10641"/>
                </a:cubicBezTo>
              </a:path>
              <a:path w="8931" h="3349">
                <a:moveTo>
                  <a:pt x="1662" y="10418"/>
                </a:moveTo>
                <a:cubicBezTo>
                  <a:pt x="1638" y="10458"/>
                  <a:pt x="1617" y="10540"/>
                  <a:pt x="1637" y="10592"/>
                </a:cubicBezTo>
                <a:cubicBezTo>
                  <a:pt x="1645" y="10600"/>
                  <a:pt x="1654" y="10608"/>
                  <a:pt x="1662" y="10616"/>
                </a:cubicBezTo>
                <a:cubicBezTo>
                  <a:pt x="1702" y="10551"/>
                  <a:pt x="1692" y="10448"/>
                  <a:pt x="1712" y="10368"/>
                </a:cubicBezTo>
                <a:cubicBezTo>
                  <a:pt x="1724" y="10321"/>
                  <a:pt x="1760" y="10190"/>
                  <a:pt x="1836" y="10195"/>
                </a:cubicBezTo>
                <a:cubicBezTo>
                  <a:pt x="1885" y="10198"/>
                  <a:pt x="1950" y="10276"/>
                  <a:pt x="1960" y="10319"/>
                </a:cubicBezTo>
                <a:cubicBezTo>
                  <a:pt x="1977" y="10390"/>
                  <a:pt x="2011" y="10446"/>
                  <a:pt x="2034" y="10517"/>
                </a:cubicBezTo>
                <a:cubicBezTo>
                  <a:pt x="2056" y="10585"/>
                  <a:pt x="2069" y="10655"/>
                  <a:pt x="2084" y="10716"/>
                </a:cubicBezTo>
              </a:path>
              <a:path w="8931" h="3349">
                <a:moveTo>
                  <a:pt x="2282" y="9723"/>
                </a:moveTo>
                <a:cubicBezTo>
                  <a:pt x="2282" y="9800"/>
                  <a:pt x="2260" y="9853"/>
                  <a:pt x="2257" y="9922"/>
                </a:cubicBezTo>
                <a:cubicBezTo>
                  <a:pt x="2254" y="9978"/>
                  <a:pt x="2253" y="10128"/>
                  <a:pt x="2332" y="10145"/>
                </a:cubicBezTo>
                <a:cubicBezTo>
                  <a:pt x="2393" y="10158"/>
                  <a:pt x="2492" y="10124"/>
                  <a:pt x="2530" y="10071"/>
                </a:cubicBezTo>
                <a:cubicBezTo>
                  <a:pt x="2582" y="9999"/>
                  <a:pt x="2580" y="9932"/>
                  <a:pt x="2580" y="9847"/>
                </a:cubicBezTo>
                <a:cubicBezTo>
                  <a:pt x="2580" y="9775"/>
                  <a:pt x="2553" y="9747"/>
                  <a:pt x="2505" y="9699"/>
                </a:cubicBezTo>
                <a:cubicBezTo>
                  <a:pt x="2464" y="9658"/>
                  <a:pt x="2392" y="9626"/>
                  <a:pt x="2332" y="9649"/>
                </a:cubicBezTo>
                <a:cubicBezTo>
                  <a:pt x="2300" y="9661"/>
                  <a:pt x="2289" y="9697"/>
                  <a:pt x="2282" y="9723"/>
                </a:cubicBezTo>
              </a:path>
              <a:path w="8931" h="3349">
                <a:moveTo>
                  <a:pt x="2208" y="9947"/>
                </a:moveTo>
                <a:cubicBezTo>
                  <a:pt x="2284" y="9918"/>
                  <a:pt x="2348" y="9922"/>
                  <a:pt x="2431" y="9922"/>
                </a:cubicBezTo>
                <a:cubicBezTo>
                  <a:pt x="2514" y="9922"/>
                  <a:pt x="2596" y="9922"/>
                  <a:pt x="2679" y="9922"/>
                </a:cubicBezTo>
              </a:path>
              <a:path w="8931" h="3349">
                <a:moveTo>
                  <a:pt x="2208" y="10195"/>
                </a:moveTo>
                <a:cubicBezTo>
                  <a:pt x="2370" y="10228"/>
                  <a:pt x="2453" y="10244"/>
                  <a:pt x="2604" y="10244"/>
                </a:cubicBezTo>
                <a:cubicBezTo>
                  <a:pt x="2654" y="10244"/>
                  <a:pt x="2671" y="10244"/>
                  <a:pt x="2704" y="10244"/>
                </a:cubicBezTo>
              </a:path>
              <a:path w="8931" h="3349">
                <a:moveTo>
                  <a:pt x="2356" y="10468"/>
                </a:moveTo>
                <a:cubicBezTo>
                  <a:pt x="2444" y="10468"/>
                  <a:pt x="2454" y="10436"/>
                  <a:pt x="2530" y="10418"/>
                </a:cubicBezTo>
                <a:cubicBezTo>
                  <a:pt x="2586" y="10405"/>
                  <a:pt x="2700" y="10407"/>
                  <a:pt x="2679" y="10492"/>
                </a:cubicBezTo>
                <a:cubicBezTo>
                  <a:pt x="2670" y="10526"/>
                  <a:pt x="2603" y="10610"/>
                  <a:pt x="2580" y="10641"/>
                </a:cubicBezTo>
                <a:cubicBezTo>
                  <a:pt x="2544" y="10689"/>
                  <a:pt x="2494" y="10726"/>
                  <a:pt x="2480" y="10790"/>
                </a:cubicBezTo>
                <a:cubicBezTo>
                  <a:pt x="2470" y="10835"/>
                  <a:pt x="2473" y="10921"/>
                  <a:pt x="2530" y="10939"/>
                </a:cubicBezTo>
                <a:cubicBezTo>
                  <a:pt x="2682" y="10987"/>
                  <a:pt x="2619" y="10960"/>
                  <a:pt x="2704" y="10939"/>
                </a:cubicBezTo>
              </a:path>
              <a:path w="8931" h="3349">
                <a:moveTo>
                  <a:pt x="3001" y="10468"/>
                </a:moveTo>
                <a:cubicBezTo>
                  <a:pt x="3095" y="10476"/>
                  <a:pt x="3178" y="10492"/>
                  <a:pt x="3274" y="10492"/>
                </a:cubicBezTo>
              </a:path>
              <a:path w="8931" h="3349">
                <a:moveTo>
                  <a:pt x="3101" y="10691"/>
                </a:moveTo>
                <a:cubicBezTo>
                  <a:pt x="3178" y="10720"/>
                  <a:pt x="3239" y="10716"/>
                  <a:pt x="3324" y="10716"/>
                </a:cubicBezTo>
              </a:path>
              <a:path w="8931" h="3349">
                <a:moveTo>
                  <a:pt x="3721" y="11112"/>
                </a:moveTo>
                <a:cubicBezTo>
                  <a:pt x="3803" y="11112"/>
                  <a:pt x="3867" y="11133"/>
                  <a:pt x="3944" y="11137"/>
                </a:cubicBezTo>
                <a:cubicBezTo>
                  <a:pt x="4030" y="11142"/>
                  <a:pt x="4109" y="11153"/>
                  <a:pt x="4192" y="11162"/>
                </a:cubicBezTo>
                <a:cubicBezTo>
                  <a:pt x="4329" y="11177"/>
                  <a:pt x="4476" y="11183"/>
                  <a:pt x="4614" y="11187"/>
                </a:cubicBezTo>
                <a:cubicBezTo>
                  <a:pt x="4733" y="11190"/>
                  <a:pt x="4840" y="11212"/>
                  <a:pt x="4961" y="11212"/>
                </a:cubicBezTo>
                <a:cubicBezTo>
                  <a:pt x="5097" y="11212"/>
                  <a:pt x="5220" y="11237"/>
                  <a:pt x="5358" y="11237"/>
                </a:cubicBezTo>
                <a:cubicBezTo>
                  <a:pt x="5542" y="11237"/>
                  <a:pt x="5725" y="11250"/>
                  <a:pt x="5904" y="11261"/>
                </a:cubicBezTo>
                <a:cubicBezTo>
                  <a:pt x="6034" y="11269"/>
                  <a:pt x="6126" y="11237"/>
                  <a:pt x="6251" y="11237"/>
                </a:cubicBezTo>
                <a:cubicBezTo>
                  <a:pt x="6341" y="11237"/>
                  <a:pt x="6446" y="11232"/>
                  <a:pt x="6499" y="11212"/>
                </a:cubicBezTo>
              </a:path>
              <a:path w="8931" h="3349">
                <a:moveTo>
                  <a:pt x="4291" y="10244"/>
                </a:moveTo>
                <a:cubicBezTo>
                  <a:pt x="4291" y="10154"/>
                  <a:pt x="4301" y="10113"/>
                  <a:pt x="4192" y="10096"/>
                </a:cubicBezTo>
                <a:cubicBezTo>
                  <a:pt x="4124" y="10085"/>
                  <a:pt x="4031" y="10099"/>
                  <a:pt x="3969" y="10120"/>
                </a:cubicBezTo>
                <a:cubicBezTo>
                  <a:pt x="3925" y="10142"/>
                  <a:pt x="3913" y="10145"/>
                  <a:pt x="3894" y="10170"/>
                </a:cubicBezTo>
                <a:cubicBezTo>
                  <a:pt x="3932" y="10236"/>
                  <a:pt x="3977" y="10278"/>
                  <a:pt x="4043" y="10319"/>
                </a:cubicBezTo>
                <a:cubicBezTo>
                  <a:pt x="4110" y="10361"/>
                  <a:pt x="4160" y="10411"/>
                  <a:pt x="4217" y="10468"/>
                </a:cubicBezTo>
                <a:cubicBezTo>
                  <a:pt x="4260" y="10511"/>
                  <a:pt x="4339" y="10568"/>
                  <a:pt x="4316" y="10641"/>
                </a:cubicBezTo>
                <a:cubicBezTo>
                  <a:pt x="4298" y="10698"/>
                  <a:pt x="4213" y="10713"/>
                  <a:pt x="4167" y="10716"/>
                </a:cubicBezTo>
                <a:cubicBezTo>
                  <a:pt x="4110" y="10719"/>
                  <a:pt x="4018" y="10696"/>
                  <a:pt x="3969" y="10666"/>
                </a:cubicBezTo>
                <a:cubicBezTo>
                  <a:pt x="3911" y="10630"/>
                  <a:pt x="3928" y="10621"/>
                  <a:pt x="3944" y="10567"/>
                </a:cubicBezTo>
              </a:path>
              <a:path w="8931" h="3349">
                <a:moveTo>
                  <a:pt x="4539" y="10294"/>
                </a:moveTo>
                <a:cubicBezTo>
                  <a:pt x="4567" y="10378"/>
                  <a:pt x="4564" y="10451"/>
                  <a:pt x="4564" y="10542"/>
                </a:cubicBezTo>
                <a:cubicBezTo>
                  <a:pt x="4564" y="10601"/>
                  <a:pt x="4564" y="10845"/>
                  <a:pt x="4564" y="10567"/>
                </a:cubicBezTo>
              </a:path>
              <a:path w="8931" h="3349">
                <a:moveTo>
                  <a:pt x="4589" y="9971"/>
                </a:moveTo>
                <a:cubicBezTo>
                  <a:pt x="4589" y="9927"/>
                  <a:pt x="4586" y="9913"/>
                  <a:pt x="4614" y="9897"/>
                </a:cubicBezTo>
              </a:path>
              <a:path w="8931" h="3349">
                <a:moveTo>
                  <a:pt x="4738" y="10492"/>
                </a:moveTo>
                <a:cubicBezTo>
                  <a:pt x="4746" y="10533"/>
                  <a:pt x="4754" y="10575"/>
                  <a:pt x="4762" y="10616"/>
                </a:cubicBezTo>
                <a:cubicBezTo>
                  <a:pt x="4762" y="10510"/>
                  <a:pt x="4744" y="10391"/>
                  <a:pt x="4787" y="10294"/>
                </a:cubicBezTo>
                <a:cubicBezTo>
                  <a:pt x="4820" y="10220"/>
                  <a:pt x="4884" y="10146"/>
                  <a:pt x="4961" y="10195"/>
                </a:cubicBezTo>
                <a:cubicBezTo>
                  <a:pt x="4998" y="10219"/>
                  <a:pt x="5043" y="10303"/>
                  <a:pt x="5060" y="10344"/>
                </a:cubicBezTo>
                <a:cubicBezTo>
                  <a:pt x="5095" y="10428"/>
                  <a:pt x="5144" y="10503"/>
                  <a:pt x="5159" y="10592"/>
                </a:cubicBezTo>
                <a:cubicBezTo>
                  <a:pt x="5169" y="10654"/>
                  <a:pt x="5188" y="10690"/>
                  <a:pt x="5234" y="10740"/>
                </a:cubicBezTo>
                <a:cubicBezTo>
                  <a:pt x="5257" y="10763"/>
                  <a:pt x="5265" y="10774"/>
                  <a:pt x="5259" y="10740"/>
                </a:cubicBezTo>
              </a:path>
              <a:path w="8931" h="3349">
                <a:moveTo>
                  <a:pt x="5383" y="10269"/>
                </a:moveTo>
                <a:cubicBezTo>
                  <a:pt x="5436" y="10323"/>
                  <a:pt x="5490" y="10381"/>
                  <a:pt x="5531" y="10443"/>
                </a:cubicBezTo>
                <a:cubicBezTo>
                  <a:pt x="5584" y="10522"/>
                  <a:pt x="5626" y="10533"/>
                  <a:pt x="5705" y="10592"/>
                </a:cubicBezTo>
                <a:cubicBezTo>
                  <a:pt x="5776" y="10645"/>
                  <a:pt x="5815" y="10658"/>
                  <a:pt x="5904" y="10666"/>
                </a:cubicBezTo>
              </a:path>
              <a:path w="8931" h="3349">
                <a:moveTo>
                  <a:pt x="5755" y="10145"/>
                </a:moveTo>
                <a:cubicBezTo>
                  <a:pt x="5647" y="10253"/>
                  <a:pt x="5588" y="10331"/>
                  <a:pt x="5507" y="10443"/>
                </a:cubicBezTo>
                <a:cubicBezTo>
                  <a:pt x="5463" y="10504"/>
                  <a:pt x="5403" y="10554"/>
                  <a:pt x="5358" y="10616"/>
                </a:cubicBezTo>
              </a:path>
              <a:path w="8931" h="3349">
                <a:moveTo>
                  <a:pt x="3845" y="11485"/>
                </a:moveTo>
                <a:cubicBezTo>
                  <a:pt x="3845" y="11613"/>
                  <a:pt x="3833" y="11737"/>
                  <a:pt x="3820" y="11857"/>
                </a:cubicBezTo>
                <a:cubicBezTo>
                  <a:pt x="3801" y="12043"/>
                  <a:pt x="3820" y="12240"/>
                  <a:pt x="3820" y="12427"/>
                </a:cubicBezTo>
              </a:path>
              <a:path w="8931" h="3349">
                <a:moveTo>
                  <a:pt x="4217" y="11658"/>
                </a:moveTo>
                <a:cubicBezTo>
                  <a:pt x="4225" y="11784"/>
                  <a:pt x="4223" y="11882"/>
                  <a:pt x="4217" y="12005"/>
                </a:cubicBezTo>
                <a:cubicBezTo>
                  <a:pt x="4213" y="12102"/>
                  <a:pt x="4219" y="12195"/>
                  <a:pt x="4242" y="12278"/>
                </a:cubicBezTo>
                <a:cubicBezTo>
                  <a:pt x="4242" y="12286"/>
                  <a:pt x="4242" y="12295"/>
                  <a:pt x="4242" y="12303"/>
                </a:cubicBezTo>
              </a:path>
              <a:path w="8931" h="3349">
                <a:moveTo>
                  <a:pt x="4043" y="11857"/>
                </a:moveTo>
                <a:cubicBezTo>
                  <a:pt x="4149" y="11838"/>
                  <a:pt x="4184" y="11869"/>
                  <a:pt x="4291" y="11881"/>
                </a:cubicBezTo>
                <a:cubicBezTo>
                  <a:pt x="4316" y="11881"/>
                  <a:pt x="4341" y="11881"/>
                  <a:pt x="4366" y="11881"/>
                </a:cubicBezTo>
              </a:path>
              <a:path w="8931" h="3349">
                <a:moveTo>
                  <a:pt x="4911" y="11931"/>
                </a:moveTo>
                <a:cubicBezTo>
                  <a:pt x="4898" y="11834"/>
                  <a:pt x="4884" y="11868"/>
                  <a:pt x="4812" y="11832"/>
                </a:cubicBezTo>
                <a:cubicBezTo>
                  <a:pt x="4727" y="11790"/>
                  <a:pt x="4691" y="11887"/>
                  <a:pt x="4638" y="11956"/>
                </a:cubicBezTo>
                <a:cubicBezTo>
                  <a:pt x="4591" y="12017"/>
                  <a:pt x="4615" y="12095"/>
                  <a:pt x="4663" y="12154"/>
                </a:cubicBezTo>
                <a:cubicBezTo>
                  <a:pt x="4718" y="12221"/>
                  <a:pt x="4755" y="12244"/>
                  <a:pt x="4837" y="12254"/>
                </a:cubicBezTo>
              </a:path>
              <a:path w="8931" h="3349">
                <a:moveTo>
                  <a:pt x="5085" y="11832"/>
                </a:moveTo>
                <a:cubicBezTo>
                  <a:pt x="5039" y="11925"/>
                  <a:pt x="4913" y="12083"/>
                  <a:pt x="5035" y="12179"/>
                </a:cubicBezTo>
                <a:cubicBezTo>
                  <a:pt x="5084" y="12217"/>
                  <a:pt x="5125" y="12277"/>
                  <a:pt x="5184" y="12303"/>
                </a:cubicBezTo>
                <a:cubicBezTo>
                  <a:pt x="5258" y="12336"/>
                  <a:pt x="5309" y="12345"/>
                  <a:pt x="5358" y="12278"/>
                </a:cubicBezTo>
                <a:cubicBezTo>
                  <a:pt x="5427" y="12184"/>
                  <a:pt x="5432" y="12169"/>
                  <a:pt x="5432" y="12055"/>
                </a:cubicBezTo>
                <a:cubicBezTo>
                  <a:pt x="5432" y="11970"/>
                  <a:pt x="5391" y="11938"/>
                  <a:pt x="5333" y="11881"/>
                </a:cubicBezTo>
                <a:cubicBezTo>
                  <a:pt x="5278" y="11827"/>
                  <a:pt x="5231" y="11832"/>
                  <a:pt x="5159" y="11832"/>
                </a:cubicBezTo>
                <a:cubicBezTo>
                  <a:pt x="5118" y="11832"/>
                  <a:pt x="5102" y="11824"/>
                  <a:pt x="5110" y="11857"/>
                </a:cubicBezTo>
              </a:path>
              <a:path w="8931" h="3349">
                <a:moveTo>
                  <a:pt x="5829" y="11931"/>
                </a:moveTo>
                <a:cubicBezTo>
                  <a:pt x="5760" y="11908"/>
                  <a:pt x="5692" y="11882"/>
                  <a:pt x="5631" y="11931"/>
                </a:cubicBezTo>
                <a:cubicBezTo>
                  <a:pt x="5575" y="11976"/>
                  <a:pt x="5679" y="12084"/>
                  <a:pt x="5705" y="12129"/>
                </a:cubicBezTo>
                <a:cubicBezTo>
                  <a:pt x="5756" y="12218"/>
                  <a:pt x="5816" y="12299"/>
                  <a:pt x="5879" y="12378"/>
                </a:cubicBezTo>
                <a:cubicBezTo>
                  <a:pt x="5908" y="12406"/>
                  <a:pt x="5916" y="12419"/>
                  <a:pt x="5904" y="12452"/>
                </a:cubicBezTo>
                <a:cubicBezTo>
                  <a:pt x="5857" y="12471"/>
                  <a:pt x="5766" y="12434"/>
                  <a:pt x="5730" y="12378"/>
                </a:cubicBezTo>
                <a:cubicBezTo>
                  <a:pt x="5722" y="12353"/>
                  <a:pt x="5713" y="12328"/>
                  <a:pt x="5705" y="12303"/>
                </a:cubicBezTo>
              </a:path>
              <a:path w="8931" h="3349">
                <a:moveTo>
                  <a:pt x="6003" y="12105"/>
                </a:moveTo>
                <a:cubicBezTo>
                  <a:pt x="6054" y="12186"/>
                  <a:pt x="6085" y="12311"/>
                  <a:pt x="6152" y="12378"/>
                </a:cubicBezTo>
                <a:cubicBezTo>
                  <a:pt x="6266" y="12491"/>
                  <a:pt x="6291" y="12533"/>
                  <a:pt x="6449" y="12551"/>
                </a:cubicBezTo>
              </a:path>
              <a:path w="8931" h="3349">
                <a:moveTo>
                  <a:pt x="6400" y="11981"/>
                </a:moveTo>
                <a:cubicBezTo>
                  <a:pt x="6253" y="12106"/>
                  <a:pt x="6171" y="12162"/>
                  <a:pt x="6102" y="12328"/>
                </a:cubicBezTo>
                <a:cubicBezTo>
                  <a:pt x="6070" y="12404"/>
                  <a:pt x="6038" y="12471"/>
                  <a:pt x="6028" y="12551"/>
                </a:cubicBezTo>
              </a:path>
              <a:path w="8931" h="3349">
                <a:moveTo>
                  <a:pt x="6846" y="11361"/>
                </a:moveTo>
                <a:cubicBezTo>
                  <a:pt x="6954" y="11361"/>
                  <a:pt x="6962" y="11361"/>
                  <a:pt x="7020" y="11361"/>
                </a:cubicBezTo>
              </a:path>
              <a:path w="8931" h="3349">
                <a:moveTo>
                  <a:pt x="6796" y="11534"/>
                </a:moveTo>
                <a:cubicBezTo>
                  <a:pt x="6877" y="11578"/>
                  <a:pt x="6929" y="11598"/>
                  <a:pt x="7020" y="11609"/>
                </a:cubicBezTo>
              </a:path>
              <a:path w="8931" h="3349">
                <a:moveTo>
                  <a:pt x="7565" y="9599"/>
                </a:moveTo>
                <a:cubicBezTo>
                  <a:pt x="7625" y="9541"/>
                  <a:pt x="7652" y="9550"/>
                  <a:pt x="7739" y="9550"/>
                </a:cubicBezTo>
                <a:cubicBezTo>
                  <a:pt x="7790" y="9550"/>
                  <a:pt x="7861" y="9579"/>
                  <a:pt x="7838" y="9649"/>
                </a:cubicBezTo>
                <a:cubicBezTo>
                  <a:pt x="7812" y="9725"/>
                  <a:pt x="7766" y="9722"/>
                  <a:pt x="7714" y="9748"/>
                </a:cubicBezTo>
                <a:cubicBezTo>
                  <a:pt x="7686" y="9762"/>
                  <a:pt x="7666" y="9779"/>
                  <a:pt x="7640" y="9798"/>
                </a:cubicBezTo>
                <a:cubicBezTo>
                  <a:pt x="7726" y="9798"/>
                  <a:pt x="7789" y="9796"/>
                  <a:pt x="7863" y="9847"/>
                </a:cubicBezTo>
                <a:cubicBezTo>
                  <a:pt x="7891" y="9875"/>
                  <a:pt x="7900" y="9889"/>
                  <a:pt x="7888" y="9922"/>
                </a:cubicBezTo>
                <a:cubicBezTo>
                  <a:pt x="7841" y="9950"/>
                  <a:pt x="7796" y="9968"/>
                  <a:pt x="7739" y="9971"/>
                </a:cubicBezTo>
                <a:cubicBezTo>
                  <a:pt x="7698" y="9971"/>
                  <a:pt x="7690" y="9971"/>
                  <a:pt x="7665" y="9971"/>
                </a:cubicBezTo>
              </a:path>
              <a:path w="8931" h="3349">
                <a:moveTo>
                  <a:pt x="7441" y="10120"/>
                </a:moveTo>
                <a:cubicBezTo>
                  <a:pt x="7496" y="10088"/>
                  <a:pt x="7548" y="10096"/>
                  <a:pt x="7615" y="10096"/>
                </a:cubicBezTo>
                <a:cubicBezTo>
                  <a:pt x="7764" y="10096"/>
                  <a:pt x="7913" y="10096"/>
                  <a:pt x="8062" y="10096"/>
                </a:cubicBezTo>
              </a:path>
              <a:path w="8931" h="3349">
                <a:moveTo>
                  <a:pt x="7813" y="10294"/>
                </a:moveTo>
                <a:cubicBezTo>
                  <a:pt x="7914" y="10314"/>
                  <a:pt x="7934" y="10334"/>
                  <a:pt x="7987" y="10294"/>
                </a:cubicBezTo>
              </a:path>
              <a:path w="8931" h="3349">
                <a:moveTo>
                  <a:pt x="7838" y="10294"/>
                </a:moveTo>
                <a:cubicBezTo>
                  <a:pt x="7787" y="10353"/>
                  <a:pt x="7732" y="10396"/>
                  <a:pt x="7789" y="10468"/>
                </a:cubicBezTo>
                <a:cubicBezTo>
                  <a:pt x="7831" y="10521"/>
                  <a:pt x="7885" y="10471"/>
                  <a:pt x="7938" y="10468"/>
                </a:cubicBezTo>
                <a:cubicBezTo>
                  <a:pt x="8001" y="10464"/>
                  <a:pt x="8067" y="10518"/>
                  <a:pt x="8062" y="10592"/>
                </a:cubicBezTo>
                <a:cubicBezTo>
                  <a:pt x="8059" y="10631"/>
                  <a:pt x="8020" y="10684"/>
                  <a:pt x="7987" y="10716"/>
                </a:cubicBezTo>
                <a:cubicBezTo>
                  <a:pt x="7937" y="10765"/>
                  <a:pt x="7896" y="10721"/>
                  <a:pt x="7838" y="10716"/>
                </a:cubicBezTo>
                <a:cubicBezTo>
                  <a:pt x="7830" y="10716"/>
                  <a:pt x="7821" y="10716"/>
                  <a:pt x="7813" y="10716"/>
                </a:cubicBezTo>
              </a:path>
              <a:path w="8931" h="3349">
                <a:moveTo>
                  <a:pt x="7293" y="10964"/>
                </a:moveTo>
                <a:cubicBezTo>
                  <a:pt x="7376" y="10994"/>
                  <a:pt x="7451" y="10988"/>
                  <a:pt x="7541" y="10988"/>
                </a:cubicBezTo>
                <a:cubicBezTo>
                  <a:pt x="7628" y="10988"/>
                  <a:pt x="7702" y="11010"/>
                  <a:pt x="7789" y="11013"/>
                </a:cubicBezTo>
                <a:cubicBezTo>
                  <a:pt x="7926" y="11017"/>
                  <a:pt x="8051" y="11034"/>
                  <a:pt x="8186" y="11038"/>
                </a:cubicBezTo>
                <a:cubicBezTo>
                  <a:pt x="8310" y="11042"/>
                  <a:pt x="8432" y="11013"/>
                  <a:pt x="8558" y="11013"/>
                </a:cubicBezTo>
                <a:cubicBezTo>
                  <a:pt x="8686" y="11013"/>
                  <a:pt x="8806" y="11004"/>
                  <a:pt x="8930" y="10988"/>
                </a:cubicBezTo>
                <a:cubicBezTo>
                  <a:pt x="8963" y="10984"/>
                  <a:pt x="9129" y="11009"/>
                  <a:pt x="9128" y="10939"/>
                </a:cubicBezTo>
                <a:cubicBezTo>
                  <a:pt x="9120" y="10939"/>
                  <a:pt x="9111" y="10939"/>
                  <a:pt x="9103" y="10939"/>
                </a:cubicBezTo>
              </a:path>
              <a:path w="8931" h="3349">
                <a:moveTo>
                  <a:pt x="7665" y="11633"/>
                </a:moveTo>
                <a:cubicBezTo>
                  <a:pt x="7689" y="11725"/>
                  <a:pt x="7710" y="11811"/>
                  <a:pt x="7714" y="11906"/>
                </a:cubicBezTo>
                <a:cubicBezTo>
                  <a:pt x="7719" y="12033"/>
                  <a:pt x="7725" y="12155"/>
                  <a:pt x="7739" y="12278"/>
                </a:cubicBezTo>
                <a:cubicBezTo>
                  <a:pt x="7751" y="12388"/>
                  <a:pt x="7746" y="12496"/>
                  <a:pt x="7764" y="12601"/>
                </a:cubicBezTo>
                <a:cubicBezTo>
                  <a:pt x="7774" y="12662"/>
                  <a:pt x="7767" y="12690"/>
                  <a:pt x="7789" y="12750"/>
                </a:cubicBezTo>
              </a:path>
              <a:path w="8931" h="3349">
                <a:moveTo>
                  <a:pt x="8210" y="11807"/>
                </a:moveTo>
                <a:cubicBezTo>
                  <a:pt x="8210" y="11937"/>
                  <a:pt x="8213" y="12064"/>
                  <a:pt x="8235" y="12179"/>
                </a:cubicBezTo>
                <a:cubicBezTo>
                  <a:pt x="8247" y="12243"/>
                  <a:pt x="8242" y="12286"/>
                  <a:pt x="8260" y="12353"/>
                </a:cubicBezTo>
              </a:path>
              <a:path w="8931" h="3349">
                <a:moveTo>
                  <a:pt x="8111" y="12030"/>
                </a:moveTo>
                <a:cubicBezTo>
                  <a:pt x="8196" y="12040"/>
                  <a:pt x="8279" y="12053"/>
                  <a:pt x="8359" y="12080"/>
                </a:cubicBezTo>
              </a:path>
              <a:path w="8931" h="3349">
                <a:moveTo>
                  <a:pt x="8558" y="11559"/>
                </a:moveTo>
                <a:cubicBezTo>
                  <a:pt x="8541" y="11622"/>
                  <a:pt x="8508" y="11732"/>
                  <a:pt x="8582" y="11782"/>
                </a:cubicBezTo>
                <a:cubicBezTo>
                  <a:pt x="8607" y="11790"/>
                  <a:pt x="8632" y="11799"/>
                  <a:pt x="8657" y="11807"/>
                </a:cubicBezTo>
              </a:path>
              <a:path w="8931" h="3349">
                <a:moveTo>
                  <a:pt x="8781" y="11410"/>
                </a:moveTo>
                <a:cubicBezTo>
                  <a:pt x="8770" y="11494"/>
                  <a:pt x="8756" y="11568"/>
                  <a:pt x="8756" y="11658"/>
                </a:cubicBezTo>
                <a:cubicBezTo>
                  <a:pt x="8756" y="11728"/>
                  <a:pt x="8781" y="11784"/>
                  <a:pt x="8781" y="11857"/>
                </a:cubicBezTo>
                <a:cubicBezTo>
                  <a:pt x="8781" y="11873"/>
                  <a:pt x="8781" y="11890"/>
                  <a:pt x="8781" y="11906"/>
                </a:cubicBezTo>
              </a:path>
              <a:path w="8931" h="3349">
                <a:moveTo>
                  <a:pt x="8657" y="12055"/>
                </a:moveTo>
                <a:cubicBezTo>
                  <a:pt x="8769" y="12040"/>
                  <a:pt x="8871" y="12023"/>
                  <a:pt x="8979" y="12005"/>
                </a:cubicBezTo>
              </a:path>
              <a:path w="8931" h="3349">
                <a:moveTo>
                  <a:pt x="8806" y="12179"/>
                </a:moveTo>
                <a:cubicBezTo>
                  <a:pt x="8854" y="12203"/>
                  <a:pt x="8868" y="12212"/>
                  <a:pt x="8905" y="12204"/>
                </a:cubicBezTo>
              </a:path>
              <a:path w="8931" h="3349">
                <a:moveTo>
                  <a:pt x="8806" y="12154"/>
                </a:moveTo>
                <a:cubicBezTo>
                  <a:pt x="8766" y="12207"/>
                  <a:pt x="8726" y="12276"/>
                  <a:pt x="8756" y="12353"/>
                </a:cubicBezTo>
                <a:cubicBezTo>
                  <a:pt x="8784" y="12426"/>
                  <a:pt x="8881" y="12348"/>
                  <a:pt x="8905" y="12353"/>
                </a:cubicBezTo>
                <a:cubicBezTo>
                  <a:pt x="8941" y="12360"/>
                  <a:pt x="9004" y="12388"/>
                  <a:pt x="9029" y="12427"/>
                </a:cubicBezTo>
                <a:cubicBezTo>
                  <a:pt x="9070" y="12491"/>
                  <a:pt x="9059" y="12610"/>
                  <a:pt x="9029" y="12675"/>
                </a:cubicBezTo>
                <a:cubicBezTo>
                  <a:pt x="9014" y="12707"/>
                  <a:pt x="8946" y="12887"/>
                  <a:pt x="8905" y="12898"/>
                </a:cubicBezTo>
                <a:cubicBezTo>
                  <a:pt x="8843" y="12914"/>
                  <a:pt x="8767" y="12906"/>
                  <a:pt x="8731" y="12849"/>
                </a:cubicBezTo>
                <a:cubicBezTo>
                  <a:pt x="8709" y="12815"/>
                  <a:pt x="8691" y="12785"/>
                  <a:pt x="8682" y="12750"/>
                </a:cubicBezTo>
              </a:path>
              <a:path w="8931" h="3349">
                <a:moveTo>
                  <a:pt x="9277" y="11956"/>
                </a:moveTo>
                <a:cubicBezTo>
                  <a:pt x="9351" y="11956"/>
                  <a:pt x="9416" y="11967"/>
                  <a:pt x="9475" y="11931"/>
                </a:cubicBezTo>
              </a:path>
              <a:path w="8931" h="3349">
                <a:moveTo>
                  <a:pt x="9401" y="12105"/>
                </a:moveTo>
                <a:cubicBezTo>
                  <a:pt x="9501" y="12145"/>
                  <a:pt x="9519" y="12172"/>
                  <a:pt x="9575" y="121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Ink 8"/>
          <p:cNvSpPr/>
          <p:nvPr/>
        </p:nvSpPr>
        <p:spPr>
          <a:xfrm>
            <a:off x="3983040" y="3224160"/>
            <a:ext cx="3625920" cy="1098720"/>
          </a:xfrm>
          <a:custGeom>
            <a:avLst/>
            <a:gdLst/>
            <a:ahLst/>
            <a:rect l="l" t="t" r="r" b="b"/>
            <a:pathLst>
              <a:path w="10072" h="3052">
                <a:moveTo>
                  <a:pt x="11112" y="9748"/>
                </a:moveTo>
                <a:cubicBezTo>
                  <a:pt x="11183" y="9748"/>
                  <a:pt x="11222" y="9770"/>
                  <a:pt x="11286" y="9773"/>
                </a:cubicBezTo>
                <a:cubicBezTo>
                  <a:pt x="11352" y="9773"/>
                  <a:pt x="11369" y="9773"/>
                  <a:pt x="11410" y="9773"/>
                </a:cubicBezTo>
              </a:path>
              <a:path w="10072" h="3052">
                <a:moveTo>
                  <a:pt x="11063" y="9922"/>
                </a:moveTo>
                <a:cubicBezTo>
                  <a:pt x="11172" y="9945"/>
                  <a:pt x="11233" y="9971"/>
                  <a:pt x="11336" y="9971"/>
                </a:cubicBezTo>
              </a:path>
              <a:path w="10072" h="3052">
                <a:moveTo>
                  <a:pt x="11981" y="9327"/>
                </a:moveTo>
                <a:cubicBezTo>
                  <a:pt x="11981" y="9395"/>
                  <a:pt x="11986" y="9463"/>
                  <a:pt x="12005" y="9525"/>
                </a:cubicBezTo>
                <a:cubicBezTo>
                  <a:pt x="12025" y="9591"/>
                  <a:pt x="12039" y="9665"/>
                  <a:pt x="12055" y="9723"/>
                </a:cubicBezTo>
                <a:cubicBezTo>
                  <a:pt x="12055" y="9731"/>
                  <a:pt x="12055" y="9740"/>
                  <a:pt x="12055" y="9748"/>
                </a:cubicBezTo>
              </a:path>
              <a:path w="10072" h="3052">
                <a:moveTo>
                  <a:pt x="11807" y="9624"/>
                </a:moveTo>
                <a:cubicBezTo>
                  <a:pt x="11910" y="9632"/>
                  <a:pt x="12008" y="9658"/>
                  <a:pt x="12105" y="9674"/>
                </a:cubicBezTo>
                <a:cubicBezTo>
                  <a:pt x="12146" y="9674"/>
                  <a:pt x="12154" y="9674"/>
                  <a:pt x="12179" y="9674"/>
                </a:cubicBezTo>
              </a:path>
              <a:path w="10072" h="3052">
                <a:moveTo>
                  <a:pt x="11906" y="10096"/>
                </a:moveTo>
                <a:cubicBezTo>
                  <a:pt x="11994" y="10119"/>
                  <a:pt x="12035" y="10120"/>
                  <a:pt x="12129" y="10120"/>
                </a:cubicBezTo>
              </a:path>
              <a:path w="10072" h="3052">
                <a:moveTo>
                  <a:pt x="12378" y="9922"/>
                </a:moveTo>
                <a:cubicBezTo>
                  <a:pt x="12395" y="9988"/>
                  <a:pt x="12419" y="10031"/>
                  <a:pt x="12427" y="10096"/>
                </a:cubicBezTo>
                <a:cubicBezTo>
                  <a:pt x="12440" y="10200"/>
                  <a:pt x="12444" y="10315"/>
                  <a:pt x="12452" y="10418"/>
                </a:cubicBezTo>
                <a:cubicBezTo>
                  <a:pt x="12469" y="10624"/>
                  <a:pt x="12480" y="10899"/>
                  <a:pt x="12427" y="11088"/>
                </a:cubicBezTo>
                <a:cubicBezTo>
                  <a:pt x="12427" y="11132"/>
                  <a:pt x="12430" y="11146"/>
                  <a:pt x="12402" y="11162"/>
                </a:cubicBezTo>
                <a:cubicBezTo>
                  <a:pt x="12408" y="11068"/>
                  <a:pt x="12414" y="10986"/>
                  <a:pt x="12427" y="10889"/>
                </a:cubicBezTo>
                <a:cubicBezTo>
                  <a:pt x="12439" y="10803"/>
                  <a:pt x="12469" y="10705"/>
                  <a:pt x="12477" y="10616"/>
                </a:cubicBezTo>
                <a:cubicBezTo>
                  <a:pt x="12508" y="10283"/>
                  <a:pt x="12475" y="9930"/>
                  <a:pt x="12452" y="9599"/>
                </a:cubicBezTo>
                <a:cubicBezTo>
                  <a:pt x="12444" y="9481"/>
                  <a:pt x="12439" y="9366"/>
                  <a:pt x="12427" y="9252"/>
                </a:cubicBezTo>
                <a:cubicBezTo>
                  <a:pt x="12420" y="9180"/>
                  <a:pt x="12396" y="9043"/>
                  <a:pt x="12402" y="8979"/>
                </a:cubicBezTo>
                <a:cubicBezTo>
                  <a:pt x="12410" y="8971"/>
                  <a:pt x="12419" y="8962"/>
                  <a:pt x="12427" y="8954"/>
                </a:cubicBezTo>
                <a:cubicBezTo>
                  <a:pt x="12476" y="8969"/>
                  <a:pt x="12548" y="8998"/>
                  <a:pt x="12601" y="9004"/>
                </a:cubicBezTo>
                <a:cubicBezTo>
                  <a:pt x="12739" y="9020"/>
                  <a:pt x="12886" y="9015"/>
                  <a:pt x="13022" y="9029"/>
                </a:cubicBezTo>
                <a:cubicBezTo>
                  <a:pt x="13203" y="9048"/>
                  <a:pt x="13389" y="9034"/>
                  <a:pt x="13568" y="9054"/>
                </a:cubicBezTo>
                <a:cubicBezTo>
                  <a:pt x="13697" y="9068"/>
                  <a:pt x="13835" y="9054"/>
                  <a:pt x="13965" y="9054"/>
                </a:cubicBezTo>
              </a:path>
              <a:path w="10072" h="3052">
                <a:moveTo>
                  <a:pt x="12675" y="10145"/>
                </a:moveTo>
                <a:cubicBezTo>
                  <a:pt x="12748" y="10101"/>
                  <a:pt x="12772" y="10137"/>
                  <a:pt x="12849" y="10145"/>
                </a:cubicBezTo>
                <a:cubicBezTo>
                  <a:pt x="13146" y="10177"/>
                  <a:pt x="13467" y="10145"/>
                  <a:pt x="13767" y="10145"/>
                </a:cubicBezTo>
              </a:path>
              <a:path w="10072" h="3052">
                <a:moveTo>
                  <a:pt x="13221" y="9451"/>
                </a:moveTo>
                <a:cubicBezTo>
                  <a:pt x="13221" y="9405"/>
                  <a:pt x="13219" y="9361"/>
                  <a:pt x="13196" y="9327"/>
                </a:cubicBezTo>
                <a:cubicBezTo>
                  <a:pt x="13146" y="9253"/>
                  <a:pt x="13101" y="9291"/>
                  <a:pt x="13047" y="9302"/>
                </a:cubicBezTo>
                <a:cubicBezTo>
                  <a:pt x="13009" y="9310"/>
                  <a:pt x="12938" y="9349"/>
                  <a:pt x="12923" y="9401"/>
                </a:cubicBezTo>
                <a:cubicBezTo>
                  <a:pt x="12909" y="9448"/>
                  <a:pt x="12932" y="9575"/>
                  <a:pt x="12973" y="9599"/>
                </a:cubicBezTo>
                <a:cubicBezTo>
                  <a:pt x="13020" y="9626"/>
                  <a:pt x="13154" y="9631"/>
                  <a:pt x="13171" y="9550"/>
                </a:cubicBezTo>
                <a:cubicBezTo>
                  <a:pt x="13171" y="9488"/>
                  <a:pt x="13161" y="9473"/>
                  <a:pt x="13196" y="9451"/>
                </a:cubicBezTo>
                <a:cubicBezTo>
                  <a:pt x="13196" y="9541"/>
                  <a:pt x="13213" y="9613"/>
                  <a:pt x="13221" y="9699"/>
                </a:cubicBezTo>
                <a:cubicBezTo>
                  <a:pt x="13230" y="9787"/>
                  <a:pt x="13246" y="9859"/>
                  <a:pt x="13246" y="9947"/>
                </a:cubicBezTo>
                <a:cubicBezTo>
                  <a:pt x="13246" y="9991"/>
                  <a:pt x="13243" y="10005"/>
                  <a:pt x="13271" y="10021"/>
                </a:cubicBezTo>
              </a:path>
              <a:path w="10072" h="3052">
                <a:moveTo>
                  <a:pt x="13072" y="10517"/>
                </a:moveTo>
                <a:cubicBezTo>
                  <a:pt x="13096" y="10605"/>
                  <a:pt x="13097" y="10673"/>
                  <a:pt x="13097" y="10765"/>
                </a:cubicBezTo>
                <a:cubicBezTo>
                  <a:pt x="13097" y="10860"/>
                  <a:pt x="13079" y="11201"/>
                  <a:pt x="13122" y="11187"/>
                </a:cubicBezTo>
              </a:path>
              <a:path w="10072" h="3052">
                <a:moveTo>
                  <a:pt x="13395" y="10716"/>
                </a:moveTo>
                <a:cubicBezTo>
                  <a:pt x="13395" y="10805"/>
                  <a:pt x="13380" y="10882"/>
                  <a:pt x="13370" y="10964"/>
                </a:cubicBezTo>
                <a:cubicBezTo>
                  <a:pt x="13362" y="11026"/>
                  <a:pt x="13386" y="11133"/>
                  <a:pt x="13419" y="11187"/>
                </a:cubicBezTo>
                <a:cubicBezTo>
                  <a:pt x="13449" y="11237"/>
                  <a:pt x="13490" y="11258"/>
                  <a:pt x="13543" y="11261"/>
                </a:cubicBezTo>
                <a:cubicBezTo>
                  <a:pt x="13668" y="11268"/>
                  <a:pt x="13654" y="11253"/>
                  <a:pt x="13717" y="11162"/>
                </a:cubicBezTo>
                <a:cubicBezTo>
                  <a:pt x="13753" y="11110"/>
                  <a:pt x="13742" y="11054"/>
                  <a:pt x="13742" y="10988"/>
                </a:cubicBezTo>
                <a:cubicBezTo>
                  <a:pt x="13742" y="10906"/>
                  <a:pt x="13733" y="10882"/>
                  <a:pt x="13692" y="10815"/>
                </a:cubicBezTo>
                <a:cubicBezTo>
                  <a:pt x="13638" y="10725"/>
                  <a:pt x="13647" y="10731"/>
                  <a:pt x="13568" y="10691"/>
                </a:cubicBezTo>
                <a:cubicBezTo>
                  <a:pt x="13534" y="10674"/>
                  <a:pt x="13459" y="10644"/>
                  <a:pt x="13444" y="10716"/>
                </a:cubicBezTo>
                <a:cubicBezTo>
                  <a:pt x="13431" y="10777"/>
                  <a:pt x="13442" y="10819"/>
                  <a:pt x="13469" y="10864"/>
                </a:cubicBezTo>
              </a:path>
              <a:path w="10072" h="3052">
                <a:moveTo>
                  <a:pt x="14461" y="10319"/>
                </a:moveTo>
                <a:cubicBezTo>
                  <a:pt x="14537" y="10290"/>
                  <a:pt x="14601" y="10294"/>
                  <a:pt x="14684" y="10294"/>
                </a:cubicBezTo>
                <a:cubicBezTo>
                  <a:pt x="14734" y="10294"/>
                  <a:pt x="14783" y="10294"/>
                  <a:pt x="14833" y="10294"/>
                </a:cubicBezTo>
              </a:path>
              <a:path w="10072" h="3052">
                <a:moveTo>
                  <a:pt x="14560" y="10517"/>
                </a:moveTo>
                <a:cubicBezTo>
                  <a:pt x="14641" y="10563"/>
                  <a:pt x="14686" y="10588"/>
                  <a:pt x="14784" y="10592"/>
                </a:cubicBezTo>
                <a:cubicBezTo>
                  <a:pt x="14861" y="10596"/>
                  <a:pt x="14928" y="10616"/>
                  <a:pt x="15007" y="10616"/>
                </a:cubicBezTo>
              </a:path>
              <a:path w="10072" h="3052">
                <a:moveTo>
                  <a:pt x="15379" y="9996"/>
                </a:moveTo>
                <a:cubicBezTo>
                  <a:pt x="15394" y="10070"/>
                  <a:pt x="15378" y="10201"/>
                  <a:pt x="15404" y="10269"/>
                </a:cubicBezTo>
                <a:cubicBezTo>
                  <a:pt x="15426" y="10325"/>
                  <a:pt x="15429" y="10376"/>
                  <a:pt x="15429" y="10443"/>
                </a:cubicBezTo>
              </a:path>
              <a:path w="10072" h="3052">
                <a:moveTo>
                  <a:pt x="15230" y="10294"/>
                </a:moveTo>
                <a:cubicBezTo>
                  <a:pt x="15306" y="10265"/>
                  <a:pt x="15370" y="10269"/>
                  <a:pt x="15453" y="10269"/>
                </a:cubicBezTo>
                <a:cubicBezTo>
                  <a:pt x="15503" y="10269"/>
                  <a:pt x="15552" y="10269"/>
                  <a:pt x="15602" y="10269"/>
                </a:cubicBezTo>
              </a:path>
              <a:path w="10072" h="3052">
                <a:moveTo>
                  <a:pt x="15354" y="10592"/>
                </a:moveTo>
                <a:cubicBezTo>
                  <a:pt x="15437" y="10592"/>
                  <a:pt x="15519" y="10592"/>
                  <a:pt x="15602" y="10592"/>
                </a:cubicBezTo>
              </a:path>
              <a:path w="10072" h="3052">
                <a:moveTo>
                  <a:pt x="16073" y="9723"/>
                </a:moveTo>
                <a:cubicBezTo>
                  <a:pt x="16146" y="9713"/>
                  <a:pt x="16153" y="9677"/>
                  <a:pt x="16222" y="9649"/>
                </a:cubicBezTo>
                <a:cubicBezTo>
                  <a:pt x="16314" y="9611"/>
                  <a:pt x="16334" y="9639"/>
                  <a:pt x="16396" y="9699"/>
                </a:cubicBezTo>
                <a:cubicBezTo>
                  <a:pt x="16450" y="9752"/>
                  <a:pt x="16413" y="9821"/>
                  <a:pt x="16371" y="9872"/>
                </a:cubicBezTo>
                <a:cubicBezTo>
                  <a:pt x="16332" y="9920"/>
                  <a:pt x="16272" y="9937"/>
                  <a:pt x="16222" y="9947"/>
                </a:cubicBezTo>
                <a:cubicBezTo>
                  <a:pt x="16206" y="9947"/>
                  <a:pt x="16189" y="9947"/>
                  <a:pt x="16173" y="9947"/>
                </a:cubicBezTo>
                <a:cubicBezTo>
                  <a:pt x="16238" y="9914"/>
                  <a:pt x="16283" y="9914"/>
                  <a:pt x="16346" y="9947"/>
                </a:cubicBezTo>
                <a:cubicBezTo>
                  <a:pt x="16423" y="9987"/>
                  <a:pt x="16475" y="10083"/>
                  <a:pt x="16495" y="10170"/>
                </a:cubicBezTo>
                <a:cubicBezTo>
                  <a:pt x="16514" y="10253"/>
                  <a:pt x="16497" y="10298"/>
                  <a:pt x="16446" y="10344"/>
                </a:cubicBezTo>
                <a:cubicBezTo>
                  <a:pt x="16407" y="10379"/>
                  <a:pt x="16340" y="10409"/>
                  <a:pt x="16297" y="10418"/>
                </a:cubicBezTo>
                <a:cubicBezTo>
                  <a:pt x="16239" y="10418"/>
                  <a:pt x="16214" y="10418"/>
                  <a:pt x="16173" y="10418"/>
                </a:cubicBezTo>
              </a:path>
              <a:path w="10072" h="3052">
                <a:moveTo>
                  <a:pt x="15949" y="10592"/>
                </a:moveTo>
                <a:cubicBezTo>
                  <a:pt x="16014" y="10630"/>
                  <a:pt x="16093" y="10616"/>
                  <a:pt x="16173" y="10616"/>
                </a:cubicBezTo>
                <a:cubicBezTo>
                  <a:pt x="16339" y="10616"/>
                  <a:pt x="16540" y="10648"/>
                  <a:pt x="16694" y="10592"/>
                </a:cubicBezTo>
              </a:path>
              <a:path w="10072" h="3052">
                <a:moveTo>
                  <a:pt x="16049" y="11187"/>
                </a:moveTo>
                <a:cubicBezTo>
                  <a:pt x="16076" y="11318"/>
                  <a:pt x="16103" y="11457"/>
                  <a:pt x="16123" y="11584"/>
                </a:cubicBezTo>
                <a:cubicBezTo>
                  <a:pt x="16132" y="11642"/>
                  <a:pt x="16141" y="11698"/>
                  <a:pt x="16148" y="11757"/>
                </a:cubicBezTo>
                <a:cubicBezTo>
                  <a:pt x="16121" y="11686"/>
                  <a:pt x="16102" y="11612"/>
                  <a:pt x="16098" y="11534"/>
                </a:cubicBezTo>
                <a:cubicBezTo>
                  <a:pt x="16094" y="11462"/>
                  <a:pt x="16060" y="11404"/>
                  <a:pt x="16049" y="11336"/>
                </a:cubicBezTo>
                <a:cubicBezTo>
                  <a:pt x="16039" y="11274"/>
                  <a:pt x="16027" y="11220"/>
                  <a:pt x="16024" y="11162"/>
                </a:cubicBezTo>
                <a:cubicBezTo>
                  <a:pt x="16020" y="11095"/>
                  <a:pt x="16013" y="11023"/>
                  <a:pt x="16049" y="10964"/>
                </a:cubicBezTo>
                <a:cubicBezTo>
                  <a:pt x="16083" y="10908"/>
                  <a:pt x="16137" y="10892"/>
                  <a:pt x="16197" y="10889"/>
                </a:cubicBezTo>
                <a:cubicBezTo>
                  <a:pt x="16288" y="10884"/>
                  <a:pt x="16361" y="10907"/>
                  <a:pt x="16446" y="10914"/>
                </a:cubicBezTo>
                <a:cubicBezTo>
                  <a:pt x="16570" y="10924"/>
                  <a:pt x="16679" y="10908"/>
                  <a:pt x="16793" y="10889"/>
                </a:cubicBezTo>
                <a:cubicBezTo>
                  <a:pt x="16834" y="10882"/>
                  <a:pt x="16881" y="10868"/>
                  <a:pt x="16892" y="10864"/>
                </a:cubicBezTo>
              </a:path>
              <a:path w="10072" h="3052">
                <a:moveTo>
                  <a:pt x="16346" y="11137"/>
                </a:moveTo>
                <a:cubicBezTo>
                  <a:pt x="16352" y="11283"/>
                  <a:pt x="16374" y="11421"/>
                  <a:pt x="16396" y="11559"/>
                </a:cubicBezTo>
                <a:cubicBezTo>
                  <a:pt x="16405" y="11619"/>
                  <a:pt x="16389" y="11619"/>
                  <a:pt x="16446" y="11633"/>
                </a:cubicBezTo>
              </a:path>
              <a:path w="10072" h="3052">
                <a:moveTo>
                  <a:pt x="16619" y="11112"/>
                </a:moveTo>
                <a:cubicBezTo>
                  <a:pt x="16619" y="11195"/>
                  <a:pt x="16598" y="11239"/>
                  <a:pt x="16594" y="11311"/>
                </a:cubicBezTo>
                <a:cubicBezTo>
                  <a:pt x="16589" y="11398"/>
                  <a:pt x="16613" y="11411"/>
                  <a:pt x="16644" y="11485"/>
                </a:cubicBezTo>
                <a:cubicBezTo>
                  <a:pt x="16666" y="11538"/>
                  <a:pt x="16692" y="11622"/>
                  <a:pt x="16743" y="11658"/>
                </a:cubicBezTo>
                <a:cubicBezTo>
                  <a:pt x="16808" y="11705"/>
                  <a:pt x="16865" y="11708"/>
                  <a:pt x="16942" y="11708"/>
                </a:cubicBezTo>
                <a:cubicBezTo>
                  <a:pt x="16994" y="11708"/>
                  <a:pt x="17072" y="11665"/>
                  <a:pt x="17090" y="11609"/>
                </a:cubicBezTo>
                <a:cubicBezTo>
                  <a:pt x="17116" y="11530"/>
                  <a:pt x="17094" y="11385"/>
                  <a:pt x="17066" y="11311"/>
                </a:cubicBezTo>
                <a:cubicBezTo>
                  <a:pt x="17040" y="11241"/>
                  <a:pt x="16969" y="11189"/>
                  <a:pt x="16917" y="11137"/>
                </a:cubicBezTo>
                <a:cubicBezTo>
                  <a:pt x="16873" y="11093"/>
                  <a:pt x="16764" y="11014"/>
                  <a:pt x="16694" y="11038"/>
                </a:cubicBezTo>
                <a:cubicBezTo>
                  <a:pt x="16655" y="11051"/>
                  <a:pt x="16614" y="11071"/>
                  <a:pt x="16570" y="11088"/>
                </a:cubicBezTo>
              </a:path>
              <a:path w="10072" h="3052">
                <a:moveTo>
                  <a:pt x="16942" y="9971"/>
                </a:moveTo>
                <a:cubicBezTo>
                  <a:pt x="16949" y="10047"/>
                  <a:pt x="16966" y="10091"/>
                  <a:pt x="16966" y="10170"/>
                </a:cubicBezTo>
                <a:cubicBezTo>
                  <a:pt x="16966" y="10277"/>
                  <a:pt x="16956" y="10365"/>
                  <a:pt x="16942" y="10468"/>
                </a:cubicBezTo>
                <a:cubicBezTo>
                  <a:pt x="16925" y="10588"/>
                  <a:pt x="16918" y="10374"/>
                  <a:pt x="16917" y="10344"/>
                </a:cubicBezTo>
                <a:cubicBezTo>
                  <a:pt x="16912" y="10249"/>
                  <a:pt x="16896" y="10166"/>
                  <a:pt x="16892" y="10071"/>
                </a:cubicBezTo>
                <a:cubicBezTo>
                  <a:pt x="16888" y="9976"/>
                  <a:pt x="16846" y="9895"/>
                  <a:pt x="16842" y="9798"/>
                </a:cubicBezTo>
                <a:cubicBezTo>
                  <a:pt x="16839" y="9737"/>
                  <a:pt x="16800" y="9691"/>
                  <a:pt x="16818" y="9624"/>
                </a:cubicBezTo>
                <a:cubicBezTo>
                  <a:pt x="16842" y="9537"/>
                  <a:pt x="16968" y="9535"/>
                  <a:pt x="17041" y="9525"/>
                </a:cubicBezTo>
                <a:cubicBezTo>
                  <a:pt x="17159" y="9509"/>
                  <a:pt x="17256" y="9500"/>
                  <a:pt x="17363" y="9475"/>
                </a:cubicBezTo>
                <a:cubicBezTo>
                  <a:pt x="17445" y="9456"/>
                  <a:pt x="17512" y="9487"/>
                  <a:pt x="17587" y="9451"/>
                </a:cubicBezTo>
              </a:path>
              <a:path w="10072" h="3052">
                <a:moveTo>
                  <a:pt x="17115" y="9897"/>
                </a:moveTo>
                <a:cubicBezTo>
                  <a:pt x="17115" y="10037"/>
                  <a:pt x="17133" y="10142"/>
                  <a:pt x="17140" y="10269"/>
                </a:cubicBezTo>
                <a:cubicBezTo>
                  <a:pt x="17140" y="10311"/>
                  <a:pt x="17140" y="10319"/>
                  <a:pt x="17140" y="10344"/>
                </a:cubicBezTo>
              </a:path>
              <a:path w="10072" h="3052">
                <a:moveTo>
                  <a:pt x="17363" y="9872"/>
                </a:moveTo>
                <a:cubicBezTo>
                  <a:pt x="17326" y="9938"/>
                  <a:pt x="17298" y="9993"/>
                  <a:pt x="17289" y="10071"/>
                </a:cubicBezTo>
                <a:cubicBezTo>
                  <a:pt x="17279" y="10160"/>
                  <a:pt x="17287" y="10244"/>
                  <a:pt x="17338" y="10319"/>
                </a:cubicBezTo>
                <a:cubicBezTo>
                  <a:pt x="17364" y="10357"/>
                  <a:pt x="17437" y="10436"/>
                  <a:pt x="17487" y="10443"/>
                </a:cubicBezTo>
                <a:cubicBezTo>
                  <a:pt x="17619" y="10463"/>
                  <a:pt x="17677" y="10412"/>
                  <a:pt x="17711" y="10294"/>
                </a:cubicBezTo>
                <a:cubicBezTo>
                  <a:pt x="17732" y="10223"/>
                  <a:pt x="17704" y="10135"/>
                  <a:pt x="17686" y="10071"/>
                </a:cubicBezTo>
                <a:cubicBezTo>
                  <a:pt x="17659" y="9974"/>
                  <a:pt x="17649" y="9897"/>
                  <a:pt x="17537" y="9872"/>
                </a:cubicBezTo>
                <a:cubicBezTo>
                  <a:pt x="17439" y="9850"/>
                  <a:pt x="17474" y="9855"/>
                  <a:pt x="17338" y="9872"/>
                </a:cubicBezTo>
              </a:path>
              <a:path w="10072" h="3052">
                <a:moveTo>
                  <a:pt x="17462" y="10914"/>
                </a:moveTo>
                <a:cubicBezTo>
                  <a:pt x="17468" y="11060"/>
                  <a:pt x="17458" y="11242"/>
                  <a:pt x="17487" y="11385"/>
                </a:cubicBezTo>
                <a:cubicBezTo>
                  <a:pt x="17504" y="11469"/>
                  <a:pt x="17514" y="11574"/>
                  <a:pt x="17537" y="11658"/>
                </a:cubicBezTo>
                <a:cubicBezTo>
                  <a:pt x="17545" y="11675"/>
                  <a:pt x="17554" y="11691"/>
                  <a:pt x="17562" y="11708"/>
                </a:cubicBezTo>
                <a:cubicBezTo>
                  <a:pt x="17525" y="11634"/>
                  <a:pt x="17535" y="11543"/>
                  <a:pt x="17512" y="11460"/>
                </a:cubicBezTo>
                <a:cubicBezTo>
                  <a:pt x="17493" y="11390"/>
                  <a:pt x="17469" y="11307"/>
                  <a:pt x="17462" y="11237"/>
                </a:cubicBezTo>
                <a:cubicBezTo>
                  <a:pt x="17453" y="11150"/>
                  <a:pt x="17438" y="11076"/>
                  <a:pt x="17438" y="10988"/>
                </a:cubicBezTo>
                <a:cubicBezTo>
                  <a:pt x="17438" y="10946"/>
                  <a:pt x="17424" y="10853"/>
                  <a:pt x="17487" y="10840"/>
                </a:cubicBezTo>
                <a:cubicBezTo>
                  <a:pt x="17602" y="10816"/>
                  <a:pt x="17715" y="10815"/>
                  <a:pt x="17835" y="10815"/>
                </a:cubicBezTo>
                <a:cubicBezTo>
                  <a:pt x="17918" y="10815"/>
                  <a:pt x="18000" y="10815"/>
                  <a:pt x="18083" y="10815"/>
                </a:cubicBezTo>
              </a:path>
              <a:path w="10072" h="3052">
                <a:moveTo>
                  <a:pt x="17785" y="11137"/>
                </a:moveTo>
                <a:cubicBezTo>
                  <a:pt x="17790" y="11277"/>
                  <a:pt x="17810" y="11397"/>
                  <a:pt x="17810" y="11534"/>
                </a:cubicBezTo>
                <a:cubicBezTo>
                  <a:pt x="17810" y="11620"/>
                  <a:pt x="17835" y="11689"/>
                  <a:pt x="17835" y="11782"/>
                </a:cubicBezTo>
                <a:cubicBezTo>
                  <a:pt x="17835" y="11774"/>
                  <a:pt x="17835" y="11765"/>
                  <a:pt x="17835" y="11757"/>
                </a:cubicBezTo>
              </a:path>
              <a:path w="10072" h="3052">
                <a:moveTo>
                  <a:pt x="18008" y="11237"/>
                </a:moveTo>
                <a:cubicBezTo>
                  <a:pt x="17946" y="11339"/>
                  <a:pt x="17877" y="11431"/>
                  <a:pt x="17909" y="11559"/>
                </a:cubicBezTo>
                <a:cubicBezTo>
                  <a:pt x="17925" y="11622"/>
                  <a:pt x="17976" y="11680"/>
                  <a:pt x="18008" y="11733"/>
                </a:cubicBezTo>
                <a:cubicBezTo>
                  <a:pt x="18034" y="11776"/>
                  <a:pt x="18098" y="11821"/>
                  <a:pt x="18157" y="11807"/>
                </a:cubicBezTo>
                <a:cubicBezTo>
                  <a:pt x="18257" y="11783"/>
                  <a:pt x="18256" y="11706"/>
                  <a:pt x="18281" y="11633"/>
                </a:cubicBezTo>
                <a:cubicBezTo>
                  <a:pt x="18309" y="11550"/>
                  <a:pt x="18303" y="11493"/>
                  <a:pt x="18281" y="11410"/>
                </a:cubicBezTo>
                <a:cubicBezTo>
                  <a:pt x="18260" y="11332"/>
                  <a:pt x="18232" y="11246"/>
                  <a:pt x="18157" y="11212"/>
                </a:cubicBezTo>
                <a:cubicBezTo>
                  <a:pt x="18097" y="11192"/>
                  <a:pt x="18082" y="11193"/>
                  <a:pt x="18058" y="11162"/>
                </a:cubicBezTo>
              </a:path>
              <a:path w="10072" h="3052">
                <a:moveTo>
                  <a:pt x="18479" y="10790"/>
                </a:moveTo>
                <a:cubicBezTo>
                  <a:pt x="18562" y="10790"/>
                  <a:pt x="18645" y="10790"/>
                  <a:pt x="18728" y="10790"/>
                </a:cubicBezTo>
              </a:path>
              <a:path w="10072" h="3052">
                <a:moveTo>
                  <a:pt x="18604" y="10988"/>
                </a:moveTo>
                <a:cubicBezTo>
                  <a:pt x="18728" y="11006"/>
                  <a:pt x="18735" y="11014"/>
                  <a:pt x="18802" y="11013"/>
                </a:cubicBezTo>
              </a:path>
              <a:path w="10072" h="3052">
                <a:moveTo>
                  <a:pt x="19124" y="10096"/>
                </a:moveTo>
                <a:cubicBezTo>
                  <a:pt x="19144" y="10195"/>
                  <a:pt x="19160" y="10295"/>
                  <a:pt x="19174" y="10393"/>
                </a:cubicBezTo>
                <a:cubicBezTo>
                  <a:pt x="19182" y="10452"/>
                  <a:pt x="19192" y="10508"/>
                  <a:pt x="19199" y="10567"/>
                </a:cubicBezTo>
              </a:path>
              <a:path w="10072" h="3052">
                <a:moveTo>
                  <a:pt x="18926" y="10344"/>
                </a:moveTo>
                <a:cubicBezTo>
                  <a:pt x="19017" y="10314"/>
                  <a:pt x="19101" y="10319"/>
                  <a:pt x="19199" y="10319"/>
                </a:cubicBezTo>
                <a:cubicBezTo>
                  <a:pt x="19273" y="10319"/>
                  <a:pt x="19348" y="10319"/>
                  <a:pt x="19422" y="10319"/>
                </a:cubicBezTo>
              </a:path>
              <a:path w="10072" h="3052">
                <a:moveTo>
                  <a:pt x="19025" y="10616"/>
                </a:moveTo>
                <a:cubicBezTo>
                  <a:pt x="19130" y="10651"/>
                  <a:pt x="19259" y="10661"/>
                  <a:pt x="19372" y="10641"/>
                </a:cubicBezTo>
                <a:cubicBezTo>
                  <a:pt x="19397" y="10633"/>
                  <a:pt x="19422" y="10624"/>
                  <a:pt x="19447" y="10616"/>
                </a:cubicBezTo>
              </a:path>
              <a:path w="10072" h="3052">
                <a:moveTo>
                  <a:pt x="19645" y="10244"/>
                </a:moveTo>
                <a:cubicBezTo>
                  <a:pt x="19705" y="10193"/>
                  <a:pt x="19758" y="10146"/>
                  <a:pt x="19844" y="10170"/>
                </a:cubicBezTo>
                <a:cubicBezTo>
                  <a:pt x="19902" y="10186"/>
                  <a:pt x="19975" y="10202"/>
                  <a:pt x="19993" y="10269"/>
                </a:cubicBezTo>
                <a:cubicBezTo>
                  <a:pt x="20010" y="10333"/>
                  <a:pt x="19944" y="10410"/>
                  <a:pt x="19893" y="10443"/>
                </a:cubicBezTo>
                <a:cubicBezTo>
                  <a:pt x="19795" y="10507"/>
                  <a:pt x="19772" y="10474"/>
                  <a:pt x="19893" y="10468"/>
                </a:cubicBezTo>
                <a:cubicBezTo>
                  <a:pt x="19946" y="10465"/>
                  <a:pt x="20024" y="10512"/>
                  <a:pt x="20042" y="10567"/>
                </a:cubicBezTo>
                <a:cubicBezTo>
                  <a:pt x="20060" y="10622"/>
                  <a:pt x="20051" y="10750"/>
                  <a:pt x="20017" y="10790"/>
                </a:cubicBezTo>
                <a:cubicBezTo>
                  <a:pt x="19962" y="10854"/>
                  <a:pt x="19892" y="10860"/>
                  <a:pt x="19819" y="10815"/>
                </a:cubicBezTo>
                <a:cubicBezTo>
                  <a:pt x="19773" y="10787"/>
                  <a:pt x="19707" y="10713"/>
                  <a:pt x="19695" y="10666"/>
                </a:cubicBezTo>
              </a:path>
              <a:path w="10072" h="3052">
                <a:moveTo>
                  <a:pt x="20191" y="10294"/>
                </a:moveTo>
                <a:cubicBezTo>
                  <a:pt x="20222" y="10356"/>
                  <a:pt x="20216" y="10418"/>
                  <a:pt x="20216" y="10492"/>
                </a:cubicBezTo>
                <a:cubicBezTo>
                  <a:pt x="20216" y="10571"/>
                  <a:pt x="20222" y="10642"/>
                  <a:pt x="20241" y="10716"/>
                </a:cubicBezTo>
                <a:cubicBezTo>
                  <a:pt x="20261" y="10777"/>
                  <a:pt x="20259" y="10791"/>
                  <a:pt x="20290" y="10815"/>
                </a:cubicBezTo>
                <a:cubicBezTo>
                  <a:pt x="20261" y="10708"/>
                  <a:pt x="20246" y="10600"/>
                  <a:pt x="20216" y="10492"/>
                </a:cubicBezTo>
                <a:cubicBezTo>
                  <a:pt x="20193" y="10409"/>
                  <a:pt x="20182" y="10333"/>
                  <a:pt x="20191" y="10269"/>
                </a:cubicBezTo>
                <a:cubicBezTo>
                  <a:pt x="20205" y="10168"/>
                  <a:pt x="20182" y="10181"/>
                  <a:pt x="20265" y="10120"/>
                </a:cubicBezTo>
                <a:cubicBezTo>
                  <a:pt x="20318" y="10081"/>
                  <a:pt x="20396" y="10074"/>
                  <a:pt x="20464" y="10071"/>
                </a:cubicBezTo>
                <a:cubicBezTo>
                  <a:pt x="20560" y="10066"/>
                  <a:pt x="20653" y="10076"/>
                  <a:pt x="20737" y="10046"/>
                </a:cubicBezTo>
                <a:cubicBezTo>
                  <a:pt x="20753" y="10038"/>
                  <a:pt x="20770" y="10029"/>
                  <a:pt x="20786" y="10021"/>
                </a:cubicBezTo>
              </a:path>
              <a:path w="10072" h="3052">
                <a:moveTo>
                  <a:pt x="20489" y="10244"/>
                </a:moveTo>
                <a:cubicBezTo>
                  <a:pt x="20489" y="10395"/>
                  <a:pt x="20487" y="10555"/>
                  <a:pt x="20513" y="10691"/>
                </a:cubicBezTo>
                <a:cubicBezTo>
                  <a:pt x="20513" y="10732"/>
                  <a:pt x="20513" y="10756"/>
                  <a:pt x="20513" y="10716"/>
                </a:cubicBezTo>
              </a:path>
              <a:path w="10072" h="3052">
                <a:moveTo>
                  <a:pt x="20662" y="10319"/>
                </a:moveTo>
                <a:cubicBezTo>
                  <a:pt x="20638" y="10400"/>
                  <a:pt x="20588" y="10505"/>
                  <a:pt x="20613" y="10592"/>
                </a:cubicBezTo>
                <a:cubicBezTo>
                  <a:pt x="20633" y="10664"/>
                  <a:pt x="20671" y="10793"/>
                  <a:pt x="20737" y="10840"/>
                </a:cubicBezTo>
                <a:cubicBezTo>
                  <a:pt x="20792" y="10879"/>
                  <a:pt x="20892" y="10908"/>
                  <a:pt x="20960" y="10889"/>
                </a:cubicBezTo>
                <a:cubicBezTo>
                  <a:pt x="21052" y="10863"/>
                  <a:pt x="21081" y="10769"/>
                  <a:pt x="21084" y="10691"/>
                </a:cubicBezTo>
                <a:cubicBezTo>
                  <a:pt x="21088" y="10592"/>
                  <a:pt x="21050" y="10538"/>
                  <a:pt x="20985" y="10468"/>
                </a:cubicBezTo>
                <a:cubicBezTo>
                  <a:pt x="20964" y="10446"/>
                  <a:pt x="20882" y="10350"/>
                  <a:pt x="20861" y="10344"/>
                </a:cubicBezTo>
                <a:cubicBezTo>
                  <a:pt x="20786" y="10344"/>
                  <a:pt x="20762" y="10344"/>
                  <a:pt x="20712" y="10344"/>
                </a:cubicBezTo>
              </a:path>
              <a:path w="10072" h="3052">
                <a:moveTo>
                  <a:pt x="21134" y="10988"/>
                </a:moveTo>
                <a:cubicBezTo>
                  <a:pt x="20978" y="11004"/>
                  <a:pt x="20842" y="11013"/>
                  <a:pt x="20687" y="11013"/>
                </a:cubicBezTo>
                <a:cubicBezTo>
                  <a:pt x="20551" y="11013"/>
                  <a:pt x="20421" y="10998"/>
                  <a:pt x="20290" y="10988"/>
                </a:cubicBezTo>
                <a:cubicBezTo>
                  <a:pt x="20024" y="10967"/>
                  <a:pt x="19732" y="10976"/>
                  <a:pt x="19472" y="11013"/>
                </a:cubicBezTo>
                <a:cubicBezTo>
                  <a:pt x="19430" y="11013"/>
                  <a:pt x="19422" y="11013"/>
                  <a:pt x="19397" y="11013"/>
                </a:cubicBezTo>
              </a:path>
              <a:path w="10072" h="3052">
                <a:moveTo>
                  <a:pt x="20141" y="11286"/>
                </a:moveTo>
                <a:cubicBezTo>
                  <a:pt x="20131" y="11358"/>
                  <a:pt x="20089" y="11528"/>
                  <a:pt x="20117" y="11609"/>
                </a:cubicBezTo>
                <a:cubicBezTo>
                  <a:pt x="20138" y="11669"/>
                  <a:pt x="20156" y="11760"/>
                  <a:pt x="20166" y="11832"/>
                </a:cubicBezTo>
                <a:cubicBezTo>
                  <a:pt x="20177" y="11905"/>
                  <a:pt x="20179" y="11972"/>
                  <a:pt x="20241" y="11956"/>
                </a:cubicBezTo>
              </a:path>
              <a:path w="10072" h="3052">
                <a:moveTo>
                  <a:pt x="20414" y="11435"/>
                </a:moveTo>
                <a:cubicBezTo>
                  <a:pt x="20406" y="11504"/>
                  <a:pt x="20369" y="11587"/>
                  <a:pt x="20389" y="11658"/>
                </a:cubicBezTo>
                <a:cubicBezTo>
                  <a:pt x="20408" y="11727"/>
                  <a:pt x="20430" y="11769"/>
                  <a:pt x="20464" y="11832"/>
                </a:cubicBezTo>
                <a:cubicBezTo>
                  <a:pt x="20494" y="11887"/>
                  <a:pt x="20521" y="11963"/>
                  <a:pt x="20588" y="11981"/>
                </a:cubicBezTo>
                <a:cubicBezTo>
                  <a:pt x="20670" y="12003"/>
                  <a:pt x="20740" y="12027"/>
                  <a:pt x="20811" y="11956"/>
                </a:cubicBezTo>
                <a:cubicBezTo>
                  <a:pt x="20853" y="11914"/>
                  <a:pt x="20902" y="11809"/>
                  <a:pt x="20910" y="11757"/>
                </a:cubicBezTo>
                <a:cubicBezTo>
                  <a:pt x="20924" y="11661"/>
                  <a:pt x="20874" y="11545"/>
                  <a:pt x="20836" y="11460"/>
                </a:cubicBezTo>
                <a:cubicBezTo>
                  <a:pt x="20816" y="11415"/>
                  <a:pt x="20737" y="11346"/>
                  <a:pt x="20687" y="11336"/>
                </a:cubicBezTo>
                <a:cubicBezTo>
                  <a:pt x="20639" y="11326"/>
                  <a:pt x="20530" y="11349"/>
                  <a:pt x="20513" y="11410"/>
                </a:cubicBezTo>
                <a:cubicBezTo>
                  <a:pt x="20513" y="11427"/>
                  <a:pt x="20513" y="11443"/>
                  <a:pt x="20513" y="114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Ink 9"/>
          <p:cNvSpPr/>
          <p:nvPr/>
        </p:nvSpPr>
        <p:spPr>
          <a:xfrm>
            <a:off x="7599240" y="1955880"/>
            <a:ext cx="152640" cy="258840"/>
          </a:xfrm>
          <a:custGeom>
            <a:avLst/>
            <a:gdLst/>
            <a:ahLst/>
            <a:rect l="l" t="t" r="r" b="b"/>
            <a:pathLst>
              <a:path w="422" h="721">
                <a:moveTo>
                  <a:pt x="21134" y="5457"/>
                </a:moveTo>
                <a:cubicBezTo>
                  <a:pt x="21114" y="5517"/>
                  <a:pt x="21095" y="5532"/>
                  <a:pt x="21134" y="5556"/>
                </a:cubicBezTo>
                <a:cubicBezTo>
                  <a:pt x="21172" y="5517"/>
                  <a:pt x="21225" y="5442"/>
                  <a:pt x="21282" y="5432"/>
                </a:cubicBezTo>
                <a:cubicBezTo>
                  <a:pt x="21369" y="5416"/>
                  <a:pt x="21415" y="5472"/>
                  <a:pt x="21382" y="5556"/>
                </a:cubicBezTo>
                <a:cubicBezTo>
                  <a:pt x="21365" y="5600"/>
                  <a:pt x="21316" y="5645"/>
                  <a:pt x="21282" y="5680"/>
                </a:cubicBezTo>
                <a:cubicBezTo>
                  <a:pt x="21253" y="5710"/>
                  <a:pt x="21242" y="5725"/>
                  <a:pt x="21233" y="5755"/>
                </a:cubicBezTo>
                <a:cubicBezTo>
                  <a:pt x="21279" y="5718"/>
                  <a:pt x="21342" y="5680"/>
                  <a:pt x="21406" y="5705"/>
                </a:cubicBezTo>
                <a:cubicBezTo>
                  <a:pt x="21441" y="5719"/>
                  <a:pt x="21493" y="5799"/>
                  <a:pt x="21506" y="5829"/>
                </a:cubicBezTo>
                <a:cubicBezTo>
                  <a:pt x="21550" y="5928"/>
                  <a:pt x="21497" y="5981"/>
                  <a:pt x="21431" y="6052"/>
                </a:cubicBezTo>
                <a:cubicBezTo>
                  <a:pt x="21378" y="6109"/>
                  <a:pt x="21308" y="6132"/>
                  <a:pt x="21233" y="6152"/>
                </a:cubicBezTo>
                <a:cubicBezTo>
                  <a:pt x="21225" y="6152"/>
                  <a:pt x="21216" y="6152"/>
                  <a:pt x="21208" y="61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Ink 10"/>
          <p:cNvSpPr/>
          <p:nvPr/>
        </p:nvSpPr>
        <p:spPr>
          <a:xfrm>
            <a:off x="1938240" y="1401840"/>
            <a:ext cx="741600" cy="571320"/>
          </a:xfrm>
          <a:custGeom>
            <a:avLst/>
            <a:gdLst/>
            <a:ahLst/>
            <a:rect l="l" t="t" r="r" b="b"/>
            <a:pathLst>
              <a:path w="2059" h="1589">
                <a:moveTo>
                  <a:pt x="5383" y="4961"/>
                </a:moveTo>
                <a:cubicBezTo>
                  <a:pt x="5450" y="5002"/>
                  <a:pt x="5500" y="4965"/>
                  <a:pt x="5581" y="4961"/>
                </a:cubicBezTo>
                <a:cubicBezTo>
                  <a:pt x="5688" y="4956"/>
                  <a:pt x="5797" y="4961"/>
                  <a:pt x="5904" y="4961"/>
                </a:cubicBezTo>
              </a:path>
              <a:path w="2059" h="1589">
                <a:moveTo>
                  <a:pt x="5407" y="5184"/>
                </a:moveTo>
                <a:cubicBezTo>
                  <a:pt x="5573" y="5184"/>
                  <a:pt x="5738" y="5184"/>
                  <a:pt x="5904" y="5184"/>
                </a:cubicBezTo>
              </a:path>
              <a:path w="2059" h="1589">
                <a:moveTo>
                  <a:pt x="6648" y="4043"/>
                </a:moveTo>
                <a:cubicBezTo>
                  <a:pt x="6648" y="4124"/>
                  <a:pt x="6632" y="4159"/>
                  <a:pt x="6598" y="4217"/>
                </a:cubicBezTo>
                <a:cubicBezTo>
                  <a:pt x="6572" y="4262"/>
                  <a:pt x="6543" y="4303"/>
                  <a:pt x="6573" y="4341"/>
                </a:cubicBezTo>
                <a:cubicBezTo>
                  <a:pt x="6602" y="4379"/>
                  <a:pt x="6730" y="4379"/>
                  <a:pt x="6772" y="4366"/>
                </a:cubicBezTo>
                <a:cubicBezTo>
                  <a:pt x="6829" y="4348"/>
                  <a:pt x="6909" y="4360"/>
                  <a:pt x="6970" y="4341"/>
                </a:cubicBezTo>
                <a:cubicBezTo>
                  <a:pt x="6998" y="4313"/>
                  <a:pt x="7012" y="4304"/>
                  <a:pt x="7045" y="4316"/>
                </a:cubicBezTo>
              </a:path>
              <a:path w="2059" h="1589">
                <a:moveTo>
                  <a:pt x="7045" y="3894"/>
                </a:moveTo>
                <a:cubicBezTo>
                  <a:pt x="6980" y="3975"/>
                  <a:pt x="7017" y="4024"/>
                  <a:pt x="6995" y="4118"/>
                </a:cubicBezTo>
                <a:cubicBezTo>
                  <a:pt x="6980" y="4183"/>
                  <a:pt x="6990" y="4279"/>
                  <a:pt x="6970" y="4341"/>
                </a:cubicBezTo>
                <a:cubicBezTo>
                  <a:pt x="6949" y="4409"/>
                  <a:pt x="6957" y="4424"/>
                  <a:pt x="6970" y="4490"/>
                </a:cubicBezTo>
                <a:cubicBezTo>
                  <a:pt x="6982" y="4549"/>
                  <a:pt x="6991" y="4547"/>
                  <a:pt x="6970" y="4589"/>
                </a:cubicBezTo>
              </a:path>
              <a:path w="2059" h="1589">
                <a:moveTo>
                  <a:pt x="6499" y="4762"/>
                </a:moveTo>
                <a:cubicBezTo>
                  <a:pt x="6559" y="4727"/>
                  <a:pt x="6624" y="4738"/>
                  <a:pt x="6697" y="4738"/>
                </a:cubicBezTo>
                <a:cubicBezTo>
                  <a:pt x="6890" y="4738"/>
                  <a:pt x="7082" y="4739"/>
                  <a:pt x="7268" y="4762"/>
                </a:cubicBezTo>
                <a:cubicBezTo>
                  <a:pt x="7301" y="4766"/>
                  <a:pt x="7525" y="4764"/>
                  <a:pt x="7392" y="4738"/>
                </a:cubicBezTo>
              </a:path>
              <a:path w="2059" h="1589">
                <a:moveTo>
                  <a:pt x="6747" y="4911"/>
                </a:moveTo>
                <a:cubicBezTo>
                  <a:pt x="6826" y="4911"/>
                  <a:pt x="7059" y="4932"/>
                  <a:pt x="7045" y="4887"/>
                </a:cubicBezTo>
              </a:path>
              <a:path w="2059" h="1589">
                <a:moveTo>
                  <a:pt x="6772" y="4936"/>
                </a:moveTo>
                <a:cubicBezTo>
                  <a:pt x="6739" y="4978"/>
                  <a:pt x="6706" y="5039"/>
                  <a:pt x="6697" y="5085"/>
                </a:cubicBezTo>
                <a:cubicBezTo>
                  <a:pt x="6697" y="5135"/>
                  <a:pt x="6697" y="5151"/>
                  <a:pt x="6697" y="5184"/>
                </a:cubicBezTo>
                <a:cubicBezTo>
                  <a:pt x="6740" y="5141"/>
                  <a:pt x="6785" y="5120"/>
                  <a:pt x="6846" y="5110"/>
                </a:cubicBezTo>
                <a:cubicBezTo>
                  <a:pt x="6901" y="5101"/>
                  <a:pt x="6979" y="5150"/>
                  <a:pt x="7020" y="5184"/>
                </a:cubicBezTo>
                <a:cubicBezTo>
                  <a:pt x="7054" y="5212"/>
                  <a:pt x="7122" y="5288"/>
                  <a:pt x="7119" y="5333"/>
                </a:cubicBezTo>
                <a:cubicBezTo>
                  <a:pt x="7112" y="5450"/>
                  <a:pt x="7061" y="5436"/>
                  <a:pt x="6970" y="5457"/>
                </a:cubicBezTo>
                <a:cubicBezTo>
                  <a:pt x="6889" y="5476"/>
                  <a:pt x="6831" y="5482"/>
                  <a:pt x="6747" y="5482"/>
                </a:cubicBezTo>
                <a:cubicBezTo>
                  <a:pt x="6739" y="5482"/>
                  <a:pt x="6730" y="5482"/>
                  <a:pt x="6722" y="54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Ink 11"/>
          <p:cNvSpPr/>
          <p:nvPr/>
        </p:nvSpPr>
        <p:spPr>
          <a:xfrm>
            <a:off x="2205000" y="1938240"/>
            <a:ext cx="3117960" cy="1009800"/>
          </a:xfrm>
          <a:custGeom>
            <a:avLst/>
            <a:gdLst/>
            <a:ahLst/>
            <a:rect l="l" t="t" r="r" b="b"/>
            <a:pathLst>
              <a:path w="8658" h="2804">
                <a:moveTo>
                  <a:pt x="6127" y="6747"/>
                </a:moveTo>
                <a:cubicBezTo>
                  <a:pt x="6200" y="6710"/>
                  <a:pt x="6287" y="6722"/>
                  <a:pt x="6375" y="6722"/>
                </a:cubicBezTo>
                <a:cubicBezTo>
                  <a:pt x="6458" y="6722"/>
                  <a:pt x="6540" y="6722"/>
                  <a:pt x="6623" y="6722"/>
                </a:cubicBezTo>
              </a:path>
              <a:path w="8658" h="2804">
                <a:moveTo>
                  <a:pt x="6152" y="6896"/>
                </a:moveTo>
                <a:cubicBezTo>
                  <a:pt x="6206" y="6929"/>
                  <a:pt x="6257" y="6921"/>
                  <a:pt x="6325" y="6921"/>
                </a:cubicBezTo>
                <a:cubicBezTo>
                  <a:pt x="6433" y="6921"/>
                  <a:pt x="6540" y="6921"/>
                  <a:pt x="6648" y="6921"/>
                </a:cubicBezTo>
              </a:path>
              <a:path w="8658" h="2804">
                <a:moveTo>
                  <a:pt x="7441" y="6251"/>
                </a:moveTo>
                <a:cubicBezTo>
                  <a:pt x="7441" y="6357"/>
                  <a:pt x="7448" y="6457"/>
                  <a:pt x="7466" y="6548"/>
                </a:cubicBezTo>
                <a:cubicBezTo>
                  <a:pt x="7475" y="6593"/>
                  <a:pt x="7466" y="6651"/>
                  <a:pt x="7466" y="6697"/>
                </a:cubicBezTo>
              </a:path>
              <a:path w="8658" h="2804">
                <a:moveTo>
                  <a:pt x="7218" y="6548"/>
                </a:moveTo>
                <a:cubicBezTo>
                  <a:pt x="7383" y="6548"/>
                  <a:pt x="7549" y="6548"/>
                  <a:pt x="7714" y="6548"/>
                </a:cubicBezTo>
              </a:path>
              <a:path w="8658" h="2804">
                <a:moveTo>
                  <a:pt x="7268" y="7020"/>
                </a:moveTo>
                <a:cubicBezTo>
                  <a:pt x="7375" y="7020"/>
                  <a:pt x="7483" y="7020"/>
                  <a:pt x="7590" y="7020"/>
                </a:cubicBezTo>
              </a:path>
              <a:path w="8658" h="2804">
                <a:moveTo>
                  <a:pt x="7962" y="6772"/>
                </a:moveTo>
                <a:cubicBezTo>
                  <a:pt x="8031" y="6795"/>
                  <a:pt x="8077" y="6755"/>
                  <a:pt x="8136" y="6821"/>
                </a:cubicBezTo>
                <a:cubicBezTo>
                  <a:pt x="8205" y="6899"/>
                  <a:pt x="8216" y="6997"/>
                  <a:pt x="8235" y="7094"/>
                </a:cubicBezTo>
                <a:cubicBezTo>
                  <a:pt x="8248" y="7157"/>
                  <a:pt x="8256" y="7230"/>
                  <a:pt x="8260" y="7293"/>
                </a:cubicBezTo>
                <a:cubicBezTo>
                  <a:pt x="8279" y="7571"/>
                  <a:pt x="8260" y="7857"/>
                  <a:pt x="8260" y="8136"/>
                </a:cubicBezTo>
                <a:cubicBezTo>
                  <a:pt x="8269" y="8060"/>
                  <a:pt x="8273" y="8088"/>
                  <a:pt x="8285" y="8012"/>
                </a:cubicBezTo>
                <a:cubicBezTo>
                  <a:pt x="8296" y="7944"/>
                  <a:pt x="8298" y="7880"/>
                  <a:pt x="8310" y="7813"/>
                </a:cubicBezTo>
                <a:cubicBezTo>
                  <a:pt x="8327" y="7720"/>
                  <a:pt x="8332" y="7639"/>
                  <a:pt x="8334" y="7541"/>
                </a:cubicBezTo>
                <a:cubicBezTo>
                  <a:pt x="8339" y="7275"/>
                  <a:pt x="8344" y="7007"/>
                  <a:pt x="8359" y="6747"/>
                </a:cubicBezTo>
                <a:cubicBezTo>
                  <a:pt x="8370" y="6558"/>
                  <a:pt x="8372" y="6358"/>
                  <a:pt x="8384" y="6176"/>
                </a:cubicBezTo>
                <a:cubicBezTo>
                  <a:pt x="8393" y="6046"/>
                  <a:pt x="8402" y="5902"/>
                  <a:pt x="8409" y="5779"/>
                </a:cubicBezTo>
                <a:cubicBezTo>
                  <a:pt x="8413" y="5718"/>
                  <a:pt x="8374" y="5518"/>
                  <a:pt x="8434" y="5482"/>
                </a:cubicBezTo>
                <a:cubicBezTo>
                  <a:pt x="8451" y="5472"/>
                  <a:pt x="8590" y="5459"/>
                  <a:pt x="8607" y="5457"/>
                </a:cubicBezTo>
                <a:cubicBezTo>
                  <a:pt x="9018" y="5400"/>
                  <a:pt x="9491" y="5457"/>
                  <a:pt x="9897" y="5482"/>
                </a:cubicBezTo>
                <a:cubicBezTo>
                  <a:pt x="10155" y="5498"/>
                  <a:pt x="10413" y="5469"/>
                  <a:pt x="10666" y="5457"/>
                </a:cubicBezTo>
                <a:cubicBezTo>
                  <a:pt x="10839" y="5449"/>
                  <a:pt x="11016" y="5441"/>
                  <a:pt x="11187" y="5432"/>
                </a:cubicBezTo>
                <a:cubicBezTo>
                  <a:pt x="11294" y="5426"/>
                  <a:pt x="11406" y="5412"/>
                  <a:pt x="11509" y="5407"/>
                </a:cubicBezTo>
                <a:cubicBezTo>
                  <a:pt x="11666" y="5399"/>
                  <a:pt x="11827" y="5390"/>
                  <a:pt x="11981" y="5383"/>
                </a:cubicBezTo>
                <a:cubicBezTo>
                  <a:pt x="12047" y="5380"/>
                  <a:pt x="12129" y="5405"/>
                  <a:pt x="12179" y="5407"/>
                </a:cubicBezTo>
                <a:cubicBezTo>
                  <a:pt x="12245" y="5410"/>
                  <a:pt x="12312" y="5404"/>
                  <a:pt x="12378" y="5407"/>
                </a:cubicBezTo>
              </a:path>
              <a:path w="8658" h="2804">
                <a:moveTo>
                  <a:pt x="9203" y="6028"/>
                </a:moveTo>
                <a:cubicBezTo>
                  <a:pt x="9203" y="6144"/>
                  <a:pt x="9183" y="6238"/>
                  <a:pt x="9178" y="6350"/>
                </a:cubicBezTo>
                <a:cubicBezTo>
                  <a:pt x="9174" y="6438"/>
                  <a:pt x="9167" y="6523"/>
                  <a:pt x="9153" y="6598"/>
                </a:cubicBezTo>
                <a:cubicBezTo>
                  <a:pt x="9153" y="6640"/>
                  <a:pt x="9153" y="6665"/>
                  <a:pt x="9153" y="6623"/>
                </a:cubicBezTo>
              </a:path>
              <a:path w="8658" h="2804">
                <a:moveTo>
                  <a:pt x="9748" y="6028"/>
                </a:moveTo>
                <a:cubicBezTo>
                  <a:pt x="9741" y="6139"/>
                  <a:pt x="9723" y="6238"/>
                  <a:pt x="9723" y="6350"/>
                </a:cubicBezTo>
                <a:cubicBezTo>
                  <a:pt x="9723" y="6424"/>
                  <a:pt x="9723" y="6499"/>
                  <a:pt x="9723" y="6573"/>
                </a:cubicBezTo>
              </a:path>
              <a:path w="8658" h="2804">
                <a:moveTo>
                  <a:pt x="9525" y="6325"/>
                </a:moveTo>
                <a:cubicBezTo>
                  <a:pt x="9601" y="6287"/>
                  <a:pt x="9651" y="6311"/>
                  <a:pt x="9723" y="6325"/>
                </a:cubicBezTo>
                <a:cubicBezTo>
                  <a:pt x="9799" y="6339"/>
                  <a:pt x="9893" y="6325"/>
                  <a:pt x="9971" y="6325"/>
                </a:cubicBezTo>
              </a:path>
              <a:path w="8658" h="2804">
                <a:moveTo>
                  <a:pt x="10319" y="5804"/>
                </a:moveTo>
                <a:cubicBezTo>
                  <a:pt x="10311" y="5866"/>
                  <a:pt x="10276" y="5937"/>
                  <a:pt x="10294" y="6003"/>
                </a:cubicBezTo>
                <a:cubicBezTo>
                  <a:pt x="10314" y="6074"/>
                  <a:pt x="10374" y="6096"/>
                  <a:pt x="10443" y="6077"/>
                </a:cubicBezTo>
                <a:cubicBezTo>
                  <a:pt x="10459" y="6069"/>
                  <a:pt x="10476" y="6060"/>
                  <a:pt x="10492" y="6052"/>
                </a:cubicBezTo>
              </a:path>
              <a:path w="8658" h="2804">
                <a:moveTo>
                  <a:pt x="10567" y="5680"/>
                </a:moveTo>
                <a:cubicBezTo>
                  <a:pt x="10541" y="5758"/>
                  <a:pt x="10521" y="5843"/>
                  <a:pt x="10517" y="5928"/>
                </a:cubicBezTo>
                <a:cubicBezTo>
                  <a:pt x="10513" y="6012"/>
                  <a:pt x="10530" y="6072"/>
                  <a:pt x="10542" y="6152"/>
                </a:cubicBezTo>
                <a:cubicBezTo>
                  <a:pt x="10550" y="6205"/>
                  <a:pt x="10560" y="6247"/>
                  <a:pt x="10567" y="6300"/>
                </a:cubicBezTo>
              </a:path>
              <a:path w="8658" h="2804">
                <a:moveTo>
                  <a:pt x="10269" y="6350"/>
                </a:moveTo>
                <a:cubicBezTo>
                  <a:pt x="10467" y="6350"/>
                  <a:pt x="10666" y="6350"/>
                  <a:pt x="10864" y="6350"/>
                </a:cubicBezTo>
              </a:path>
              <a:path w="8658" h="2804">
                <a:moveTo>
                  <a:pt x="10393" y="6474"/>
                </a:moveTo>
                <a:cubicBezTo>
                  <a:pt x="10497" y="6496"/>
                  <a:pt x="10545" y="6511"/>
                  <a:pt x="10641" y="6474"/>
                </a:cubicBezTo>
              </a:path>
              <a:path w="8658" h="2804">
                <a:moveTo>
                  <a:pt x="10492" y="6474"/>
                </a:moveTo>
                <a:cubicBezTo>
                  <a:pt x="10460" y="6531"/>
                  <a:pt x="10452" y="6537"/>
                  <a:pt x="10443" y="6598"/>
                </a:cubicBezTo>
                <a:cubicBezTo>
                  <a:pt x="10530" y="6598"/>
                  <a:pt x="10664" y="6563"/>
                  <a:pt x="10716" y="6648"/>
                </a:cubicBezTo>
                <a:cubicBezTo>
                  <a:pt x="10763" y="6724"/>
                  <a:pt x="10769" y="6743"/>
                  <a:pt x="10716" y="6796"/>
                </a:cubicBezTo>
                <a:cubicBezTo>
                  <a:pt x="10673" y="6839"/>
                  <a:pt x="10601" y="6821"/>
                  <a:pt x="10542" y="6821"/>
                </a:cubicBezTo>
                <a:cubicBezTo>
                  <a:pt x="10463" y="6821"/>
                  <a:pt x="10447" y="6804"/>
                  <a:pt x="10368" y="6796"/>
                </a:cubicBezTo>
              </a:path>
              <a:path w="8658" h="2804">
                <a:moveTo>
                  <a:pt x="8855" y="6970"/>
                </a:moveTo>
                <a:cubicBezTo>
                  <a:pt x="8957" y="6979"/>
                  <a:pt x="9048" y="6995"/>
                  <a:pt x="9153" y="6995"/>
                </a:cubicBezTo>
                <a:cubicBezTo>
                  <a:pt x="9387" y="6995"/>
                  <a:pt x="9613" y="7007"/>
                  <a:pt x="9847" y="7020"/>
                </a:cubicBezTo>
                <a:cubicBezTo>
                  <a:pt x="9990" y="7028"/>
                  <a:pt x="10127" y="7032"/>
                  <a:pt x="10269" y="7045"/>
                </a:cubicBezTo>
                <a:cubicBezTo>
                  <a:pt x="10448" y="7061"/>
                  <a:pt x="10635" y="7045"/>
                  <a:pt x="10815" y="7045"/>
                </a:cubicBezTo>
              </a:path>
              <a:path w="8658" h="2804">
                <a:moveTo>
                  <a:pt x="9674" y="7392"/>
                </a:moveTo>
                <a:cubicBezTo>
                  <a:pt x="9722" y="7324"/>
                  <a:pt x="9770" y="7307"/>
                  <a:pt x="9847" y="7293"/>
                </a:cubicBezTo>
                <a:cubicBezTo>
                  <a:pt x="9907" y="7282"/>
                  <a:pt x="9994" y="7285"/>
                  <a:pt x="10046" y="7317"/>
                </a:cubicBezTo>
                <a:cubicBezTo>
                  <a:pt x="10094" y="7346"/>
                  <a:pt x="10117" y="7413"/>
                  <a:pt x="10096" y="7466"/>
                </a:cubicBezTo>
                <a:cubicBezTo>
                  <a:pt x="10073" y="7525"/>
                  <a:pt x="10064" y="7583"/>
                  <a:pt x="10021" y="7640"/>
                </a:cubicBezTo>
                <a:cubicBezTo>
                  <a:pt x="9980" y="7695"/>
                  <a:pt x="9950" y="7737"/>
                  <a:pt x="9922" y="7789"/>
                </a:cubicBezTo>
                <a:cubicBezTo>
                  <a:pt x="9894" y="7840"/>
                  <a:pt x="9829" y="7874"/>
                  <a:pt x="9798" y="7913"/>
                </a:cubicBezTo>
                <a:cubicBezTo>
                  <a:pt x="9770" y="7948"/>
                  <a:pt x="9745" y="7998"/>
                  <a:pt x="9723" y="8037"/>
                </a:cubicBezTo>
                <a:cubicBezTo>
                  <a:pt x="9778" y="8070"/>
                  <a:pt x="9829" y="8062"/>
                  <a:pt x="9897" y="8062"/>
                </a:cubicBezTo>
                <a:cubicBezTo>
                  <a:pt x="9979" y="8062"/>
                  <a:pt x="10042" y="8083"/>
                  <a:pt x="10120" y="8086"/>
                </a:cubicBezTo>
                <a:cubicBezTo>
                  <a:pt x="10198" y="8089"/>
                  <a:pt x="10242" y="8107"/>
                  <a:pt x="10294" y="8086"/>
                </a:cubicBezTo>
              </a:path>
              <a:path w="8658" h="2804">
                <a:moveTo>
                  <a:pt x="11584" y="6796"/>
                </a:moveTo>
                <a:cubicBezTo>
                  <a:pt x="11662" y="6796"/>
                  <a:pt x="11743" y="6809"/>
                  <a:pt x="11807" y="6772"/>
                </a:cubicBezTo>
              </a:path>
              <a:path w="8658" h="2804">
                <a:moveTo>
                  <a:pt x="11534" y="7020"/>
                </a:moveTo>
                <a:cubicBezTo>
                  <a:pt x="11638" y="6994"/>
                  <a:pt x="11706" y="6986"/>
                  <a:pt x="11807" y="7020"/>
                </a:cubicBezTo>
              </a:path>
              <a:path w="8658" h="2804">
                <a:moveTo>
                  <a:pt x="12452" y="6152"/>
                </a:moveTo>
                <a:cubicBezTo>
                  <a:pt x="12445" y="6230"/>
                  <a:pt x="12407" y="6319"/>
                  <a:pt x="12427" y="6400"/>
                </a:cubicBezTo>
                <a:cubicBezTo>
                  <a:pt x="12441" y="6458"/>
                  <a:pt x="12452" y="6485"/>
                  <a:pt x="12452" y="6548"/>
                </a:cubicBezTo>
              </a:path>
              <a:path w="8658" h="2804">
                <a:moveTo>
                  <a:pt x="12254" y="6350"/>
                </a:moveTo>
                <a:cubicBezTo>
                  <a:pt x="12353" y="6370"/>
                  <a:pt x="12483" y="6347"/>
                  <a:pt x="12576" y="6375"/>
                </a:cubicBezTo>
                <a:cubicBezTo>
                  <a:pt x="12616" y="6415"/>
                  <a:pt x="12646" y="6423"/>
                  <a:pt x="12700" y="6400"/>
                </a:cubicBezTo>
              </a:path>
              <a:path w="8658" h="2804">
                <a:moveTo>
                  <a:pt x="12254" y="6846"/>
                </a:moveTo>
                <a:cubicBezTo>
                  <a:pt x="12348" y="6846"/>
                  <a:pt x="12415" y="6826"/>
                  <a:pt x="12502" y="6821"/>
                </a:cubicBezTo>
                <a:cubicBezTo>
                  <a:pt x="12518" y="6821"/>
                  <a:pt x="12535" y="6821"/>
                  <a:pt x="12551" y="6821"/>
                </a:cubicBezTo>
              </a:path>
              <a:path w="8658" h="2804">
                <a:moveTo>
                  <a:pt x="12799" y="6524"/>
                </a:moveTo>
                <a:cubicBezTo>
                  <a:pt x="12824" y="6516"/>
                  <a:pt x="12849" y="6507"/>
                  <a:pt x="12874" y="6499"/>
                </a:cubicBezTo>
                <a:cubicBezTo>
                  <a:pt x="12889" y="6582"/>
                  <a:pt x="12896" y="6657"/>
                  <a:pt x="12898" y="6747"/>
                </a:cubicBezTo>
                <a:cubicBezTo>
                  <a:pt x="12907" y="7133"/>
                  <a:pt x="12915" y="7533"/>
                  <a:pt x="12874" y="7913"/>
                </a:cubicBezTo>
                <a:cubicBezTo>
                  <a:pt x="12872" y="7930"/>
                  <a:pt x="12857" y="8123"/>
                  <a:pt x="12874" y="8037"/>
                </a:cubicBezTo>
                <a:cubicBezTo>
                  <a:pt x="12892" y="7943"/>
                  <a:pt x="12914" y="7833"/>
                  <a:pt x="12923" y="7739"/>
                </a:cubicBezTo>
                <a:cubicBezTo>
                  <a:pt x="12931" y="7656"/>
                  <a:pt x="12930" y="7571"/>
                  <a:pt x="12948" y="7491"/>
                </a:cubicBezTo>
                <a:cubicBezTo>
                  <a:pt x="12970" y="7391"/>
                  <a:pt x="12994" y="7296"/>
                  <a:pt x="12998" y="7193"/>
                </a:cubicBezTo>
                <a:cubicBezTo>
                  <a:pt x="13003" y="7065"/>
                  <a:pt x="13019" y="6923"/>
                  <a:pt x="13047" y="6796"/>
                </a:cubicBezTo>
                <a:cubicBezTo>
                  <a:pt x="13069" y="6696"/>
                  <a:pt x="13094" y="6600"/>
                  <a:pt x="13097" y="6499"/>
                </a:cubicBezTo>
                <a:cubicBezTo>
                  <a:pt x="13100" y="6395"/>
                  <a:pt x="13120" y="6307"/>
                  <a:pt x="13122" y="6201"/>
                </a:cubicBezTo>
                <a:cubicBezTo>
                  <a:pt x="13124" y="6132"/>
                  <a:pt x="13142" y="6065"/>
                  <a:pt x="13146" y="6003"/>
                </a:cubicBezTo>
                <a:cubicBezTo>
                  <a:pt x="13151" y="5927"/>
                  <a:pt x="13152" y="5867"/>
                  <a:pt x="13171" y="5804"/>
                </a:cubicBezTo>
                <a:cubicBezTo>
                  <a:pt x="13198" y="5713"/>
                  <a:pt x="13196" y="5738"/>
                  <a:pt x="13295" y="5730"/>
                </a:cubicBezTo>
                <a:cubicBezTo>
                  <a:pt x="13380" y="5723"/>
                  <a:pt x="13461" y="5714"/>
                  <a:pt x="13543" y="5705"/>
                </a:cubicBezTo>
                <a:cubicBezTo>
                  <a:pt x="13740" y="5685"/>
                  <a:pt x="13942" y="5698"/>
                  <a:pt x="14139" y="5680"/>
                </a:cubicBezTo>
                <a:cubicBezTo>
                  <a:pt x="14220" y="5673"/>
                  <a:pt x="14302" y="5702"/>
                  <a:pt x="14387" y="5705"/>
                </a:cubicBezTo>
                <a:cubicBezTo>
                  <a:pt x="14538" y="5710"/>
                  <a:pt x="14614" y="5639"/>
                  <a:pt x="14734" y="5730"/>
                </a:cubicBezTo>
              </a:path>
              <a:path w="8658" h="2804">
                <a:moveTo>
                  <a:pt x="13221" y="7045"/>
                </a:moveTo>
                <a:cubicBezTo>
                  <a:pt x="13381" y="7045"/>
                  <a:pt x="13539" y="7051"/>
                  <a:pt x="13692" y="7069"/>
                </a:cubicBezTo>
                <a:cubicBezTo>
                  <a:pt x="13816" y="7083"/>
                  <a:pt x="13942" y="7078"/>
                  <a:pt x="14064" y="7094"/>
                </a:cubicBezTo>
                <a:cubicBezTo>
                  <a:pt x="14239" y="7117"/>
                  <a:pt x="14433" y="7094"/>
                  <a:pt x="14610" y="7094"/>
                </a:cubicBezTo>
              </a:path>
              <a:path w="8658" h="2804">
                <a:moveTo>
                  <a:pt x="14015" y="6052"/>
                </a:moveTo>
                <a:cubicBezTo>
                  <a:pt x="14039" y="6028"/>
                  <a:pt x="14048" y="6019"/>
                  <a:pt x="14064" y="6003"/>
                </a:cubicBezTo>
                <a:cubicBezTo>
                  <a:pt x="14015" y="5953"/>
                  <a:pt x="13988" y="5932"/>
                  <a:pt x="13915" y="5928"/>
                </a:cubicBezTo>
                <a:cubicBezTo>
                  <a:pt x="13868" y="5925"/>
                  <a:pt x="13805" y="5972"/>
                  <a:pt x="13767" y="6003"/>
                </a:cubicBezTo>
                <a:cubicBezTo>
                  <a:pt x="13707" y="6051"/>
                  <a:pt x="13710" y="6127"/>
                  <a:pt x="13767" y="6176"/>
                </a:cubicBezTo>
                <a:cubicBezTo>
                  <a:pt x="13825" y="6226"/>
                  <a:pt x="13906" y="6202"/>
                  <a:pt x="13965" y="6176"/>
                </a:cubicBezTo>
                <a:cubicBezTo>
                  <a:pt x="14035" y="6145"/>
                  <a:pt x="14030" y="6146"/>
                  <a:pt x="14039" y="6077"/>
                </a:cubicBezTo>
                <a:cubicBezTo>
                  <a:pt x="14039" y="6193"/>
                  <a:pt x="14039" y="6308"/>
                  <a:pt x="14039" y="6424"/>
                </a:cubicBezTo>
              </a:path>
              <a:path w="8658" h="2804">
                <a:moveTo>
                  <a:pt x="13791" y="6548"/>
                </a:moveTo>
                <a:cubicBezTo>
                  <a:pt x="13869" y="6548"/>
                  <a:pt x="13950" y="6535"/>
                  <a:pt x="14015" y="6524"/>
                </a:cubicBezTo>
                <a:cubicBezTo>
                  <a:pt x="14064" y="6524"/>
                  <a:pt x="14081" y="6524"/>
                  <a:pt x="14114" y="6524"/>
                </a:cubicBezTo>
              </a:path>
              <a:path w="8658" h="2804">
                <a:moveTo>
                  <a:pt x="13866" y="6598"/>
                </a:moveTo>
                <a:cubicBezTo>
                  <a:pt x="13866" y="6648"/>
                  <a:pt x="13866" y="6697"/>
                  <a:pt x="13866" y="6747"/>
                </a:cubicBezTo>
                <a:cubicBezTo>
                  <a:pt x="13938" y="6737"/>
                  <a:pt x="13972" y="6667"/>
                  <a:pt x="14039" y="6722"/>
                </a:cubicBezTo>
                <a:cubicBezTo>
                  <a:pt x="14091" y="6764"/>
                  <a:pt x="14112" y="6858"/>
                  <a:pt x="14089" y="6921"/>
                </a:cubicBezTo>
                <a:cubicBezTo>
                  <a:pt x="14074" y="6961"/>
                  <a:pt x="13948" y="6954"/>
                  <a:pt x="13915" y="6945"/>
                </a:cubicBezTo>
                <a:cubicBezTo>
                  <a:pt x="13875" y="6925"/>
                  <a:pt x="13868" y="6917"/>
                  <a:pt x="13841" y="6921"/>
                </a:cubicBezTo>
              </a:path>
              <a:path w="8658" h="2804">
                <a:moveTo>
                  <a:pt x="13965" y="6648"/>
                </a:moveTo>
                <a:cubicBezTo>
                  <a:pt x="14025" y="6612"/>
                  <a:pt x="14088" y="6623"/>
                  <a:pt x="14163" y="6623"/>
                </a:cubicBezTo>
                <a:cubicBezTo>
                  <a:pt x="14213" y="6623"/>
                  <a:pt x="14230" y="6623"/>
                  <a:pt x="14263" y="6623"/>
                </a:cubicBezTo>
              </a:path>
              <a:path w="8658" h="2804">
                <a:moveTo>
                  <a:pt x="13767" y="7541"/>
                </a:moveTo>
                <a:cubicBezTo>
                  <a:pt x="13808" y="7488"/>
                  <a:pt x="13816" y="7442"/>
                  <a:pt x="13841" y="7392"/>
                </a:cubicBezTo>
                <a:cubicBezTo>
                  <a:pt x="13866" y="7342"/>
                  <a:pt x="13940" y="7323"/>
                  <a:pt x="13990" y="7342"/>
                </a:cubicBezTo>
                <a:cubicBezTo>
                  <a:pt x="14029" y="7357"/>
                  <a:pt x="14073" y="7454"/>
                  <a:pt x="14064" y="7491"/>
                </a:cubicBezTo>
                <a:cubicBezTo>
                  <a:pt x="14047" y="7564"/>
                  <a:pt x="14044" y="7644"/>
                  <a:pt x="14015" y="7714"/>
                </a:cubicBezTo>
                <a:cubicBezTo>
                  <a:pt x="13989" y="7777"/>
                  <a:pt x="13953" y="7811"/>
                  <a:pt x="13915" y="7863"/>
                </a:cubicBezTo>
                <a:cubicBezTo>
                  <a:pt x="13880" y="7911"/>
                  <a:pt x="13844" y="7978"/>
                  <a:pt x="13791" y="8012"/>
                </a:cubicBezTo>
                <a:cubicBezTo>
                  <a:pt x="13714" y="8063"/>
                  <a:pt x="13628" y="8046"/>
                  <a:pt x="13643" y="7938"/>
                </a:cubicBezTo>
                <a:cubicBezTo>
                  <a:pt x="13662" y="7802"/>
                  <a:pt x="13763" y="7940"/>
                  <a:pt x="13791" y="7962"/>
                </a:cubicBezTo>
                <a:cubicBezTo>
                  <a:pt x="13829" y="7992"/>
                  <a:pt x="13921" y="8074"/>
                  <a:pt x="13965" y="8086"/>
                </a:cubicBezTo>
                <a:cubicBezTo>
                  <a:pt x="14038" y="8105"/>
                  <a:pt x="14109" y="8111"/>
                  <a:pt x="14188" y="8111"/>
                </a:cubicBezTo>
                <a:cubicBezTo>
                  <a:pt x="14260" y="8111"/>
                  <a:pt x="14317" y="8098"/>
                  <a:pt x="14387" y="80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Ink 12"/>
          <p:cNvSpPr/>
          <p:nvPr/>
        </p:nvSpPr>
        <p:spPr>
          <a:xfrm>
            <a:off x="5965920" y="2143080"/>
            <a:ext cx="177840" cy="223920"/>
          </a:xfrm>
          <a:custGeom>
            <a:avLst/>
            <a:gdLst/>
            <a:ahLst/>
            <a:rect l="l" t="t" r="r" b="b"/>
            <a:pathLst>
              <a:path w="497" h="621">
                <a:moveTo>
                  <a:pt x="16669" y="6003"/>
                </a:moveTo>
                <a:cubicBezTo>
                  <a:pt x="16751" y="6003"/>
                  <a:pt x="16818" y="5988"/>
                  <a:pt x="16892" y="5978"/>
                </a:cubicBezTo>
                <a:cubicBezTo>
                  <a:pt x="16968" y="5978"/>
                  <a:pt x="16994" y="5977"/>
                  <a:pt x="17041" y="5953"/>
                </a:cubicBezTo>
              </a:path>
              <a:path w="497" h="621">
                <a:moveTo>
                  <a:pt x="16669" y="6028"/>
                </a:moveTo>
                <a:cubicBezTo>
                  <a:pt x="16669" y="6124"/>
                  <a:pt x="16679" y="6189"/>
                  <a:pt x="16694" y="6276"/>
                </a:cubicBezTo>
                <a:cubicBezTo>
                  <a:pt x="16694" y="6320"/>
                  <a:pt x="16691" y="6333"/>
                  <a:pt x="16718" y="6350"/>
                </a:cubicBezTo>
                <a:cubicBezTo>
                  <a:pt x="16718" y="6281"/>
                  <a:pt x="16689" y="6201"/>
                  <a:pt x="16768" y="6176"/>
                </a:cubicBezTo>
                <a:cubicBezTo>
                  <a:pt x="16824" y="6158"/>
                  <a:pt x="16928" y="6217"/>
                  <a:pt x="16966" y="6251"/>
                </a:cubicBezTo>
                <a:cubicBezTo>
                  <a:pt x="16986" y="6269"/>
                  <a:pt x="17132" y="6392"/>
                  <a:pt x="17066" y="6449"/>
                </a:cubicBezTo>
                <a:cubicBezTo>
                  <a:pt x="17011" y="6496"/>
                  <a:pt x="16885" y="6507"/>
                  <a:pt x="16818" y="6524"/>
                </a:cubicBezTo>
                <a:cubicBezTo>
                  <a:pt x="16741" y="6543"/>
                  <a:pt x="16668" y="6556"/>
                  <a:pt x="16594" y="6573"/>
                </a:cubicBezTo>
                <a:cubicBezTo>
                  <a:pt x="16586" y="6573"/>
                  <a:pt x="16578" y="6573"/>
                  <a:pt x="16570" y="65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Ink 13"/>
          <p:cNvSpPr/>
          <p:nvPr/>
        </p:nvSpPr>
        <p:spPr>
          <a:xfrm>
            <a:off x="357120" y="4518000"/>
            <a:ext cx="750960" cy="1260360"/>
          </a:xfrm>
          <a:custGeom>
            <a:avLst/>
            <a:gdLst/>
            <a:ahLst/>
            <a:rect l="l" t="t" r="r" b="b"/>
            <a:pathLst>
              <a:path w="2085" h="3499">
                <a:moveTo>
                  <a:pt x="1538" y="12601"/>
                </a:moveTo>
                <a:cubicBezTo>
                  <a:pt x="1563" y="12613"/>
                  <a:pt x="1644" y="12593"/>
                  <a:pt x="1687" y="12576"/>
                </a:cubicBezTo>
                <a:cubicBezTo>
                  <a:pt x="1704" y="12569"/>
                  <a:pt x="1796" y="12549"/>
                  <a:pt x="1811" y="12601"/>
                </a:cubicBezTo>
                <a:cubicBezTo>
                  <a:pt x="1837" y="12695"/>
                  <a:pt x="1770" y="12751"/>
                  <a:pt x="1712" y="12799"/>
                </a:cubicBezTo>
                <a:cubicBezTo>
                  <a:pt x="1666" y="12838"/>
                  <a:pt x="1658" y="12826"/>
                  <a:pt x="1612" y="12799"/>
                </a:cubicBezTo>
                <a:cubicBezTo>
                  <a:pt x="1708" y="12799"/>
                  <a:pt x="1716" y="12816"/>
                  <a:pt x="1786" y="12874"/>
                </a:cubicBezTo>
                <a:cubicBezTo>
                  <a:pt x="1834" y="12913"/>
                  <a:pt x="1802" y="12986"/>
                  <a:pt x="1761" y="13022"/>
                </a:cubicBezTo>
                <a:cubicBezTo>
                  <a:pt x="1718" y="13059"/>
                  <a:pt x="1664" y="13047"/>
                  <a:pt x="1612" y="13047"/>
                </a:cubicBezTo>
              </a:path>
              <a:path w="2085" h="3499">
                <a:moveTo>
                  <a:pt x="1389" y="13146"/>
                </a:moveTo>
                <a:cubicBezTo>
                  <a:pt x="1494" y="13146"/>
                  <a:pt x="1589" y="13155"/>
                  <a:pt x="1687" y="13171"/>
                </a:cubicBezTo>
                <a:cubicBezTo>
                  <a:pt x="1803" y="13190"/>
                  <a:pt x="1941" y="13171"/>
                  <a:pt x="2059" y="13171"/>
                </a:cubicBezTo>
              </a:path>
              <a:path w="2085" h="3499">
                <a:moveTo>
                  <a:pt x="1662" y="13419"/>
                </a:moveTo>
                <a:cubicBezTo>
                  <a:pt x="1754" y="13427"/>
                  <a:pt x="1779" y="13426"/>
                  <a:pt x="1860" y="13419"/>
                </a:cubicBezTo>
                <a:cubicBezTo>
                  <a:pt x="1868" y="13419"/>
                  <a:pt x="1877" y="13419"/>
                  <a:pt x="1885" y="13419"/>
                </a:cubicBezTo>
              </a:path>
              <a:path w="2085" h="3499">
                <a:moveTo>
                  <a:pt x="1637" y="13469"/>
                </a:moveTo>
                <a:cubicBezTo>
                  <a:pt x="1651" y="13565"/>
                  <a:pt x="1665" y="13532"/>
                  <a:pt x="1736" y="13568"/>
                </a:cubicBezTo>
                <a:cubicBezTo>
                  <a:pt x="1763" y="13582"/>
                  <a:pt x="1850" y="13632"/>
                  <a:pt x="1860" y="13667"/>
                </a:cubicBezTo>
                <a:cubicBezTo>
                  <a:pt x="1877" y="13729"/>
                  <a:pt x="1867" y="13826"/>
                  <a:pt x="1811" y="13866"/>
                </a:cubicBezTo>
                <a:cubicBezTo>
                  <a:pt x="1759" y="13904"/>
                  <a:pt x="1698" y="13891"/>
                  <a:pt x="1637" y="13891"/>
                </a:cubicBezTo>
              </a:path>
              <a:path w="2085" h="3499">
                <a:moveTo>
                  <a:pt x="992" y="13990"/>
                </a:moveTo>
                <a:cubicBezTo>
                  <a:pt x="1040" y="14047"/>
                  <a:pt x="1105" y="14052"/>
                  <a:pt x="1191" y="14064"/>
                </a:cubicBezTo>
                <a:cubicBezTo>
                  <a:pt x="1253" y="14073"/>
                  <a:pt x="1307" y="14087"/>
                  <a:pt x="1364" y="14089"/>
                </a:cubicBezTo>
                <a:cubicBezTo>
                  <a:pt x="1516" y="14095"/>
                  <a:pt x="1662" y="14124"/>
                  <a:pt x="1811" y="14139"/>
                </a:cubicBezTo>
                <a:cubicBezTo>
                  <a:pt x="1927" y="14150"/>
                  <a:pt x="2044" y="14178"/>
                  <a:pt x="2158" y="14188"/>
                </a:cubicBezTo>
                <a:cubicBezTo>
                  <a:pt x="2270" y="14198"/>
                  <a:pt x="2394" y="14193"/>
                  <a:pt x="2505" y="14213"/>
                </a:cubicBezTo>
                <a:cubicBezTo>
                  <a:pt x="2591" y="14228"/>
                  <a:pt x="2695" y="14218"/>
                  <a:pt x="2778" y="14238"/>
                </a:cubicBezTo>
                <a:cubicBezTo>
                  <a:pt x="2862" y="14258"/>
                  <a:pt x="2935" y="14263"/>
                  <a:pt x="3026" y="14263"/>
                </a:cubicBezTo>
                <a:cubicBezTo>
                  <a:pt x="3043" y="14263"/>
                  <a:pt x="3059" y="14263"/>
                  <a:pt x="3076" y="14263"/>
                </a:cubicBezTo>
              </a:path>
              <a:path w="2085" h="3499">
                <a:moveTo>
                  <a:pt x="1885" y="14461"/>
                </a:moveTo>
                <a:cubicBezTo>
                  <a:pt x="1928" y="14504"/>
                  <a:pt x="1926" y="14499"/>
                  <a:pt x="1935" y="14560"/>
                </a:cubicBezTo>
                <a:cubicBezTo>
                  <a:pt x="1899" y="14501"/>
                  <a:pt x="1934" y="14449"/>
                  <a:pt x="1910" y="14387"/>
                </a:cubicBezTo>
                <a:cubicBezTo>
                  <a:pt x="1881" y="14311"/>
                  <a:pt x="1880" y="14303"/>
                  <a:pt x="1811" y="14312"/>
                </a:cubicBezTo>
                <a:cubicBezTo>
                  <a:pt x="1768" y="14318"/>
                  <a:pt x="1683" y="14343"/>
                  <a:pt x="1687" y="14412"/>
                </a:cubicBezTo>
                <a:cubicBezTo>
                  <a:pt x="1692" y="14491"/>
                  <a:pt x="1721" y="14585"/>
                  <a:pt x="1811" y="14610"/>
                </a:cubicBezTo>
                <a:cubicBezTo>
                  <a:pt x="1885" y="14631"/>
                  <a:pt x="1897" y="14606"/>
                  <a:pt x="1935" y="14560"/>
                </a:cubicBezTo>
                <a:cubicBezTo>
                  <a:pt x="1935" y="14656"/>
                  <a:pt x="1948" y="14741"/>
                  <a:pt x="1960" y="14833"/>
                </a:cubicBezTo>
                <a:cubicBezTo>
                  <a:pt x="1965" y="14873"/>
                  <a:pt x="1960" y="14917"/>
                  <a:pt x="1960" y="14957"/>
                </a:cubicBezTo>
              </a:path>
              <a:path w="2085" h="3499">
                <a:moveTo>
                  <a:pt x="1538" y="14932"/>
                </a:moveTo>
                <a:cubicBezTo>
                  <a:pt x="1614" y="14943"/>
                  <a:pt x="1674" y="14957"/>
                  <a:pt x="1761" y="14957"/>
                </a:cubicBezTo>
                <a:cubicBezTo>
                  <a:pt x="1833" y="14957"/>
                  <a:pt x="1870" y="14978"/>
                  <a:pt x="1935" y="14982"/>
                </a:cubicBezTo>
                <a:cubicBezTo>
                  <a:pt x="2012" y="14987"/>
                  <a:pt x="2082" y="15003"/>
                  <a:pt x="2158" y="15007"/>
                </a:cubicBezTo>
                <a:cubicBezTo>
                  <a:pt x="2199" y="15007"/>
                  <a:pt x="2207" y="15007"/>
                  <a:pt x="2232" y="15007"/>
                </a:cubicBezTo>
              </a:path>
              <a:path w="2085" h="3499">
                <a:moveTo>
                  <a:pt x="1860" y="15230"/>
                </a:moveTo>
                <a:cubicBezTo>
                  <a:pt x="1906" y="15344"/>
                  <a:pt x="1912" y="15329"/>
                  <a:pt x="2034" y="15329"/>
                </a:cubicBezTo>
                <a:cubicBezTo>
                  <a:pt x="2042" y="15329"/>
                  <a:pt x="2051" y="15329"/>
                  <a:pt x="2059" y="15329"/>
                </a:cubicBezTo>
              </a:path>
              <a:path w="2085" h="3499">
                <a:moveTo>
                  <a:pt x="1860" y="15280"/>
                </a:moveTo>
                <a:cubicBezTo>
                  <a:pt x="1837" y="15343"/>
                  <a:pt x="1815" y="15397"/>
                  <a:pt x="1860" y="15453"/>
                </a:cubicBezTo>
                <a:cubicBezTo>
                  <a:pt x="1894" y="15496"/>
                  <a:pt x="1936" y="15528"/>
                  <a:pt x="1984" y="15553"/>
                </a:cubicBezTo>
                <a:cubicBezTo>
                  <a:pt x="2069" y="15598"/>
                  <a:pt x="2049" y="15606"/>
                  <a:pt x="2084" y="15677"/>
                </a:cubicBezTo>
                <a:cubicBezTo>
                  <a:pt x="2121" y="15753"/>
                  <a:pt x="2135" y="15791"/>
                  <a:pt x="2108" y="15875"/>
                </a:cubicBezTo>
                <a:cubicBezTo>
                  <a:pt x="2096" y="15913"/>
                  <a:pt x="2055" y="16010"/>
                  <a:pt x="2009" y="16024"/>
                </a:cubicBezTo>
                <a:cubicBezTo>
                  <a:pt x="1945" y="16044"/>
                  <a:pt x="1763" y="16053"/>
                  <a:pt x="1712" y="15974"/>
                </a:cubicBezTo>
                <a:cubicBezTo>
                  <a:pt x="1675" y="15917"/>
                  <a:pt x="1758" y="15824"/>
                  <a:pt x="1786" y="158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Ink 14"/>
          <p:cNvSpPr/>
          <p:nvPr/>
        </p:nvSpPr>
        <p:spPr>
          <a:xfrm>
            <a:off x="1071720" y="4894200"/>
            <a:ext cx="1482480" cy="749520"/>
          </a:xfrm>
          <a:custGeom>
            <a:avLst/>
            <a:gdLst/>
            <a:ahLst/>
            <a:rect l="l" t="t" r="r" b="b"/>
            <a:pathLst>
              <a:path w="4118" h="2085">
                <a:moveTo>
                  <a:pt x="2977" y="14486"/>
                </a:moveTo>
                <a:cubicBezTo>
                  <a:pt x="3078" y="14468"/>
                  <a:pt x="3149" y="14461"/>
                  <a:pt x="3249" y="14461"/>
                </a:cubicBezTo>
              </a:path>
              <a:path w="4118" h="2085">
                <a:moveTo>
                  <a:pt x="3101" y="14734"/>
                </a:moveTo>
                <a:cubicBezTo>
                  <a:pt x="3215" y="14807"/>
                  <a:pt x="3205" y="14800"/>
                  <a:pt x="3349" y="14808"/>
                </a:cubicBezTo>
              </a:path>
              <a:path w="4118" h="2085">
                <a:moveTo>
                  <a:pt x="3721" y="13643"/>
                </a:moveTo>
                <a:cubicBezTo>
                  <a:pt x="3777" y="13586"/>
                  <a:pt x="3793" y="13583"/>
                  <a:pt x="3870" y="13618"/>
                </a:cubicBezTo>
                <a:cubicBezTo>
                  <a:pt x="3945" y="13652"/>
                  <a:pt x="3949" y="13648"/>
                  <a:pt x="3969" y="13717"/>
                </a:cubicBezTo>
                <a:cubicBezTo>
                  <a:pt x="3922" y="13755"/>
                  <a:pt x="3868" y="13780"/>
                  <a:pt x="3820" y="13816"/>
                </a:cubicBezTo>
                <a:cubicBezTo>
                  <a:pt x="3792" y="13844"/>
                  <a:pt x="3779" y="13853"/>
                  <a:pt x="3746" y="13841"/>
                </a:cubicBezTo>
                <a:cubicBezTo>
                  <a:pt x="3805" y="13877"/>
                  <a:pt x="3911" y="13867"/>
                  <a:pt x="3969" y="13915"/>
                </a:cubicBezTo>
                <a:cubicBezTo>
                  <a:pt x="4002" y="13942"/>
                  <a:pt x="4049" y="14099"/>
                  <a:pt x="4018" y="14139"/>
                </a:cubicBezTo>
                <a:cubicBezTo>
                  <a:pt x="3978" y="14191"/>
                  <a:pt x="3903" y="14188"/>
                  <a:pt x="3845" y="14188"/>
                </a:cubicBezTo>
              </a:path>
              <a:path w="4118" h="2085">
                <a:moveTo>
                  <a:pt x="3621" y="14337"/>
                </a:moveTo>
                <a:cubicBezTo>
                  <a:pt x="3677" y="14370"/>
                  <a:pt x="3756" y="14376"/>
                  <a:pt x="3820" y="14387"/>
                </a:cubicBezTo>
                <a:cubicBezTo>
                  <a:pt x="3933" y="14405"/>
                  <a:pt x="4029" y="14436"/>
                  <a:pt x="4142" y="14436"/>
                </a:cubicBezTo>
              </a:path>
              <a:path w="4118" h="2085">
                <a:moveTo>
                  <a:pt x="3795" y="14536"/>
                </a:moveTo>
                <a:cubicBezTo>
                  <a:pt x="3912" y="14619"/>
                  <a:pt x="3932" y="14635"/>
                  <a:pt x="4068" y="14635"/>
                </a:cubicBezTo>
              </a:path>
              <a:path w="4118" h="2085">
                <a:moveTo>
                  <a:pt x="3894" y="14560"/>
                </a:moveTo>
                <a:cubicBezTo>
                  <a:pt x="3830" y="14597"/>
                  <a:pt x="3799" y="14608"/>
                  <a:pt x="3795" y="14684"/>
                </a:cubicBezTo>
                <a:cubicBezTo>
                  <a:pt x="3788" y="14795"/>
                  <a:pt x="3795" y="14770"/>
                  <a:pt x="3870" y="14808"/>
                </a:cubicBezTo>
                <a:cubicBezTo>
                  <a:pt x="3914" y="14830"/>
                  <a:pt x="3958" y="14872"/>
                  <a:pt x="3994" y="14908"/>
                </a:cubicBezTo>
                <a:cubicBezTo>
                  <a:pt x="4019" y="14933"/>
                  <a:pt x="4081" y="14999"/>
                  <a:pt x="4093" y="15032"/>
                </a:cubicBezTo>
                <a:cubicBezTo>
                  <a:pt x="4127" y="15123"/>
                  <a:pt x="4131" y="15238"/>
                  <a:pt x="4093" y="15329"/>
                </a:cubicBezTo>
                <a:cubicBezTo>
                  <a:pt x="4072" y="15379"/>
                  <a:pt x="4014" y="15401"/>
                  <a:pt x="3969" y="15404"/>
                </a:cubicBezTo>
                <a:cubicBezTo>
                  <a:pt x="3867" y="15410"/>
                  <a:pt x="3868" y="15310"/>
                  <a:pt x="3845" y="15230"/>
                </a:cubicBezTo>
              </a:path>
              <a:path w="4118" h="2085">
                <a:moveTo>
                  <a:pt x="4514" y="14560"/>
                </a:moveTo>
                <a:cubicBezTo>
                  <a:pt x="4495" y="14601"/>
                  <a:pt x="4476" y="14617"/>
                  <a:pt x="4514" y="14610"/>
                </a:cubicBezTo>
              </a:path>
              <a:path w="4118" h="2085">
                <a:moveTo>
                  <a:pt x="4986" y="13965"/>
                </a:moveTo>
                <a:cubicBezTo>
                  <a:pt x="5030" y="13910"/>
                  <a:pt x="5058" y="13842"/>
                  <a:pt x="5035" y="13767"/>
                </a:cubicBezTo>
                <a:cubicBezTo>
                  <a:pt x="5019" y="13715"/>
                  <a:pt x="4970" y="13656"/>
                  <a:pt x="4911" y="13667"/>
                </a:cubicBezTo>
                <a:cubicBezTo>
                  <a:pt x="4810" y="13685"/>
                  <a:pt x="4791" y="13725"/>
                  <a:pt x="4787" y="13816"/>
                </a:cubicBezTo>
                <a:cubicBezTo>
                  <a:pt x="4783" y="13905"/>
                  <a:pt x="4826" y="13948"/>
                  <a:pt x="4887" y="14015"/>
                </a:cubicBezTo>
                <a:cubicBezTo>
                  <a:pt x="4950" y="14084"/>
                  <a:pt x="4989" y="13959"/>
                  <a:pt x="5011" y="13915"/>
                </a:cubicBezTo>
                <a:cubicBezTo>
                  <a:pt x="5001" y="13988"/>
                  <a:pt x="4986" y="14031"/>
                  <a:pt x="4986" y="14114"/>
                </a:cubicBezTo>
                <a:cubicBezTo>
                  <a:pt x="4986" y="14190"/>
                  <a:pt x="5026" y="14293"/>
                  <a:pt x="5011" y="14362"/>
                </a:cubicBezTo>
                <a:cubicBezTo>
                  <a:pt x="5003" y="14379"/>
                  <a:pt x="4994" y="14395"/>
                  <a:pt x="4986" y="14412"/>
                </a:cubicBezTo>
              </a:path>
              <a:path w="4118" h="2085">
                <a:moveTo>
                  <a:pt x="4787" y="14461"/>
                </a:moveTo>
                <a:cubicBezTo>
                  <a:pt x="4850" y="14485"/>
                  <a:pt x="4903" y="14490"/>
                  <a:pt x="4961" y="14511"/>
                </a:cubicBezTo>
                <a:cubicBezTo>
                  <a:pt x="5052" y="14543"/>
                  <a:pt x="5135" y="14536"/>
                  <a:pt x="5234" y="14536"/>
                </a:cubicBezTo>
                <a:cubicBezTo>
                  <a:pt x="5250" y="14536"/>
                  <a:pt x="5267" y="14536"/>
                  <a:pt x="5283" y="14536"/>
                </a:cubicBezTo>
              </a:path>
              <a:path w="4118" h="2085">
                <a:moveTo>
                  <a:pt x="5011" y="14784"/>
                </a:moveTo>
                <a:cubicBezTo>
                  <a:pt x="5102" y="14802"/>
                  <a:pt x="5109" y="14810"/>
                  <a:pt x="5159" y="14808"/>
                </a:cubicBezTo>
              </a:path>
              <a:path w="4118" h="2085">
                <a:moveTo>
                  <a:pt x="4986" y="14684"/>
                </a:moveTo>
                <a:cubicBezTo>
                  <a:pt x="4937" y="14757"/>
                  <a:pt x="4906" y="14821"/>
                  <a:pt x="4961" y="14908"/>
                </a:cubicBezTo>
                <a:cubicBezTo>
                  <a:pt x="4998" y="14967"/>
                  <a:pt x="5037" y="14958"/>
                  <a:pt x="5085" y="14982"/>
                </a:cubicBezTo>
                <a:cubicBezTo>
                  <a:pt x="5123" y="15001"/>
                  <a:pt x="5184" y="15043"/>
                  <a:pt x="5209" y="15081"/>
                </a:cubicBezTo>
                <a:cubicBezTo>
                  <a:pt x="5256" y="15154"/>
                  <a:pt x="5279" y="15192"/>
                  <a:pt x="5234" y="15280"/>
                </a:cubicBezTo>
                <a:cubicBezTo>
                  <a:pt x="5207" y="15332"/>
                  <a:pt x="5170" y="15347"/>
                  <a:pt x="5135" y="15329"/>
                </a:cubicBezTo>
              </a:path>
              <a:path w="4118" h="2085">
                <a:moveTo>
                  <a:pt x="4911" y="13866"/>
                </a:moveTo>
                <a:cubicBezTo>
                  <a:pt x="4972" y="13813"/>
                  <a:pt x="5029" y="13777"/>
                  <a:pt x="5110" y="13767"/>
                </a:cubicBezTo>
                <a:cubicBezTo>
                  <a:pt x="5179" y="13758"/>
                  <a:pt x="5238" y="13742"/>
                  <a:pt x="5308" y="13742"/>
                </a:cubicBezTo>
              </a:path>
              <a:path w="4118" h="2085">
                <a:moveTo>
                  <a:pt x="5110" y="13767"/>
                </a:moveTo>
                <a:cubicBezTo>
                  <a:pt x="5034" y="13797"/>
                  <a:pt x="5016" y="13811"/>
                  <a:pt x="4961" y="13866"/>
                </a:cubicBezTo>
                <a:cubicBezTo>
                  <a:pt x="4919" y="13908"/>
                  <a:pt x="4937" y="14002"/>
                  <a:pt x="4986" y="14039"/>
                </a:cubicBezTo>
                <a:cubicBezTo>
                  <a:pt x="5100" y="14125"/>
                  <a:pt x="5084" y="14104"/>
                  <a:pt x="5159" y="14213"/>
                </a:cubicBezTo>
                <a:cubicBezTo>
                  <a:pt x="5190" y="14259"/>
                  <a:pt x="5253" y="14317"/>
                  <a:pt x="5209" y="14387"/>
                </a:cubicBezTo>
                <a:cubicBezTo>
                  <a:pt x="5175" y="14441"/>
                  <a:pt x="5025" y="14404"/>
                  <a:pt x="4986" y="14387"/>
                </a:cubicBezTo>
                <a:cubicBezTo>
                  <a:pt x="4966" y="14378"/>
                  <a:pt x="4897" y="14287"/>
                  <a:pt x="4887" y="14263"/>
                </a:cubicBezTo>
                <a:cubicBezTo>
                  <a:pt x="4887" y="14255"/>
                  <a:pt x="4887" y="14246"/>
                  <a:pt x="4887" y="14238"/>
                </a:cubicBezTo>
              </a:path>
              <a:path w="4118" h="2085">
                <a:moveTo>
                  <a:pt x="4961" y="13692"/>
                </a:moveTo>
                <a:cubicBezTo>
                  <a:pt x="5048" y="13670"/>
                  <a:pt x="5119" y="13667"/>
                  <a:pt x="5209" y="13667"/>
                </a:cubicBezTo>
                <a:cubicBezTo>
                  <a:pt x="5267" y="13667"/>
                  <a:pt x="5287" y="13664"/>
                  <a:pt x="5333" y="13692"/>
                </a:cubicBezTo>
                <a:cubicBezTo>
                  <a:pt x="5263" y="13701"/>
                  <a:pt x="5196" y="13725"/>
                  <a:pt x="5135" y="13767"/>
                </a:cubicBezTo>
                <a:cubicBezTo>
                  <a:pt x="5094" y="13795"/>
                  <a:pt x="4977" y="13837"/>
                  <a:pt x="4961" y="13891"/>
                </a:cubicBezTo>
                <a:cubicBezTo>
                  <a:pt x="4940" y="13964"/>
                  <a:pt x="5017" y="13983"/>
                  <a:pt x="5060" y="14015"/>
                </a:cubicBezTo>
                <a:cubicBezTo>
                  <a:pt x="5129" y="14066"/>
                  <a:pt x="5173" y="14125"/>
                  <a:pt x="5184" y="14213"/>
                </a:cubicBezTo>
                <a:cubicBezTo>
                  <a:pt x="5185" y="14223"/>
                  <a:pt x="5190" y="14416"/>
                  <a:pt x="5110" y="14412"/>
                </a:cubicBezTo>
                <a:cubicBezTo>
                  <a:pt x="5040" y="14408"/>
                  <a:pt x="4959" y="14352"/>
                  <a:pt x="4936" y="14288"/>
                </a:cubicBezTo>
                <a:cubicBezTo>
                  <a:pt x="4928" y="14255"/>
                  <a:pt x="4919" y="14221"/>
                  <a:pt x="4911" y="14188"/>
                </a:cubicBezTo>
              </a:path>
              <a:path w="4118" h="2085">
                <a:moveTo>
                  <a:pt x="5011" y="13692"/>
                </a:moveTo>
                <a:cubicBezTo>
                  <a:pt x="5095" y="13674"/>
                  <a:pt x="5195" y="13650"/>
                  <a:pt x="5283" y="13667"/>
                </a:cubicBezTo>
                <a:cubicBezTo>
                  <a:pt x="5308" y="13675"/>
                  <a:pt x="5333" y="13684"/>
                  <a:pt x="5358" y="13692"/>
                </a:cubicBezTo>
              </a:path>
              <a:path w="4118" h="2085">
                <a:moveTo>
                  <a:pt x="5283" y="13692"/>
                </a:moveTo>
                <a:cubicBezTo>
                  <a:pt x="5224" y="13702"/>
                  <a:pt x="5003" y="13703"/>
                  <a:pt x="4961" y="13767"/>
                </a:cubicBezTo>
                <a:cubicBezTo>
                  <a:pt x="4926" y="13821"/>
                  <a:pt x="4978" y="13881"/>
                  <a:pt x="5011" y="13915"/>
                </a:cubicBezTo>
                <a:cubicBezTo>
                  <a:pt x="5057" y="13961"/>
                  <a:pt x="5103" y="14009"/>
                  <a:pt x="5135" y="14064"/>
                </a:cubicBezTo>
                <a:cubicBezTo>
                  <a:pt x="5164" y="14113"/>
                  <a:pt x="5223" y="14231"/>
                  <a:pt x="5135" y="14263"/>
                </a:cubicBezTo>
                <a:cubicBezTo>
                  <a:pt x="5070" y="14286"/>
                  <a:pt x="4981" y="14229"/>
                  <a:pt x="4936" y="14188"/>
                </a:cubicBezTo>
                <a:cubicBezTo>
                  <a:pt x="4905" y="14160"/>
                  <a:pt x="4900" y="14148"/>
                  <a:pt x="4862" y="14139"/>
                </a:cubicBezTo>
              </a:path>
              <a:path w="4118" h="2085">
                <a:moveTo>
                  <a:pt x="4961" y="15007"/>
                </a:moveTo>
                <a:cubicBezTo>
                  <a:pt x="5007" y="14950"/>
                  <a:pt x="5057" y="14879"/>
                  <a:pt x="5060" y="14808"/>
                </a:cubicBezTo>
                <a:cubicBezTo>
                  <a:pt x="5063" y="14737"/>
                  <a:pt x="5079" y="14631"/>
                  <a:pt x="4986" y="14610"/>
                </a:cubicBezTo>
                <a:cubicBezTo>
                  <a:pt x="4872" y="14584"/>
                  <a:pt x="4842" y="14657"/>
                  <a:pt x="4812" y="14734"/>
                </a:cubicBezTo>
                <a:cubicBezTo>
                  <a:pt x="4780" y="14817"/>
                  <a:pt x="4779" y="14870"/>
                  <a:pt x="4812" y="14957"/>
                </a:cubicBezTo>
                <a:cubicBezTo>
                  <a:pt x="4820" y="14978"/>
                  <a:pt x="4908" y="15082"/>
                  <a:pt x="4936" y="15081"/>
                </a:cubicBezTo>
                <a:cubicBezTo>
                  <a:pt x="4971" y="15079"/>
                  <a:pt x="5098" y="15040"/>
                  <a:pt x="5110" y="14982"/>
                </a:cubicBezTo>
                <a:cubicBezTo>
                  <a:pt x="5126" y="14906"/>
                  <a:pt x="5128" y="14896"/>
                  <a:pt x="5110" y="14833"/>
                </a:cubicBezTo>
                <a:cubicBezTo>
                  <a:pt x="5098" y="14941"/>
                  <a:pt x="5071" y="15047"/>
                  <a:pt x="5060" y="15156"/>
                </a:cubicBezTo>
                <a:cubicBezTo>
                  <a:pt x="5050" y="15258"/>
                  <a:pt x="5050" y="15357"/>
                  <a:pt x="5035" y="15453"/>
                </a:cubicBezTo>
                <a:cubicBezTo>
                  <a:pt x="5030" y="15488"/>
                  <a:pt x="5011" y="15703"/>
                  <a:pt x="5011" y="15577"/>
                </a:cubicBezTo>
              </a:path>
              <a:path w="4118" h="2085">
                <a:moveTo>
                  <a:pt x="5085" y="14684"/>
                </a:moveTo>
                <a:cubicBezTo>
                  <a:pt x="5078" y="14632"/>
                  <a:pt x="5069" y="14562"/>
                  <a:pt x="5011" y="14536"/>
                </a:cubicBezTo>
                <a:cubicBezTo>
                  <a:pt x="4948" y="14509"/>
                  <a:pt x="4958" y="14488"/>
                  <a:pt x="4887" y="14511"/>
                </a:cubicBezTo>
                <a:cubicBezTo>
                  <a:pt x="4804" y="14538"/>
                  <a:pt x="4767" y="14576"/>
                  <a:pt x="4762" y="14660"/>
                </a:cubicBezTo>
                <a:cubicBezTo>
                  <a:pt x="4756" y="14755"/>
                  <a:pt x="4769" y="14857"/>
                  <a:pt x="4837" y="14932"/>
                </a:cubicBezTo>
                <a:cubicBezTo>
                  <a:pt x="4864" y="14962"/>
                  <a:pt x="4945" y="15017"/>
                  <a:pt x="4986" y="15007"/>
                </a:cubicBezTo>
                <a:cubicBezTo>
                  <a:pt x="5080" y="14985"/>
                  <a:pt x="5079" y="14945"/>
                  <a:pt x="5110" y="14883"/>
                </a:cubicBezTo>
                <a:cubicBezTo>
                  <a:pt x="5118" y="14875"/>
                  <a:pt x="5127" y="14866"/>
                  <a:pt x="5135" y="14858"/>
                </a:cubicBezTo>
                <a:cubicBezTo>
                  <a:pt x="5125" y="14944"/>
                  <a:pt x="5110" y="15017"/>
                  <a:pt x="5110" y="15106"/>
                </a:cubicBezTo>
                <a:cubicBezTo>
                  <a:pt x="5110" y="15268"/>
                  <a:pt x="5104" y="15419"/>
                  <a:pt x="5085" y="15577"/>
                </a:cubicBezTo>
                <a:cubicBezTo>
                  <a:pt x="5085" y="15629"/>
                  <a:pt x="5086" y="15647"/>
                  <a:pt x="5110" y="15677"/>
                </a:cubicBezTo>
              </a:path>
              <a:path w="4118" h="2085">
                <a:moveTo>
                  <a:pt x="5804" y="14387"/>
                </a:moveTo>
                <a:cubicBezTo>
                  <a:pt x="5886" y="14410"/>
                  <a:pt x="5971" y="14416"/>
                  <a:pt x="6052" y="14436"/>
                </a:cubicBezTo>
                <a:cubicBezTo>
                  <a:pt x="6077" y="14444"/>
                  <a:pt x="6102" y="14453"/>
                  <a:pt x="6127" y="14461"/>
                </a:cubicBezTo>
              </a:path>
              <a:path w="4118" h="2085">
                <a:moveTo>
                  <a:pt x="5904" y="14635"/>
                </a:moveTo>
                <a:cubicBezTo>
                  <a:pt x="5980" y="14732"/>
                  <a:pt x="6007" y="14793"/>
                  <a:pt x="6127" y="14808"/>
                </a:cubicBezTo>
              </a:path>
              <a:path w="4118" h="2085">
                <a:moveTo>
                  <a:pt x="5358" y="13667"/>
                </a:moveTo>
                <a:cubicBezTo>
                  <a:pt x="5401" y="13625"/>
                  <a:pt x="5385" y="13619"/>
                  <a:pt x="5432" y="13643"/>
                </a:cubicBezTo>
                <a:cubicBezTo>
                  <a:pt x="5367" y="13694"/>
                  <a:pt x="5303" y="13743"/>
                  <a:pt x="5234" y="13791"/>
                </a:cubicBezTo>
                <a:cubicBezTo>
                  <a:pt x="5135" y="13860"/>
                  <a:pt x="5032" y="13921"/>
                  <a:pt x="4936" y="13990"/>
                </a:cubicBezTo>
                <a:cubicBezTo>
                  <a:pt x="4849" y="14052"/>
                  <a:pt x="4773" y="14127"/>
                  <a:pt x="4688" y="14188"/>
                </a:cubicBezTo>
                <a:cubicBezTo>
                  <a:pt x="4671" y="14196"/>
                  <a:pt x="4655" y="14205"/>
                  <a:pt x="4638" y="14213"/>
                </a:cubicBezTo>
              </a:path>
              <a:path w="4118" h="2085">
                <a:moveTo>
                  <a:pt x="4167" y="14684"/>
                </a:moveTo>
                <a:cubicBezTo>
                  <a:pt x="4085" y="14801"/>
                  <a:pt x="4017" y="14883"/>
                  <a:pt x="3919" y="14982"/>
                </a:cubicBezTo>
                <a:cubicBezTo>
                  <a:pt x="3847" y="15055"/>
                  <a:pt x="3789" y="15131"/>
                  <a:pt x="3721" y="15205"/>
                </a:cubicBezTo>
                <a:cubicBezTo>
                  <a:pt x="3669" y="15261"/>
                  <a:pt x="3612" y="15340"/>
                  <a:pt x="3671" y="15379"/>
                </a:cubicBezTo>
              </a:path>
              <a:path w="4118" h="2085">
                <a:moveTo>
                  <a:pt x="6598" y="13767"/>
                </a:moveTo>
                <a:cubicBezTo>
                  <a:pt x="6616" y="13852"/>
                  <a:pt x="6640" y="13953"/>
                  <a:pt x="6648" y="14039"/>
                </a:cubicBezTo>
                <a:cubicBezTo>
                  <a:pt x="6658" y="14147"/>
                  <a:pt x="6644" y="14232"/>
                  <a:pt x="6672" y="14337"/>
                </a:cubicBezTo>
              </a:path>
              <a:path w="4118" h="2085">
                <a:moveTo>
                  <a:pt x="6524" y="14610"/>
                </a:moveTo>
                <a:cubicBezTo>
                  <a:pt x="6678" y="14575"/>
                  <a:pt x="6771" y="14560"/>
                  <a:pt x="6921" y="14560"/>
                </a:cubicBezTo>
                <a:cubicBezTo>
                  <a:pt x="6962" y="14560"/>
                  <a:pt x="7004" y="14560"/>
                  <a:pt x="7045" y="14560"/>
                </a:cubicBezTo>
              </a:path>
              <a:path w="4118" h="2085">
                <a:moveTo>
                  <a:pt x="6648" y="14883"/>
                </a:moveTo>
                <a:cubicBezTo>
                  <a:pt x="6721" y="14876"/>
                  <a:pt x="6759" y="14845"/>
                  <a:pt x="6821" y="14833"/>
                </a:cubicBezTo>
                <a:cubicBezTo>
                  <a:pt x="6871" y="14823"/>
                  <a:pt x="7004" y="14809"/>
                  <a:pt x="7020" y="14883"/>
                </a:cubicBezTo>
                <a:cubicBezTo>
                  <a:pt x="7042" y="14985"/>
                  <a:pt x="7010" y="15016"/>
                  <a:pt x="6945" y="15081"/>
                </a:cubicBezTo>
                <a:cubicBezTo>
                  <a:pt x="6908" y="15118"/>
                  <a:pt x="6865" y="15104"/>
                  <a:pt x="6821" y="15131"/>
                </a:cubicBezTo>
                <a:cubicBezTo>
                  <a:pt x="6919" y="15145"/>
                  <a:pt x="6957" y="15190"/>
                  <a:pt x="7020" y="15280"/>
                </a:cubicBezTo>
                <a:cubicBezTo>
                  <a:pt x="7057" y="15333"/>
                  <a:pt x="7084" y="15418"/>
                  <a:pt x="7094" y="15478"/>
                </a:cubicBezTo>
                <a:cubicBezTo>
                  <a:pt x="7104" y="15535"/>
                  <a:pt x="7068" y="15627"/>
                  <a:pt x="6995" y="15602"/>
                </a:cubicBezTo>
                <a:cubicBezTo>
                  <a:pt x="6955" y="15589"/>
                  <a:pt x="6869" y="15509"/>
                  <a:pt x="6846" y="15478"/>
                </a:cubicBezTo>
                <a:cubicBezTo>
                  <a:pt x="6802" y="15418"/>
                  <a:pt x="6756" y="15401"/>
                  <a:pt x="6697" y="153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Ink 15"/>
          <p:cNvSpPr/>
          <p:nvPr/>
        </p:nvSpPr>
        <p:spPr>
          <a:xfrm>
            <a:off x="5589720" y="1062000"/>
            <a:ext cx="2063520" cy="2036880"/>
          </a:xfrm>
          <a:custGeom>
            <a:avLst/>
            <a:gdLst/>
            <a:ahLst/>
            <a:rect l="l" t="t" r="r" b="b"/>
            <a:pathLst>
              <a:path w="5731" h="5656">
                <a:moveTo>
                  <a:pt x="15627" y="8260"/>
                </a:moveTo>
                <a:cubicBezTo>
                  <a:pt x="15714" y="8192"/>
                  <a:pt x="15796" y="8131"/>
                  <a:pt x="15875" y="8062"/>
                </a:cubicBezTo>
                <a:cubicBezTo>
                  <a:pt x="15936" y="8008"/>
                  <a:pt x="15995" y="7960"/>
                  <a:pt x="16049" y="7913"/>
                </a:cubicBezTo>
                <a:cubicBezTo>
                  <a:pt x="16170" y="7807"/>
                  <a:pt x="16309" y="7704"/>
                  <a:pt x="16421" y="7590"/>
                </a:cubicBezTo>
                <a:cubicBezTo>
                  <a:pt x="16505" y="7504"/>
                  <a:pt x="16576" y="7422"/>
                  <a:pt x="16669" y="7342"/>
                </a:cubicBezTo>
                <a:cubicBezTo>
                  <a:pt x="16798" y="7232"/>
                  <a:pt x="16897" y="7114"/>
                  <a:pt x="17016" y="6995"/>
                </a:cubicBezTo>
                <a:cubicBezTo>
                  <a:pt x="17149" y="6862"/>
                  <a:pt x="17285" y="6733"/>
                  <a:pt x="17413" y="6598"/>
                </a:cubicBezTo>
                <a:cubicBezTo>
                  <a:pt x="17517" y="6489"/>
                  <a:pt x="17591" y="6350"/>
                  <a:pt x="17686" y="6226"/>
                </a:cubicBezTo>
                <a:cubicBezTo>
                  <a:pt x="17785" y="6098"/>
                  <a:pt x="17902" y="5976"/>
                  <a:pt x="18008" y="5854"/>
                </a:cubicBezTo>
                <a:cubicBezTo>
                  <a:pt x="18143" y="5699"/>
                  <a:pt x="18271" y="5539"/>
                  <a:pt x="18405" y="5383"/>
                </a:cubicBezTo>
                <a:cubicBezTo>
                  <a:pt x="18542" y="5223"/>
                  <a:pt x="18695" y="5074"/>
                  <a:pt x="18827" y="4911"/>
                </a:cubicBezTo>
                <a:cubicBezTo>
                  <a:pt x="18934" y="4778"/>
                  <a:pt x="19038" y="4633"/>
                  <a:pt x="19149" y="4514"/>
                </a:cubicBezTo>
                <a:cubicBezTo>
                  <a:pt x="19257" y="4398"/>
                  <a:pt x="19366" y="4300"/>
                  <a:pt x="19472" y="4167"/>
                </a:cubicBezTo>
                <a:cubicBezTo>
                  <a:pt x="19559" y="4057"/>
                  <a:pt x="19632" y="3924"/>
                  <a:pt x="19720" y="3820"/>
                </a:cubicBezTo>
                <a:cubicBezTo>
                  <a:pt x="19822" y="3700"/>
                  <a:pt x="19951" y="3592"/>
                  <a:pt x="20042" y="3473"/>
                </a:cubicBezTo>
                <a:cubicBezTo>
                  <a:pt x="20103" y="3393"/>
                  <a:pt x="20175" y="3309"/>
                  <a:pt x="20241" y="3225"/>
                </a:cubicBezTo>
                <a:cubicBezTo>
                  <a:pt x="20286" y="3167"/>
                  <a:pt x="20342" y="3108"/>
                  <a:pt x="20389" y="3051"/>
                </a:cubicBezTo>
                <a:cubicBezTo>
                  <a:pt x="20416" y="3018"/>
                  <a:pt x="20434" y="2985"/>
                  <a:pt x="20464" y="2952"/>
                </a:cubicBezTo>
                <a:cubicBezTo>
                  <a:pt x="20480" y="3069"/>
                  <a:pt x="20489" y="3205"/>
                  <a:pt x="20513" y="3324"/>
                </a:cubicBezTo>
                <a:cubicBezTo>
                  <a:pt x="20531" y="3417"/>
                  <a:pt x="20569" y="3505"/>
                  <a:pt x="20588" y="3597"/>
                </a:cubicBezTo>
                <a:cubicBezTo>
                  <a:pt x="20618" y="3745"/>
                  <a:pt x="20640" y="3897"/>
                  <a:pt x="20662" y="4043"/>
                </a:cubicBezTo>
                <a:cubicBezTo>
                  <a:pt x="20680" y="4164"/>
                  <a:pt x="20707" y="4270"/>
                  <a:pt x="20737" y="4390"/>
                </a:cubicBezTo>
                <a:cubicBezTo>
                  <a:pt x="20771" y="4527"/>
                  <a:pt x="20802" y="4672"/>
                  <a:pt x="20811" y="4812"/>
                </a:cubicBezTo>
                <a:cubicBezTo>
                  <a:pt x="20828" y="5069"/>
                  <a:pt x="20843" y="5328"/>
                  <a:pt x="20886" y="5581"/>
                </a:cubicBezTo>
                <a:cubicBezTo>
                  <a:pt x="20917" y="5766"/>
                  <a:pt x="20963" y="5942"/>
                  <a:pt x="20985" y="6127"/>
                </a:cubicBezTo>
                <a:cubicBezTo>
                  <a:pt x="21008" y="6325"/>
                  <a:pt x="21015" y="6523"/>
                  <a:pt x="21034" y="6722"/>
                </a:cubicBezTo>
                <a:cubicBezTo>
                  <a:pt x="21051" y="6904"/>
                  <a:pt x="21088" y="7084"/>
                  <a:pt x="21109" y="7268"/>
                </a:cubicBezTo>
                <a:cubicBezTo>
                  <a:pt x="21125" y="7411"/>
                  <a:pt x="21158" y="7547"/>
                  <a:pt x="21183" y="7689"/>
                </a:cubicBezTo>
                <a:cubicBezTo>
                  <a:pt x="21203" y="7804"/>
                  <a:pt x="21198" y="7920"/>
                  <a:pt x="21208" y="8037"/>
                </a:cubicBezTo>
                <a:cubicBezTo>
                  <a:pt x="21220" y="8183"/>
                  <a:pt x="21249" y="8334"/>
                  <a:pt x="21258" y="8483"/>
                </a:cubicBezTo>
                <a:cubicBezTo>
                  <a:pt x="21258" y="8533"/>
                  <a:pt x="21258" y="8549"/>
                  <a:pt x="21258" y="8582"/>
                </a:cubicBezTo>
                <a:cubicBezTo>
                  <a:pt x="21197" y="8586"/>
                  <a:pt x="21113" y="8612"/>
                  <a:pt x="21034" y="8607"/>
                </a:cubicBezTo>
                <a:cubicBezTo>
                  <a:pt x="20949" y="8602"/>
                  <a:pt x="20855" y="8583"/>
                  <a:pt x="20762" y="8582"/>
                </a:cubicBezTo>
                <a:cubicBezTo>
                  <a:pt x="20271" y="8575"/>
                  <a:pt x="19782" y="8556"/>
                  <a:pt x="19298" y="8533"/>
                </a:cubicBezTo>
                <a:cubicBezTo>
                  <a:pt x="19138" y="8525"/>
                  <a:pt x="18985" y="8524"/>
                  <a:pt x="18827" y="8508"/>
                </a:cubicBezTo>
                <a:cubicBezTo>
                  <a:pt x="18671" y="8493"/>
                  <a:pt x="18513" y="8471"/>
                  <a:pt x="18355" y="8458"/>
                </a:cubicBezTo>
                <a:cubicBezTo>
                  <a:pt x="18157" y="8442"/>
                  <a:pt x="17958" y="8447"/>
                  <a:pt x="17760" y="8434"/>
                </a:cubicBezTo>
                <a:cubicBezTo>
                  <a:pt x="17603" y="8423"/>
                  <a:pt x="17446" y="8421"/>
                  <a:pt x="17289" y="8409"/>
                </a:cubicBezTo>
                <a:cubicBezTo>
                  <a:pt x="17155" y="8399"/>
                  <a:pt x="17027" y="8386"/>
                  <a:pt x="16892" y="8384"/>
                </a:cubicBezTo>
                <a:cubicBezTo>
                  <a:pt x="16561" y="8379"/>
                  <a:pt x="16221" y="8396"/>
                  <a:pt x="15900" y="8409"/>
                </a:cubicBezTo>
                <a:cubicBezTo>
                  <a:pt x="15849" y="8411"/>
                  <a:pt x="15538" y="8438"/>
                  <a:pt x="15528" y="8384"/>
                </a:cubicBezTo>
                <a:cubicBezTo>
                  <a:pt x="15521" y="8347"/>
                  <a:pt x="15632" y="8264"/>
                  <a:pt x="15652" y="8235"/>
                </a:cubicBezTo>
                <a:cubicBezTo>
                  <a:pt x="15668" y="8227"/>
                  <a:pt x="15685" y="8218"/>
                  <a:pt x="15701" y="82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Find the exact value of sin </a:t>
            </a:r>
            <a:r>
              <a:rPr b="0" lang="en-US" sz="4000" spc="-1" strike="noStrike" baseline="30000">
                <a:solidFill>
                  <a:srgbClr val="ffff99"/>
                </a:solidFill>
                <a:latin typeface="Tahoma"/>
              </a:rPr>
              <a:t>u</a:t>
            </a: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/</a:t>
            </a:r>
            <a:r>
              <a:rPr b="0" lang="en-US" sz="4000" spc="-1" strike="noStrike" baseline="-25000">
                <a:solidFill>
                  <a:srgbClr val="ffff99"/>
                </a:solidFill>
                <a:latin typeface="Tahoma"/>
              </a:rPr>
              <a:t>2 </a:t>
            </a: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given that Cos u = </a:t>
            </a:r>
            <a:r>
              <a:rPr b="0" lang="en-US" sz="4000" spc="-1" strike="noStrike" baseline="30000">
                <a:solidFill>
                  <a:srgbClr val="ffff99"/>
                </a:solidFill>
                <a:latin typeface="Tahoma"/>
              </a:rPr>
              <a:t>7</a:t>
            </a: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/</a:t>
            </a:r>
            <a:r>
              <a:rPr b="0" lang="en-US" sz="4000" spc="-1" strike="noStrike" baseline="-25000">
                <a:solidFill>
                  <a:srgbClr val="ffff99"/>
                </a:solidFill>
                <a:latin typeface="Tahoma"/>
              </a:rPr>
              <a:t>25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9:43:20Z</dcterms:created>
  <dc:creator>jnewman</dc:creator>
  <dc:description/>
  <dc:language>en-US</dc:language>
  <cp:lastModifiedBy>abeason</cp:lastModifiedBy>
  <dcterms:modified xsi:type="dcterms:W3CDTF">2009-12-14T15:36:38Z</dcterms:modified>
  <cp:revision>22</cp:revision>
  <dc:subject/>
  <dc:title>Lesson 5.5 part two</dc:title>
</cp:coreProperties>
</file>